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862B225-CDBC-4B4D-875D-1AAC2094C2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8"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9"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1473EFA-D5DA-4849-B4BC-48D8683A68A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3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3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0A822ABF-4DBF-4B40-8374-DFBF752DFC4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BEA636F4-2757-490F-AA27-514DB9F8FFF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CB7B23BA-9F41-4484-999B-B4DA42367C4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4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1CA1726B-7E83-4015-A519-5D1389A44E1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4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8B4915D0-1499-43F3-966A-4509A07B06C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4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2CFA0660-3514-44C3-9F6F-71C1F9964F1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5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6940EB1A-B956-4197-A29E-B1A10203759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5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5"/>
          </p:nvPr>
        </p:nvSpPr>
        <p:spPr/>
        <p:txBody>
          <a:bodyPr/>
          <a:p>
            <a:fld id="{57DC6E16-700D-4912-A5EB-37D4B152E48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6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5"/>
          </p:nvPr>
        </p:nvSpPr>
        <p:spPr/>
        <p:txBody>
          <a:bodyPr/>
          <a:p>
            <a:fld id="{C8B07AF7-B1C3-4F5A-97C9-5F9431F8323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D9F51F-0E62-428E-8852-10EFC388F4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8E2244A-DDD8-4ADE-8B8C-7B3A425EC6D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7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214DBA-C6CA-4DC5-8BEC-1F243E14146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7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2A9F69-F2E2-453B-A0A7-6AB70D7EDAC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7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7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0C3758-1398-4CE3-BCAB-3AA5EEC5912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E08EEE-C094-455C-8221-495C973D96D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52AA35-AD59-4E0A-BD38-3DD1F39AF8C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8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C5CA60-7669-4A80-B751-3EC39B4AB68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8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1520F1-EAAD-48B8-A335-E3B7F8B0CC6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8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6D0B28-B2AC-4E13-922E-88DF9883356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9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D289D5-2B7D-4411-B272-8296D137508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9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6CD34D-FE7C-4DC5-9495-6E09EC255E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6"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7"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1"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8C060A5-0B30-4CE6-BEC5-984D02AC0B7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0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B8C2DF-1E32-4885-A7D7-04F7AEFB309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41C4C8F6-982A-47F4-AFAC-BAB5AAED66C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1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8EC336FD-C021-4AA0-8991-8B37D243658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1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18EED9D4-C954-4495-90FB-C8689B0007E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1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1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0DC77D89-FD7E-4BC6-A8A0-DDA41446025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D96CF0D5-310C-4206-AACC-87CF03E3462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2EC28B33-95AB-42F2-A314-9B5113EA2AE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2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8A768243-B238-42FB-B39B-31870E337D0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2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26A04B44-B798-477D-8A9B-B5EC35470BC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3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EDAB83F2-C674-4BBC-B93C-232C5660F9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6F10935-99D8-4B50-A2EB-8ED1C4E5642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3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3107E58F-FB20-4907-AD59-E8E962917F4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3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4AD3F012-32E1-4F24-9183-CDD4858D923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4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34C2889B-D35E-4B9B-95B9-712C5DC6202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72B2AC25-328D-4607-B987-55A806041FE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5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B761FFC-9CA7-4162-AA16-CDC0949B433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5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DF207EF-FED3-4A61-B048-8959B93F294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5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5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9D5B790-4BB4-4293-8F3E-E2F6DE9D419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6081129-276E-4430-AE77-058CA671E65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AB52443-3835-47FC-8F1F-F60ED1AEEA8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6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76242EF-81E4-47FF-845E-D9986F88FA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D024DDD-B6B0-4C5B-BBC6-093C58DC8FB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6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BD2C40C-F00B-4A6B-B659-46DFD3E7F7A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063D50F-C1F1-4C0D-9821-3D310F36024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05660D4-2CF4-4F36-A0E0-86380FA066F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4620717-A5F7-4CDC-8AF6-199AD6A3C72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8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18B85A14-F20C-4522-99F9-96E50FB856A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269731BE-9788-4E8F-9659-A5752CE4F50B}"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96"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CF0375D2-9B65-48D3-B558-06AAD9A8A7E7}"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98"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5AE992A2-33E4-460A-8C4A-62F768B4928E}"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0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01"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2375E6D0-1FA5-4C95-B4B7-9DF1011B12FC}"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DC08BEF7-4011-4872-B3FA-F3DAE1A30C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9"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500EBCE-1FA6-4911-B644-5BCAB9C3DCE9}"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4B3D3659-AE2A-4843-9EA9-79693398DB86}"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0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06"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07"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E91925C7-0441-4E3D-84E7-7BA41276D9D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09"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1"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54FF4E75-B1E2-41C8-B7CC-49FFE7183E7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1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5"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8C4305DC-62A4-44F8-B224-D50F1452AA8E}"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17"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8"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213B9D0D-765E-488A-9F90-6835B92B4FA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20"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2"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3"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BB913ECE-10A3-4BE0-BB30-55485394327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25"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6"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7"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8"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9"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30"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9FFAC3B5-BCFA-4CF6-8FBD-DC7D10089BCB}"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95A2AB1-3314-4DC4-842E-A8E0FD23263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36"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25EC7B2-A44D-46AF-9185-17B90EC94AAA}"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38"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FBF814C-F59F-4026-ABA1-458563A804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D4088EB-78A6-4D20-8331-D936953EF42E}"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4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41"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E0B9DEA-5668-43E4-8FEC-F90FC1300061}"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0D275D8-CC56-4F18-B110-CB8D3D43E3F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1D3548F-EBBC-4199-9B9E-B61245BC374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4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46"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47"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2FCAE09-529A-4792-B1E9-3AE8285E4826}"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49"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1"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35F2779-989B-4A05-808C-F5E5BD0DEA1F}"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5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5"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518565C-9F27-432B-B9E6-208E73F8A969}"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57"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8"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3258289-6180-43E2-B59E-FF98FD02D2E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60"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2"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3"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C8A911E0-0785-492F-9292-DB43B16823C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65"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6"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7"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8"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9"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70"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35367EE-C4BC-4B65-91C4-888A0C4A6276}"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7"/>
          </p:nvPr>
        </p:nvSpPr>
        <p:spPr/>
        <p:txBody>
          <a:bodyPr/>
          <a:p>
            <a:fld id="{AEE7E5E1-A424-4581-9F44-9E86D4FDEC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9997222-C553-4AA9-B929-8358839C6D39}"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7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B391CDEE-7CFD-4AD2-B9A3-982D3FD4CCAA}"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8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89B5E5A3-C3AC-4A48-8C41-05A818A24299}"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8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B97268F8-9FA4-46B1-8EE9-1DEECC61331E}"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88AFA0F6-04D1-4E16-BC0A-2993E8D202DF}"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C15CE448-9277-4BF1-8063-3FE1A870FCB2}"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8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9B84927B-ECA7-4F48-A711-252D5915DEBF}"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9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CFA81E06-F9EC-4F6E-AE5A-E159754FF8D7}"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9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86E495C2-BCD1-467C-8710-0521F4C96EBB}"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9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2DE0AE1B-0A95-4520-9AD2-4F29B237084E}"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0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7"/>
          </p:nvPr>
        </p:nvSpPr>
        <p:spPr/>
        <p:txBody>
          <a:bodyPr/>
          <a:p>
            <a:fld id="{9381FC35-54A9-494D-BF1A-622C568B3B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52CC215-3E99-4075-8306-EB8B0DB49EE5}"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0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7"/>
          </p:nvPr>
        </p:nvSpPr>
        <p:spPr/>
        <p:txBody>
          <a:bodyPr/>
          <a:p>
            <a:fld id="{EF3CA093-DC38-487B-A140-C3FDC24B2D2B}"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4CC7996-9979-4565-84F4-7D91AA53A654}"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1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59C0E59-93BD-4D55-B795-5118CB8262A1}"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2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000314D-0C81-4B16-BC27-7BE46A5AF73C}"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2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C3714F1-E3F0-43DC-834C-4721B09115A8}"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6215C4-B5CC-4F11-98E9-3EA4F185FA6E}"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73F1AA1-F855-4CBD-A3DC-BAB7CEE65633}"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2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7B534A4-661C-44CC-AA46-35D6025ADB35}"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3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7D3C3C-D787-4E6C-9C79-BEDB0B7C421A}"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3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2F70E7-729F-4C5E-8248-7FFD8F9932F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22CEEA8-47A8-4D78-A045-E83E597A001E}"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3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12E0C2D-BB59-4EF2-8D5A-D97977C2B8D2}"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4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0BE8F1F-6603-4137-B39A-1ED09F654590}"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4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2E4CDBE-B293-491E-9207-6E2E9EDA8562}"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1"/>
          </p:nvPr>
        </p:nvSpPr>
        <p:spPr/>
        <p:txBody>
          <a:bodyPr/>
          <a:p>
            <a:fld id="{23CB504E-7BDE-435C-8E15-C94E09B384D6}"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63E14466-BFA3-48E4-8723-DF2CBEEEC7CD}"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32C7EECE-3483-4ADE-A760-C8BF1294CF5F}"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6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FE324E25-13ED-4988-9399-038B84146E29}"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79495D63-77DE-4C71-ACE3-F9431A6C599A}"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D3CAB0F2-0A43-409A-A0DC-CF5E03E98C2B}"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3E268025-365B-46BA-987F-8CA229EF05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0D47627-B6C2-4FA3-9694-41E6C55AB5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BDF9C39-4FAD-414A-9FC9-22BAF9070E8E}"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7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E89F7CC8-13F2-4253-BE71-5268E8E2E5D3}"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7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84AC78F4-8D91-43EB-88D6-35805B41B868}"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42FEEDB8-E73C-479A-B213-A25FC1005BA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1"/>
          </p:nvPr>
        </p:nvSpPr>
        <p:spPr/>
        <p:txBody>
          <a:bodyPr/>
          <a:p>
            <a:fld id="{C3C608EA-B2B9-45A3-9988-E3DF0665335E}"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1"/>
          </p:nvPr>
        </p:nvSpPr>
        <p:spPr/>
        <p:txBody>
          <a:bodyPr/>
          <a:p>
            <a:fld id="{1B99480F-7DD5-4B17-9A98-EB845080E507}"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6EECAECE-DBE6-49B8-8F43-36F3A59796F4}"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50B3307-6547-4D6D-B475-B738D3E422BE}"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F319298-C958-4A03-9B6E-EDCCF28620E4}"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0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A4A53351-0BAC-42AD-88CA-991515EF4911}"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EC408A43-CBB9-4FC1-803F-9FB034209D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6"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E2586B2-166C-4517-95D5-C08B472AC999}"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C8E3D03-FA04-42E1-8CBD-DD246E0A8F4E}"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292A2EA-EEC8-44D4-8705-D36D2496FD84}"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1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DC668A8-8A1D-42D1-B16B-3B316CB255C3}"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1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C377457-08E7-4C77-BDF4-3E24FDA4BC39}"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2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83D0075-074F-412A-A335-00C2151ADE14}"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2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9776639B-551A-4C7A-88A1-B7264812299C}"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2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A51BB7E9-AE6D-412A-9A84-3EE8FD0CB3BF}"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ACEDADC2-0734-4EE8-8A4D-1DFBA3D23691}"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4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7A66FBF4-0AAF-4A71-985F-403E4C0E2465}"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4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EC215E4A-3BCD-40E5-AC57-1A880A35D3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4E37E74-3544-45C3-82D1-8D4EFC216E55}"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4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4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0A45CE4C-A11E-46B6-A07D-71711F05C8FD}"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7FF5824A-C0CB-4C37-A8BD-5BAF82C4A6D8}"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E5410E17-6823-43E1-8A06-957F29AB09BE}"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5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AD7C813C-793C-427F-A46E-D094F090E155}"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5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17ED9D65-88E5-4B77-948A-1BB645794F04}"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5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C4BE5EDF-5C9A-475C-9543-39053960CAB6}"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6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1126B345-A2C1-45BE-8DC1-A6BF9ED99379}"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6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30F57646-C31C-4E02-8F82-0C841622DF0C}"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7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5AB493B0-47F2-4902-87AF-E5C80D358F4B}"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322EF2DE-B898-4017-9E78-7464A7F6BB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4"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8332335-B6AD-4753-9CF1-15F42317A4B9}"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8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79F8EAD6-544E-4462-ABFD-B8F6B6AA6384}"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8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7F3700AA-BD99-4A7E-9AF7-0CBDEA65EE57}"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8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8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64E3F341-6FEA-425D-866D-D51BB00C39FB}"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6FCB36ED-C78F-4BB1-B443-ADB8AED2B00D}"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E2AFA0A5-3752-4025-9060-5AA0B4F50691}"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9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68E34AAF-2D77-495A-91D8-0FE61888CF3E}"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9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6309F210-D325-4992-AEB6-5A839980C305}"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9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D86F894-2CF2-458A-B4E2-7B7E0B9F795C}"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0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ADA6DC2D-A985-4E60-A7C7-F9B163D505E6}"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0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DA8A0758-C8F1-4E70-90C0-9009D3F30D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6"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8"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38AEC40-3ADB-4415-8986-289249A18C5C}"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1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00B4F8F2-A7C5-4BA6-8116-3D141E5C9E26}"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39"/>
          </p:nvPr>
        </p:nvSpPr>
        <p:spPr/>
        <p:txBody>
          <a:bodyPr/>
          <a:p>
            <a:fld id="{4184DD9F-5583-4C07-8545-78F3ED0AAF4B}"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2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58425D66-733F-417B-9242-8584BAA33C75}"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2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5DCA8C9A-A93B-44B5-8FCD-14D17281C0E2}"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2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2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2123CC4D-6FDE-4613-AA2D-5E1C835C4ABF}"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BFFAE41D-CE24-4035-B5E5-EFBE742B2BD7}"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4D0D3E6E-64BC-4C18-9689-A371052CB60E}"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3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11500458-2BCD-4AEB-99C1-9F8B76BC457E}"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3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954AE604-2C45-4E0A-BFEF-2CCC2E57FC8D}"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4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649768F0-6BAA-4319-B8A9-70E934C9BD2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4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84CE83FF-2A7A-47B5-8E7D-9C73B506D9BA}"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4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39"/>
          </p:nvPr>
        </p:nvSpPr>
        <p:spPr/>
        <p:txBody>
          <a:bodyPr/>
          <a:p>
            <a:fld id="{61CAA2D4-5174-4581-9393-F34F414AFB19}"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5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39"/>
          </p:nvPr>
        </p:nvSpPr>
        <p:spPr/>
        <p:txBody>
          <a:bodyPr/>
          <a:p>
            <a:fld id="{F1EFBF7A-0010-49F6-8CCF-4C0FC781B1BC}"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E048C2A-0975-4A26-8227-73F1D381721D}"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6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5DDBEAC-71D8-4C76-BDEC-DE7543A947CD}"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6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3B932DF-EA8D-4B1E-9621-00FABA494822}"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6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6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1E3260B-8F56-4349-992C-E6F7E4597493}"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49B793E-0F35-410C-B58B-973453213339}"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0B60003-4156-4852-B786-11A9174F76AF}"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7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FBDCC48-54EF-4B43-81BA-ADDAE36722D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7"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5"/>
          </p:nvPr>
        </p:nvSpPr>
        <p:spPr/>
        <p:txBody>
          <a:bodyPr/>
          <a:p>
            <a:r>
              <a:t>Footer</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7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AF0BC7D-82B7-473C-A27E-1B5273ADC5C7}"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8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2AA9545-EEC9-4BB2-953A-77D105F96F1D}"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8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7F33D6C-4C6F-47D2-9D39-0695F869532A}"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8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E9D8831-6BDE-467C-976E-A39CCC7302FD}"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9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6DC8ACC-A229-479D-A61A-1F263B56CE9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9"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9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9"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8ED7371-29F4-4552-B7A7-1F1FD9C0B7C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9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0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2"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0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6"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08"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9"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1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4"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16"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7"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8"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9"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20"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21"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26"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28"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16A1FB1-A6A3-4250-ABCE-4C7714AFCEC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3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31"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3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36"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37"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39"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1"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4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5"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47"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8"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50"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2"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3"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55"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6"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7"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8"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9"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60"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6"/>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5D458509-7C45-48F7-AD7C-0001596778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24E09E9-7AAE-46FB-AD5A-AD6185B2170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6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40BCDC4-BD73-4652-8259-387905DD4AC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7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9B4D2BF-B0B9-4A02-A44F-530864FA7C3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7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9DD7EF3-E600-43D4-8977-D049407FBB7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EEF364A-6D8B-458A-87D5-4677023E779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C88E3A5-638B-435E-B7C5-243FAA51F01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7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D0BD594-4C40-43C9-8852-82A3DAB0A11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8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D46CC04-C32B-4CEA-9F80-4BFBCB48EC3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8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C63280B-1E05-475E-BCA3-572FC516B54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8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1B14691-0A81-49BE-9830-9D6D9D481FB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9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42AF544C-5884-464C-96AB-D4CC026F2C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E4B644A-F1EE-48DB-B7CC-5B2F432AA7F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9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0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0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0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E66F3998-4BFE-4B3E-97AC-93B41BD14FD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36CF697-E4B2-4605-94F8-014710F40F4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0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03E854C-84E8-4078-8DDB-359692D18B7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1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3942F17-09BA-4F30-A80F-51F21D34DE2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1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EB44CAF-81D7-4D33-8F4D-B718F4CB2D0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0623993-6FF1-4EC2-882A-4F73077D7A3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B929402-D656-436C-9421-939A58AA57E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1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E4B874C-CCBF-4BD4-A396-0BE2A4E57C1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2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2162BD2-E765-4466-B4F0-3BF52E0258D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2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65265BB-6EE9-4EC6-A185-B672E095A8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6D78144-0CC4-4FDB-918F-FB2091D032B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2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C9BEEDC-6048-4CD0-9B0F-38513B9B50D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3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78BDD77-7D0C-4A4F-A608-29B20A54F41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3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4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4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4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755E107-D656-4DC1-BA1F-7C92CDA0088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2AE0443-2871-4FE8-BF08-3CD1BF8DBD2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122005B-198D-4F8C-8DAF-3AC839C792C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7236110-F70E-48DC-A456-141F853DB96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5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125E0BE-F15C-4F48-9E7F-0E16F5106BD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2F77A21-813B-4139-A08A-6B5894FD6F3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A701729-A2FB-4B73-93C6-540A915DD95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D29CF08-AAD4-412A-A561-1CFB68A65C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AFCBE85-982B-4D85-A620-1FCA8687751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6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FE9AB76-D04B-48DD-92C5-56A869449E2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6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F123C35-5234-41DC-A4FB-8E7B4C4BFB8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7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45DB490-40A8-4FD7-880C-6F6529D3BBF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7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8EE413C-8523-4D06-8C1B-53833F348F7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7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DA860AF-F603-43BD-B6E6-7383A47A79F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FF9023A-1235-4E55-B543-01B973A86EF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4945651-C569-44C6-A81A-AFECEB97A21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A56AEA7-904E-45EE-91E2-11B66F55DBA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9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4E4D423-8ADE-4D2A-9A38-F2E3482185A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7E80E3A-EFE7-4EFB-BE79-E8D94344D2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1517FBA-3FE9-4757-B204-23FE9787FCF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DECDC81-0449-464C-8B63-55FD436CF71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B1C5486-9F2D-4B7D-8FC1-44FD7E95EF0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0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B558EA6-BA2C-4985-8C85-C472336D639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0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E14C566-602C-4C33-8E14-836FA63908E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0A579F0-7CE0-4EBB-BB12-E2247055A3C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8CC66F6-9838-4142-949B-1F0348B0202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E455A3F-8BB2-45E6-ACAA-1DBF0F3D757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5"/>
          </p:nvPr>
        </p:nvSpPr>
        <p:spPr/>
        <p:txBody>
          <a:bodyPr/>
          <a:p>
            <a:fld id="{96F01028-6EBB-4493-A6B1-B55970EEA44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3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8E6D7EC9-AF5E-435F-AADC-BA01EA23CCE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3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6B2C4758-61E3-4C40-AB72-19E100FCDE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1"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00808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2" name="PlaceHolder 3"/>
          <p:cNvSpPr>
            <a:spLocks noGrp="1"/>
          </p:cNvSpPr>
          <p:nvPr>
            <p:ph type="sldNum" idx="1"/>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1412A4-5132-482B-A3F5-884F093AE676}"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3"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sp>
        <p:nvSpPr>
          <p:cNvPr id="4" name="PlaceHolder 4"/>
          <p:cNvSpPr>
            <a:spLocks noGrp="1"/>
          </p:cNvSpPr>
          <p:nvPr>
            <p:ph type="ftr" idx="2"/>
          </p:nvPr>
        </p:nvSpPr>
        <p:spPr>
          <a:xfrm>
            <a:off x="2484360" y="620640"/>
            <a:ext cx="6135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pic>
        <p:nvPicPr>
          <p:cNvPr id="5" name="Picture 10" descr="SeaDatacloud2017logo_low"/>
          <p:cNvPicPr/>
          <p:nvPr/>
        </p:nvPicPr>
        <p:blipFill>
          <a:blip r:embed="rId3"/>
          <a:stretch/>
        </p:blipFill>
        <p:spPr>
          <a:xfrm>
            <a:off x="611280" y="455760"/>
            <a:ext cx="1368360" cy="59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368"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369" name="PlaceHolder 3"/>
          <p:cNvSpPr>
            <a:spLocks noGrp="1"/>
          </p:cNvSpPr>
          <p:nvPr>
            <p:ph type="ftr" idx="17"/>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370" name="PlaceHolder 4"/>
          <p:cNvSpPr>
            <a:spLocks noGrp="1"/>
          </p:cNvSpPr>
          <p:nvPr>
            <p:ph type="sldNum" idx="18"/>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7BBAA9-A702-4A0E-B4A5-5ECC8AC9154D}"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408" name="Picture 10" descr="SeaDatacloud2017logo_low"/>
          <p:cNvPicPr/>
          <p:nvPr/>
        </p:nvPicPr>
        <p:blipFill>
          <a:blip r:embed="rId3"/>
          <a:stretch/>
        </p:blipFill>
        <p:spPr>
          <a:xfrm>
            <a:off x="611280" y="455760"/>
            <a:ext cx="1368360" cy="596880"/>
          </a:xfrm>
          <a:prstGeom prst="rect">
            <a:avLst/>
          </a:prstGeom>
          <a:ln w="0">
            <a:noFill/>
          </a:ln>
        </p:spPr>
      </p:pic>
      <p:sp>
        <p:nvSpPr>
          <p:cNvPr id="40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10"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411" name="PlaceHolder 3"/>
          <p:cNvSpPr>
            <a:spLocks noGrp="1"/>
          </p:cNvSpPr>
          <p:nvPr>
            <p:ph type="sldNum" idx="19"/>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A53A19-D7B5-4639-A789-1E67E40F6679}"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412" name="PlaceHolder 4"/>
          <p:cNvSpPr>
            <a:spLocks noGrp="1"/>
          </p:cNvSpPr>
          <p:nvPr>
            <p:ph type="ftr" idx="20"/>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50"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451" name="PlaceHolder 3"/>
          <p:cNvSpPr>
            <a:spLocks noGrp="1"/>
          </p:cNvSpPr>
          <p:nvPr>
            <p:ph type="ftr" idx="21"/>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452" name="PlaceHolder 4"/>
          <p:cNvSpPr>
            <a:spLocks noGrp="1"/>
          </p:cNvSpPr>
          <p:nvPr>
            <p:ph type="sldNum" idx="22"/>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BC4314-5B59-4B61-BC36-E369B651C4B2}"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9"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490" name="Picture 10" descr="SeaDatacloud2017logo_low"/>
          <p:cNvPicPr/>
          <p:nvPr/>
        </p:nvPicPr>
        <p:blipFill>
          <a:blip r:embed="rId3"/>
          <a:stretch/>
        </p:blipFill>
        <p:spPr>
          <a:xfrm>
            <a:off x="611280" y="455760"/>
            <a:ext cx="1368360" cy="596880"/>
          </a:xfrm>
          <a:prstGeom prst="rect">
            <a:avLst/>
          </a:prstGeom>
          <a:ln w="0">
            <a:noFill/>
          </a:ln>
        </p:spPr>
      </p:pic>
      <p:sp>
        <p:nvSpPr>
          <p:cNvPr id="491"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92"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493" name="PlaceHolder 3"/>
          <p:cNvSpPr>
            <a:spLocks noGrp="1"/>
          </p:cNvSpPr>
          <p:nvPr>
            <p:ph type="sldNum" idx="23"/>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CA0E5A-331A-4B8D-97E1-0090293C5813}"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494" name="PlaceHolder 4"/>
          <p:cNvSpPr>
            <a:spLocks noGrp="1"/>
          </p:cNvSpPr>
          <p:nvPr>
            <p:ph type="ftr" idx="24"/>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532"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533" name="PlaceHolder 3"/>
          <p:cNvSpPr>
            <a:spLocks noGrp="1"/>
          </p:cNvSpPr>
          <p:nvPr>
            <p:ph type="ftr" idx="25"/>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534" name="PlaceHolder 4"/>
          <p:cNvSpPr>
            <a:spLocks noGrp="1"/>
          </p:cNvSpPr>
          <p:nvPr>
            <p:ph type="sldNum" idx="26"/>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4A8229-400C-4D9E-80E3-21B1E7FCE52F}"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1"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572" name="Picture 10" descr="SeaDatacloud2017logo_low"/>
          <p:cNvPicPr/>
          <p:nvPr/>
        </p:nvPicPr>
        <p:blipFill>
          <a:blip r:embed="rId3"/>
          <a:stretch/>
        </p:blipFill>
        <p:spPr>
          <a:xfrm>
            <a:off x="611280" y="455760"/>
            <a:ext cx="1368360" cy="596880"/>
          </a:xfrm>
          <a:prstGeom prst="rect">
            <a:avLst/>
          </a:prstGeom>
          <a:ln w="0">
            <a:noFill/>
          </a:ln>
        </p:spPr>
      </p:pic>
      <p:sp>
        <p:nvSpPr>
          <p:cNvPr id="57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574"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575" name="PlaceHolder 3"/>
          <p:cNvSpPr>
            <a:spLocks noGrp="1"/>
          </p:cNvSpPr>
          <p:nvPr>
            <p:ph type="sldNum" idx="27"/>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99D0DC-6782-499D-BB39-4EBF51874CD1}"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576" name="PlaceHolder 4"/>
          <p:cNvSpPr>
            <a:spLocks noGrp="1"/>
          </p:cNvSpPr>
          <p:nvPr>
            <p:ph type="ftr" idx="28"/>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614"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615" name="PlaceHolder 3"/>
          <p:cNvSpPr>
            <a:spLocks noGrp="1"/>
          </p:cNvSpPr>
          <p:nvPr>
            <p:ph type="ftr" idx="29"/>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616" name="PlaceHolder 4"/>
          <p:cNvSpPr>
            <a:spLocks noGrp="1"/>
          </p:cNvSpPr>
          <p:nvPr>
            <p:ph type="sldNum" idx="30"/>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73B615-A05C-4960-8CF5-F4BB7A849643}"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3"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654" name="Picture 10" descr="SeaDatacloud2017logo_low"/>
          <p:cNvPicPr/>
          <p:nvPr/>
        </p:nvPicPr>
        <p:blipFill>
          <a:blip r:embed="rId3"/>
          <a:stretch/>
        </p:blipFill>
        <p:spPr>
          <a:xfrm>
            <a:off x="611280" y="455760"/>
            <a:ext cx="1368360" cy="596880"/>
          </a:xfrm>
          <a:prstGeom prst="rect">
            <a:avLst/>
          </a:prstGeom>
          <a:ln w="0">
            <a:noFill/>
          </a:ln>
        </p:spPr>
      </p:pic>
      <p:sp>
        <p:nvSpPr>
          <p:cNvPr id="655"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656"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657" name="PlaceHolder 3"/>
          <p:cNvSpPr>
            <a:spLocks noGrp="1"/>
          </p:cNvSpPr>
          <p:nvPr>
            <p:ph type="sldNum" idx="31"/>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013990-6077-4ABD-9749-B709084C986F}"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658" name="PlaceHolder 4"/>
          <p:cNvSpPr>
            <a:spLocks noGrp="1"/>
          </p:cNvSpPr>
          <p:nvPr>
            <p:ph type="ftr" idx="32"/>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696"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697" name="PlaceHolder 3"/>
          <p:cNvSpPr>
            <a:spLocks noGrp="1"/>
          </p:cNvSpPr>
          <p:nvPr>
            <p:ph type="ftr" idx="33"/>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698" name="PlaceHolder 4"/>
          <p:cNvSpPr>
            <a:spLocks noGrp="1"/>
          </p:cNvSpPr>
          <p:nvPr>
            <p:ph type="sldNum" idx="34"/>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A69FB0-1DD7-4735-940D-7BF5C727C04C}"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5"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736" name="Picture 10" descr="SeaDatacloud2017logo_low"/>
          <p:cNvPicPr/>
          <p:nvPr/>
        </p:nvPicPr>
        <p:blipFill>
          <a:blip r:embed="rId3"/>
          <a:stretch/>
        </p:blipFill>
        <p:spPr>
          <a:xfrm>
            <a:off x="611280" y="455760"/>
            <a:ext cx="1368360" cy="596880"/>
          </a:xfrm>
          <a:prstGeom prst="rect">
            <a:avLst/>
          </a:prstGeom>
          <a:ln w="0">
            <a:noFill/>
          </a:ln>
        </p:spPr>
      </p:pic>
      <p:sp>
        <p:nvSpPr>
          <p:cNvPr id="73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738"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739" name="PlaceHolder 3"/>
          <p:cNvSpPr>
            <a:spLocks noGrp="1"/>
          </p:cNvSpPr>
          <p:nvPr>
            <p:ph type="sldNum" idx="35"/>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D44813-2D70-4777-8BC2-C603AA1BF903}"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740" name="PlaceHolder 4"/>
          <p:cNvSpPr>
            <a:spLocks noGrp="1"/>
          </p:cNvSpPr>
          <p:nvPr>
            <p:ph type="ftr" idx="36"/>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3"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44" name="PlaceHolder 3"/>
          <p:cNvSpPr>
            <a:spLocks noGrp="1"/>
          </p:cNvSpPr>
          <p:nvPr>
            <p:ph type="ftr" idx="3"/>
          </p:nvPr>
        </p:nvSpPr>
        <p:spPr>
          <a:xfrm>
            <a:off x="2484360" y="620640"/>
            <a:ext cx="6135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sp>
        <p:nvSpPr>
          <p:cNvPr id="45" name="PlaceHolder 4"/>
          <p:cNvSpPr>
            <a:spLocks noGrp="1"/>
          </p:cNvSpPr>
          <p:nvPr>
            <p:ph type="sldNum" idx="4"/>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EE4625-12DF-43EC-BAF8-5187277345D8}"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778"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779" name="PlaceHolder 3"/>
          <p:cNvSpPr>
            <a:spLocks noGrp="1"/>
          </p:cNvSpPr>
          <p:nvPr>
            <p:ph type="ftr" idx="37"/>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780" name="PlaceHolder 4"/>
          <p:cNvSpPr>
            <a:spLocks noGrp="1"/>
          </p:cNvSpPr>
          <p:nvPr>
            <p:ph type="sldNum" idx="38"/>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DF289A-76CC-45CE-975A-55C49D0F2260}"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7"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818" name="Picture 10" descr="SeaDatacloud2017logo_low"/>
          <p:cNvPicPr/>
          <p:nvPr/>
        </p:nvPicPr>
        <p:blipFill>
          <a:blip r:embed="rId3"/>
          <a:stretch/>
        </p:blipFill>
        <p:spPr>
          <a:xfrm>
            <a:off x="611280" y="455760"/>
            <a:ext cx="1368360" cy="596880"/>
          </a:xfrm>
          <a:prstGeom prst="rect">
            <a:avLst/>
          </a:prstGeom>
          <a:ln w="0">
            <a:noFill/>
          </a:ln>
        </p:spPr>
      </p:pic>
      <p:sp>
        <p:nvSpPr>
          <p:cNvPr id="81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820"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821" name="PlaceHolder 3"/>
          <p:cNvSpPr>
            <a:spLocks noGrp="1"/>
          </p:cNvSpPr>
          <p:nvPr>
            <p:ph type="sldNum" idx="39"/>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0F524C-70E6-4E96-A679-E7C6B9332C37}"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822" name="PlaceHolder 4"/>
          <p:cNvSpPr>
            <a:spLocks noGrp="1"/>
          </p:cNvSpPr>
          <p:nvPr>
            <p:ph type="ftr" idx="40"/>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860"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861" name="PlaceHolder 3"/>
          <p:cNvSpPr>
            <a:spLocks noGrp="1"/>
          </p:cNvSpPr>
          <p:nvPr>
            <p:ph type="ftr" idx="41"/>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862" name="PlaceHolder 4"/>
          <p:cNvSpPr>
            <a:spLocks noGrp="1"/>
          </p:cNvSpPr>
          <p:nvPr>
            <p:ph type="sldNum" idx="42"/>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9BBA69-0D4A-4D50-B5CD-0CC7E2E3EA20}"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Text Box 7"/>
          <p:cNvSpPr/>
          <p:nvPr/>
        </p:nvSpPr>
        <p:spPr>
          <a:xfrm>
            <a:off x="4684680" y="6021360"/>
            <a:ext cx="3919680" cy="731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sp>
        <p:nvSpPr>
          <p:cNvPr id="8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84"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85" name="PlaceHolder 3"/>
          <p:cNvSpPr>
            <a:spLocks noGrp="1"/>
          </p:cNvSpPr>
          <p:nvPr>
            <p:ph type="ftr" idx="5"/>
          </p:nvPr>
        </p:nvSpPr>
        <p:spPr>
          <a:xfrm>
            <a:off x="2268360" y="5808600"/>
            <a:ext cx="6351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123"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124" name="PlaceHolder 3"/>
          <p:cNvSpPr>
            <a:spLocks noGrp="1"/>
          </p:cNvSpPr>
          <p:nvPr>
            <p:ph type="ftr" idx="6"/>
          </p:nvPr>
        </p:nvSpPr>
        <p:spPr>
          <a:xfrm>
            <a:off x="2268360" y="5808600"/>
            <a:ext cx="6351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162" name="Picture 10" descr="SeaDatacloud2017logo_low"/>
          <p:cNvPicPr/>
          <p:nvPr/>
        </p:nvPicPr>
        <p:blipFill>
          <a:blip r:embed="rId3"/>
          <a:stretch/>
        </p:blipFill>
        <p:spPr>
          <a:xfrm>
            <a:off x="611280" y="455760"/>
            <a:ext cx="1368360" cy="596880"/>
          </a:xfrm>
          <a:prstGeom prst="rect">
            <a:avLst/>
          </a:prstGeom>
          <a:ln w="0">
            <a:noFill/>
          </a:ln>
        </p:spPr>
      </p:pic>
      <p:sp>
        <p:nvSpPr>
          <p:cNvPr id="16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164"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165" name="PlaceHolder 3"/>
          <p:cNvSpPr>
            <a:spLocks noGrp="1"/>
          </p:cNvSpPr>
          <p:nvPr>
            <p:ph type="sldNum" idx="7"/>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373EF8-F7BA-4EF9-91E1-3F02834ECB2D}"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166" name="PlaceHolder 4"/>
          <p:cNvSpPr>
            <a:spLocks noGrp="1"/>
          </p:cNvSpPr>
          <p:nvPr>
            <p:ph type="ftr" idx="8"/>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204"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205" name="PlaceHolder 3"/>
          <p:cNvSpPr>
            <a:spLocks noGrp="1"/>
          </p:cNvSpPr>
          <p:nvPr>
            <p:ph type="ftr" idx="9"/>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206" name="PlaceHolder 4"/>
          <p:cNvSpPr>
            <a:spLocks noGrp="1"/>
          </p:cNvSpPr>
          <p:nvPr>
            <p:ph type="sldNum" idx="10"/>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ACEE9D-F522-43A0-B626-D55322A0FE87}"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244" name="Picture 10" descr="SeaDatacloud2017logo_low"/>
          <p:cNvPicPr/>
          <p:nvPr/>
        </p:nvPicPr>
        <p:blipFill>
          <a:blip r:embed="rId3"/>
          <a:stretch/>
        </p:blipFill>
        <p:spPr>
          <a:xfrm>
            <a:off x="611280" y="455760"/>
            <a:ext cx="1368360" cy="596880"/>
          </a:xfrm>
          <a:prstGeom prst="rect">
            <a:avLst/>
          </a:prstGeom>
          <a:ln w="0">
            <a:noFill/>
          </a:ln>
        </p:spPr>
      </p:pic>
      <p:sp>
        <p:nvSpPr>
          <p:cNvPr id="245"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246"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247" name="PlaceHolder 3"/>
          <p:cNvSpPr>
            <a:spLocks noGrp="1"/>
          </p:cNvSpPr>
          <p:nvPr>
            <p:ph type="sldNum" idx="11"/>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1D9146-7743-4037-875C-B3674884A645}"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248" name="PlaceHolder 4"/>
          <p:cNvSpPr>
            <a:spLocks noGrp="1"/>
          </p:cNvSpPr>
          <p:nvPr>
            <p:ph type="ftr" idx="12"/>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286"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287" name="PlaceHolder 3"/>
          <p:cNvSpPr>
            <a:spLocks noGrp="1"/>
          </p:cNvSpPr>
          <p:nvPr>
            <p:ph type="ftr" idx="13"/>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288" name="PlaceHolder 4"/>
          <p:cNvSpPr>
            <a:spLocks noGrp="1"/>
          </p:cNvSpPr>
          <p:nvPr>
            <p:ph type="sldNum" idx="14"/>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584F5C-105E-445C-87A9-941645E40640}"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326" name="Picture 10" descr="SeaDatacloud2017logo_low"/>
          <p:cNvPicPr/>
          <p:nvPr/>
        </p:nvPicPr>
        <p:blipFill>
          <a:blip r:embed="rId3"/>
          <a:stretch/>
        </p:blipFill>
        <p:spPr>
          <a:xfrm>
            <a:off x="611280" y="455760"/>
            <a:ext cx="1368360" cy="596880"/>
          </a:xfrm>
          <a:prstGeom prst="rect">
            <a:avLst/>
          </a:prstGeom>
          <a:ln w="0">
            <a:noFill/>
          </a:ln>
        </p:spPr>
      </p:pic>
      <p:sp>
        <p:nvSpPr>
          <p:cNvPr id="32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328"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329" name="PlaceHolder 3"/>
          <p:cNvSpPr>
            <a:spLocks noGrp="1"/>
          </p:cNvSpPr>
          <p:nvPr>
            <p:ph type="sldNum" idx="15"/>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127EE7-B306-46E7-AB56-180E8767FC7C}"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330" name="PlaceHolder 4"/>
          <p:cNvSpPr>
            <a:spLocks noGrp="1"/>
          </p:cNvSpPr>
          <p:nvPr>
            <p:ph type="ftr" idx="16"/>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9" name="Rectangle 11"/>
          <p:cNvSpPr/>
          <p:nvPr/>
        </p:nvSpPr>
        <p:spPr>
          <a:xfrm>
            <a:off x="1403280" y="5808600"/>
            <a:ext cx="721692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
        <p:nvSpPr>
          <p:cNvPr id="900" name="PlaceHolder 1"/>
          <p:cNvSpPr>
            <a:spLocks noGrp="1"/>
          </p:cNvSpPr>
          <p:nvPr>
            <p:ph type="title"/>
          </p:nvPr>
        </p:nvSpPr>
        <p:spPr>
          <a:xfrm>
            <a:off x="2244240" y="3295440"/>
            <a:ext cx="4775400" cy="369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51a0"/>
                </a:solidFill>
                <a:latin typeface="Calibri Light"/>
              </a:rPr>
              <a:t>SeaDataNet AISBL</a:t>
            </a:r>
            <a:endParaRPr b="1" i="1" lang="en-US" sz="2400" spc="-1" strike="sngStrike" u="sng">
              <a:solidFill>
                <a:srgbClr val="ffffff"/>
              </a:solidFill>
              <a:uFillTx/>
              <a:latin typeface="Basic Sans"/>
            </a:endParaRPr>
          </a:p>
        </p:txBody>
      </p:sp>
      <p:sp>
        <p:nvSpPr>
          <p:cNvPr id="901" name="PlaceHolder 2"/>
          <p:cNvSpPr>
            <a:spLocks noGrp="1"/>
          </p:cNvSpPr>
          <p:nvPr>
            <p:ph type="subTitle"/>
          </p:nvPr>
        </p:nvSpPr>
        <p:spPr>
          <a:xfrm>
            <a:off x="2268000" y="4667040"/>
            <a:ext cx="4751640" cy="261720"/>
          </a:xfrm>
          <a:prstGeom prst="rect">
            <a:avLst/>
          </a:prstGeom>
          <a:noFill/>
          <a:ln w="0">
            <a:noFill/>
          </a:ln>
        </p:spPr>
        <p:txBody>
          <a:bodyPr lIns="0" rIns="0" tIns="0" bIns="0" anchor="t">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551a0"/>
                </a:solidFill>
                <a:latin typeface="Calibri Light"/>
              </a:rPr>
              <a:t>Serge Scory, Chair</a:t>
            </a:r>
            <a:endParaRPr b="1" i="1" lang="en-US" sz="1700" spc="-1" strike="sngStrike" u="sng">
              <a:solidFill>
                <a:srgbClr val="ffffff"/>
              </a:solidFill>
              <a:uFillTx/>
              <a:latin typeface="Basic Sans"/>
            </a:endParaRPr>
          </a:p>
        </p:txBody>
      </p:sp>
      <p:pic>
        <p:nvPicPr>
          <p:cNvPr id="902" name="Picture 1" descr=""/>
          <p:cNvPicPr/>
          <p:nvPr/>
        </p:nvPicPr>
        <p:blipFill>
          <a:blip r:embed="rId2"/>
          <a:stretch/>
        </p:blipFill>
        <p:spPr>
          <a:xfrm>
            <a:off x="4932360" y="3213000"/>
            <a:ext cx="2651040" cy="129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Status of the membership</a:t>
            </a:r>
            <a:endParaRPr b="1" i="1" lang="en-US" sz="4400" spc="-1" strike="sngStrike" u="sng">
              <a:solidFill>
                <a:srgbClr val="ffffff"/>
              </a:solidFill>
              <a:uFillTx/>
              <a:latin typeface="Basic Sans"/>
            </a:endParaRPr>
          </a:p>
        </p:txBody>
      </p:sp>
      <p:sp>
        <p:nvSpPr>
          <p:cNvPr id="938" name=""/>
          <p:cNvSpPr txBox="1"/>
          <p:nvPr/>
        </p:nvSpPr>
        <p:spPr>
          <a:xfrm>
            <a:off x="610920" y="1988640"/>
            <a:ext cx="453708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ne full member</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Five organizations applied</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38 Potential “direct” members (Status June 2016)</a:t>
            </a:r>
            <a:endParaRPr b="1" i="1" lang="en-US" sz="2400" spc="-1" strike="sngStrike" u="sng">
              <a:solidFill>
                <a:srgbClr val="ffffff"/>
              </a:solidFill>
              <a:uFillTx/>
              <a:latin typeface="Basic Sans"/>
            </a:endParaRPr>
          </a:p>
        </p:txBody>
      </p:sp>
      <p:sp>
        <p:nvSpPr>
          <p:cNvPr id="939"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46AA6-0977-41FD-A1F1-E9DDB3D06DE3}"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40"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
        <p:nvSpPr>
          <p:cNvPr id="941" name="TextBox 5"/>
          <p:cNvSpPr/>
          <p:nvPr/>
        </p:nvSpPr>
        <p:spPr>
          <a:xfrm>
            <a:off x="5219640" y="1484280"/>
            <a:ext cx="3816360" cy="5269320"/>
          </a:xfrm>
          <a:prstGeom prst="rect">
            <a:avLst/>
          </a:prstGeom>
          <a:solidFill>
            <a:srgbClr val="ffffff"/>
          </a:solid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To: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c/o Serge Scory (Chair)</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Royal Belgian Institute of Natural Sciences</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rue Vautier 29</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1000 Brussels (Belgium)</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r>
              <a:rPr b="1" i="1" lang="en-US" sz="1000" spc="-1" strike="sngStrike" u="sng">
                <a:solidFill>
                  <a:srgbClr val="ffffff"/>
                </a:solidFill>
                <a:uFillTx/>
                <a:latin typeface="Basic Sans"/>
              </a:rPr>
              <a:t>To the Board of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i="1" lang="en-US" sz="1000" spc="-1" strike="sngStrike" u="sng">
                <a:solidFill>
                  <a:srgbClr val="ffffff"/>
                </a:solidFill>
                <a:uFillTx/>
                <a:latin typeface="Basic Sans"/>
              </a:rPr>
              <a:t>In agreement with Art. 7 of the statutes of SeaDataNet aisbl, stating that the signatories of the "SeaDatanet Exploitation Agreement" will become a full member by explicitely notifying to the association their willingness to become a member; considering further that </a:t>
            </a:r>
            <a:r>
              <a:rPr b="1" i="1" lang="en-US" sz="1000" spc="-1" strike="sngStrike" u="sng">
                <a:solidFill>
                  <a:srgbClr val="ffffff"/>
                </a:solidFill>
                <a:uFillTx/>
                <a:latin typeface="Basic Sans"/>
              </a:rPr>
              <a:t>[your Institution name]</a:t>
            </a:r>
            <a:r>
              <a:rPr b="1" i="1" lang="en-US" sz="1000" spc="-1" strike="sngStrike" u="sng">
                <a:solidFill>
                  <a:srgbClr val="ffffff"/>
                </a:solidFill>
                <a:uFillTx/>
                <a:latin typeface="Basic Sans"/>
              </a:rPr>
              <a:t> signed this agreeement in due time, </a:t>
            </a:r>
            <a:r>
              <a:rPr b="1" i="1" lang="en-US" sz="1000" spc="-1" strike="sngStrike" u="sng">
                <a:solidFill>
                  <a:srgbClr val="ffffff"/>
                </a:solidFill>
                <a:uFillTx/>
                <a:latin typeface="Basic Sans"/>
              </a:rPr>
              <a:t>[your Institution name] </a:t>
            </a:r>
            <a:r>
              <a:rPr b="1" i="1" lang="en-US" sz="1000" spc="-1" strike="sngStrike" u="sng">
                <a:solidFill>
                  <a:srgbClr val="ffffff"/>
                </a:solidFill>
                <a:uFillTx/>
                <a:latin typeface="Basic Sans"/>
              </a:rPr>
              <a:t>herewith notifies SeaDataNet aisbl of its willingness to become a full member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i="1" lang="en-US" sz="1000" spc="-1" strike="sngStrike" u="sng">
                <a:solidFill>
                  <a:srgbClr val="ffffff"/>
                </a:solidFill>
                <a:uFillTx/>
                <a:latin typeface="Basic Sans"/>
              </a:rPr>
              <a:t>[your Institution name]</a:t>
            </a:r>
            <a:r>
              <a:rPr b="1" i="1" lang="en-US" sz="1000" spc="-1" strike="sngStrike" u="sng">
                <a:solidFill>
                  <a:srgbClr val="ffffff"/>
                </a:solidFill>
                <a:uFillTx/>
                <a:latin typeface="Basic Sans"/>
              </a:rPr>
              <a:t> acknowledges that its membership will only become effective once its financial contribution to the functioning of the association ("annual fee", currently equal to 250,-€) will be available on the bank account of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Furthermore </a:t>
            </a:r>
            <a:r>
              <a:rPr b="1" i="1" lang="en-US" sz="1000" spc="-1" strike="sngStrike" u="sng">
                <a:solidFill>
                  <a:srgbClr val="ffffff"/>
                </a:solidFill>
                <a:uFillTx/>
                <a:latin typeface="Basic Sans"/>
              </a:rPr>
              <a:t>[your Institution name]</a:t>
            </a:r>
            <a:r>
              <a:rPr b="1" i="1" lang="en-US" sz="1000" spc="-1" strike="sngStrike" u="sng">
                <a:solidFill>
                  <a:srgbClr val="ffffff"/>
                </a:solidFill>
                <a:uFillTx/>
                <a:latin typeface="Basic Sans"/>
              </a:rPr>
              <a:t> mandates</a:t>
            </a:r>
            <a:r>
              <a:rPr b="1" i="1" lang="en-US" sz="1000" spc="-1" strike="sngStrike" u="sng">
                <a:solidFill>
                  <a:srgbClr val="ffffff"/>
                </a:solidFill>
                <a:uFillTx/>
                <a:latin typeface="Basic Sans"/>
              </a:rPr>
              <a:t> Dr/Mrs/M. XXX (+full address)</a:t>
            </a:r>
            <a:r>
              <a:rPr b="1" i="1" lang="en-US" sz="1000" spc="-1" strike="sngStrike" u="sng">
                <a:solidFill>
                  <a:srgbClr val="ffffff"/>
                </a:solidFill>
                <a:uFillTx/>
                <a:latin typeface="Basic Sans"/>
              </a:rPr>
              <a:t> as its representative to the General Assembly of SeaDataNet aisbl and the follow-up of the activities of the association.</a:t>
            </a:r>
            <a:br>
              <a:rPr sz="1000"/>
            </a:b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Signatory name, title; date; stamp</a:t>
            </a:r>
            <a:endParaRPr b="1" i="1" lang="en-US" sz="1000" spc="-1" strike="sngStrike" u="sng">
              <a:solidFill>
                <a:srgbClr val="ffffff"/>
              </a:solidFill>
              <a:uFillTx/>
              <a:latin typeface="Basic Sans"/>
            </a:endParaRPr>
          </a:p>
        </p:txBody>
      </p:sp>
      <p:sp>
        <p:nvSpPr>
          <p:cNvPr id="942" name="TextBox 6"/>
          <p:cNvSpPr/>
          <p:nvPr/>
        </p:nvSpPr>
        <p:spPr>
          <a:xfrm>
            <a:off x="1835280" y="3882960"/>
            <a:ext cx="3241440" cy="11890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ffffff"/>
                </a:solidFill>
                <a:uFillTx/>
                <a:latin typeface="Calibri"/>
              </a:rPr>
              <a:t>We’ll send an email soon to the signatories of the exploitation agreement with a template of an application letter.</a:t>
            </a:r>
            <a:endParaRPr b="1" i="1" lang="en-US" sz="18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000000"/>
              </a:solidFill>
              <a:uFillTx/>
              <a:latin typeface="Basic Sans"/>
            </a:endParaRPr>
          </a:p>
        </p:txBody>
      </p:sp>
      <p:graphicFrame>
        <p:nvGraphicFramePr>
          <p:cNvPr id="944" name=""/>
          <p:cNvGraphicFramePr/>
          <p:nvPr/>
        </p:nvGraphicFramePr>
        <p:xfrm>
          <a:off x="611280" y="1989000"/>
          <a:ext cx="8064360" cy="4100760"/>
        </p:xfrm>
        <a:graphic>
          <a:graphicData uri="http://schemas.openxmlformats.org/drawingml/2006/table">
            <a:tbl>
              <a:tblPr/>
              <a:tblGrid>
                <a:gridCol w="2016000"/>
                <a:gridCol w="2016360"/>
                <a:gridCol w="2016000"/>
                <a:gridCol w="2016000"/>
              </a:tblGrid>
              <a:tr h="39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Belgiu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ULG</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Georg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TSU-DN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VLIZ</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German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BSH</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Bulgar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O_BA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AW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Croat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OF</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celan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R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Cypru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OC-UC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M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Denmark</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Aarhus_Universit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srael</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OLR</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CE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tal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OG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Eston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S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CNR</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Finlan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FM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ENE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France</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HO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NGV</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945"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9D76D-8506-4DE7-9C97-44C2462DE462}"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46"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000000"/>
              </a:solidFill>
              <a:uFillTx/>
              <a:latin typeface="Basic Sans"/>
            </a:endParaRPr>
          </a:p>
        </p:txBody>
      </p:sp>
      <p:graphicFrame>
        <p:nvGraphicFramePr>
          <p:cNvPr id="948" name=""/>
          <p:cNvGraphicFramePr/>
          <p:nvPr/>
        </p:nvGraphicFramePr>
        <p:xfrm>
          <a:off x="611280" y="1989000"/>
          <a:ext cx="8064360" cy="4100760"/>
        </p:xfrm>
        <a:graphic>
          <a:graphicData uri="http://schemas.openxmlformats.org/drawingml/2006/table">
            <a:tbl>
              <a:tblPr/>
              <a:tblGrid>
                <a:gridCol w="2016000"/>
                <a:gridCol w="2016360"/>
                <a:gridCol w="2016000"/>
                <a:gridCol w="2016000"/>
              </a:tblGrid>
              <a:tr h="39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Latv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LHE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Russ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SIO-BA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alt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Uo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RIHMI/WDC</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Montenegro</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MBK</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Sloven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NIB_MBS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Netherland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NIOZ</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pain</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EO</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Norwa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MR</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UTM-CSIC</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Polan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OPAN</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weden</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MH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MGW</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Tunis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NST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Portugal</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HPT</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Turke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ETU</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Roman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NIMR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Russ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RIHMI-WDC</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949"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FC7D0-FBFF-478C-BB54-E060534DB67E}"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50"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ontact: sdn-aisbl-board@seadatanet.org</a:t>
            </a:r>
            <a:endParaRPr b="1" i="1" lang="en-US" sz="4400" spc="-1" strike="sngStrike" u="sng">
              <a:solidFill>
                <a:srgbClr val="ffffff"/>
              </a:solidFill>
              <a:uFillTx/>
              <a:latin typeface="Basic Sans"/>
            </a:endParaRPr>
          </a:p>
        </p:txBody>
      </p:sp>
      <p:pic>
        <p:nvPicPr>
          <p:cNvPr id="952" name="Content Placeholder 5" descr=""/>
          <p:cNvPicPr/>
          <p:nvPr/>
        </p:nvPicPr>
        <p:blipFill>
          <a:blip r:embed="rId2"/>
          <a:stretch/>
        </p:blipFill>
        <p:spPr>
          <a:xfrm>
            <a:off x="611280" y="2182680"/>
            <a:ext cx="8064360" cy="3932280"/>
          </a:xfrm>
          <a:prstGeom prst="rect">
            <a:avLst/>
          </a:prstGeom>
          <a:ln w="0">
            <a:noFill/>
          </a:ln>
        </p:spPr>
      </p:pic>
      <p:sp>
        <p:nvSpPr>
          <p:cNvPr id="953"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E743C-203C-4097-8A27-0F823B88F75E}"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54"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SeaDataNet AISBL is established</a:t>
            </a:r>
            <a:endParaRPr b="1" i="1" lang="en-US" sz="4400" spc="-1" strike="sngStrike" u="sng">
              <a:solidFill>
                <a:srgbClr val="ffffff"/>
              </a:solidFill>
              <a:uFillTx/>
              <a:latin typeface="Basic Sans"/>
            </a:endParaRPr>
          </a:p>
        </p:txBody>
      </p:sp>
      <p:sp>
        <p:nvSpPr>
          <p:cNvPr id="904"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7BDE9-8DD1-4060-B3FA-885C9518CE03}"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05"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
        <p:nvSpPr>
          <p:cNvPr id="906"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fffff"/>
                </a:solidFill>
                <a:uFillTx/>
                <a:latin typeface="Calibri"/>
              </a:rPr>
              <a:t>“</a:t>
            </a:r>
            <a:r>
              <a:rPr b="1" i="1" lang="en-US" sz="2000" spc="-1" strike="sngStrike" u="sng">
                <a:solidFill>
                  <a:srgbClr val="ffffff"/>
                </a:solidFill>
                <a:uFillTx/>
                <a:latin typeface="Calibri"/>
              </a:rPr>
              <a:t>AISBL”: Non-profit international organization under Belgian law</a:t>
            </a:r>
            <a:endParaRPr b="1" i="1" lang="en-US" sz="20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fffff"/>
                </a:solidFill>
                <a:uFillTx/>
                <a:latin typeface="Calibri"/>
              </a:rPr>
              <a:t>Several steps:</a:t>
            </a:r>
            <a:endParaRPr b="1" i="1" lang="en-US" sz="2000" spc="-1" strike="sngStrike" u="sng">
              <a:solidFill>
                <a:srgbClr val="ffffff"/>
              </a:solidFill>
              <a:uFillTx/>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sngStrike">
                <a:solidFill>
                  <a:srgbClr val="ffffff"/>
                </a:solidFill>
                <a:latin typeface="Calibri"/>
              </a:rPr>
              <a:t>12 February 2019: Adoption of the statutes by the 2 founding members (IFREMER and RBINS) and first General Assembly</a:t>
            </a:r>
            <a:endParaRPr b="1" i="1" lang="en-US" sz="16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sngStrike">
                <a:solidFill>
                  <a:srgbClr val="ffffff"/>
                </a:solidFill>
                <a:latin typeface="Calibri"/>
              </a:rPr>
              <a:t>13 April 2019: Signature of the Royal Decree</a:t>
            </a:r>
            <a:endParaRPr b="1" i="1" lang="en-US" sz="16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sngStrike">
                <a:solidFill>
                  <a:srgbClr val="ffffff"/>
                </a:solidFill>
                <a:latin typeface="Calibri"/>
              </a:rPr>
              <a:t>09 May 2019: Publication in the Belgian official Gazette</a:t>
            </a:r>
            <a:endParaRPr b="1" i="1" lang="en-US" sz="1600" spc="-1" strike="sngStrike">
              <a:solidFill>
                <a:srgbClr val="ffffff"/>
              </a:solidFill>
              <a:latin typeface="Basic Sans"/>
            </a:endParaRPr>
          </a:p>
        </p:txBody>
      </p:sp>
      <p:pic>
        <p:nvPicPr>
          <p:cNvPr id="907" name="Picture 6" descr=""/>
          <p:cNvPicPr/>
          <p:nvPr/>
        </p:nvPicPr>
        <p:blipFill>
          <a:blip r:embed="rId2"/>
          <a:stretch/>
        </p:blipFill>
        <p:spPr>
          <a:xfrm>
            <a:off x="4284720" y="4149720"/>
            <a:ext cx="4281480" cy="2075040"/>
          </a:xfrm>
          <a:prstGeom prst="rect">
            <a:avLst/>
          </a:prstGeom>
          <a:ln w="0">
            <a:noFill/>
          </a:ln>
        </p:spPr>
      </p:pic>
      <p:pic>
        <p:nvPicPr>
          <p:cNvPr id="908" name="Picture 8" descr=""/>
          <p:cNvPicPr/>
          <p:nvPr/>
        </p:nvPicPr>
        <p:blipFill>
          <a:blip r:embed="rId3"/>
          <a:stretch/>
        </p:blipFill>
        <p:spPr>
          <a:xfrm>
            <a:off x="1476360" y="3933720"/>
            <a:ext cx="1913040" cy="198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Objectives of the Organization</a:t>
            </a:r>
            <a:endParaRPr b="1" i="1" lang="en-US" sz="4400" spc="-1" strike="sngStrike" u="sng">
              <a:solidFill>
                <a:srgbClr val="ffffff"/>
              </a:solidFill>
              <a:uFillTx/>
              <a:latin typeface="Basic Sans"/>
            </a:endParaRPr>
          </a:p>
        </p:txBody>
      </p:sp>
      <p:sp>
        <p:nvSpPr>
          <p:cNvPr id="910" name=""/>
          <p:cNvSpPr txBox="1"/>
          <p:nvPr/>
        </p:nvSpPr>
        <p:spPr>
          <a:xfrm>
            <a:off x="610920" y="1988640"/>
            <a:ext cx="8064360" cy="4319640"/>
          </a:xfrm>
          <a:prstGeom prst="rect">
            <a:avLst/>
          </a:prstGeom>
          <a:noFill/>
          <a:ln w="0">
            <a:noFill/>
          </a:ln>
        </p:spPr>
        <p:txBody>
          <a:bodyPr lIns="0" rIns="0" tIns="0" bIns="0" anchor="t">
            <a:norm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According to its </a:t>
            </a:r>
            <a:r>
              <a:rPr b="1" i="1" lang="en-US" sz="2400" spc="-1" strike="sngStrike" u="sng">
                <a:solidFill>
                  <a:srgbClr val="ffffff"/>
                </a:solidFill>
                <a:uFillTx/>
                <a:latin typeface="Calibri"/>
              </a:rPr>
              <a:t>statutes</a:t>
            </a:r>
            <a:r>
              <a:rPr b="1" i="1" lang="en-US" sz="2400" spc="-1" strike="sngStrike" u="sng">
                <a:solidFill>
                  <a:srgbClr val="ffffff"/>
                </a:solidFill>
                <a:uFillTx/>
                <a:latin typeface="Calibri"/>
              </a:rPr>
              <a:t> , </a:t>
            </a:r>
            <a:r>
              <a:rPr b="1" i="1" lang="en-US" sz="2400" spc="-1" strike="sngStrike" u="sng">
                <a:solidFill>
                  <a:srgbClr val="ffffff"/>
                </a:solidFill>
                <a:uFillTx/>
                <a:latin typeface="Calibri"/>
              </a:rPr>
              <a:t>the Organization, which does not seek financial gain, aims to work in the collective interest of its members to improve the quality and effectiveness in the management, the processing and the dissemination of oceanographic data at national, regional and global levels.</a:t>
            </a: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SeaDataNet is a light organization aiming mainly at promoting our common endeavours. It isn’t its purpose to take over, as it is now, the operational role of the various SeaDataNet partners</a:t>
            </a:r>
            <a:endParaRPr b="1" i="1" lang="en-US" sz="2400" spc="-1" strike="sngStrike" u="sng">
              <a:solidFill>
                <a:srgbClr val="ffffff"/>
              </a:solidFill>
              <a:uFillTx/>
              <a:latin typeface="Basic Sans"/>
            </a:endParaRPr>
          </a:p>
        </p:txBody>
      </p:sp>
      <p:sp>
        <p:nvSpPr>
          <p:cNvPr id="911"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2D873-401E-40AD-B6A9-876A5499E860}"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12"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Objectives of the Organization</a:t>
            </a:r>
            <a:endParaRPr b="1" i="1" lang="en-US" sz="4400" spc="-1" strike="sngStrike" u="sng">
              <a:solidFill>
                <a:srgbClr val="ffffff"/>
              </a:solidFill>
              <a:uFillTx/>
              <a:latin typeface="Basic Sans"/>
            </a:endParaRPr>
          </a:p>
        </p:txBody>
      </p:sp>
      <p:sp>
        <p:nvSpPr>
          <p:cNvPr id="914" name=""/>
          <p:cNvSpPr txBox="1"/>
          <p:nvPr/>
        </p:nvSpPr>
        <p:spPr>
          <a:xfrm>
            <a:off x="610920" y="1988640"/>
            <a:ext cx="8064360" cy="4319640"/>
          </a:xfrm>
          <a:prstGeom prst="rect">
            <a:avLst/>
          </a:prstGeom>
          <a:noFill/>
          <a:ln w="0">
            <a:noFill/>
          </a:ln>
        </p:spPr>
        <p:txBody>
          <a:bodyPr lIns="0" rIns="0" tIns="0" bIns="0" anchor="t">
            <a:norm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ore specifically the purpose of the Organization is:</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Promote the SeaDataNet infrastructure, tools and services and the development of underpinning science and technology;</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Foster cooperation and coordination within its Members in the field of data management, processing and dissemination ;</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Promote and coordinate the development of commonly available products and services; and</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Coordinate the contribution of the pan-European oceanographic data management community to the European Union initiatives for a better environmental status of the seas and oceans and for an improved marine knowledge in general.</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sngStrike" u="sng">
              <a:solidFill>
                <a:srgbClr val="ffffff"/>
              </a:solidFill>
              <a:uFillTx/>
              <a:latin typeface="Basic Sans"/>
            </a:endParaRPr>
          </a:p>
        </p:txBody>
      </p:sp>
      <p:sp>
        <p:nvSpPr>
          <p:cNvPr id="915"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D8047-F876-4644-9F85-5AFF6ECF741D}"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16"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First actions</a:t>
            </a:r>
            <a:endParaRPr b="1" i="1" lang="en-US" sz="4400" spc="-1" strike="sngStrike" u="sng">
              <a:solidFill>
                <a:srgbClr val="ffffff"/>
              </a:solidFill>
              <a:uFillTx/>
              <a:latin typeface="Basic Sans"/>
            </a:endParaRPr>
          </a:p>
        </p:txBody>
      </p:sp>
      <p:sp>
        <p:nvSpPr>
          <p:cNvPr id="918" name=""/>
          <p:cNvSpPr txBox="1"/>
          <p:nvPr/>
        </p:nvSpPr>
        <p:spPr>
          <a:xfrm>
            <a:off x="610920" y="1988640"/>
            <a:ext cx="8064360" cy="4319640"/>
          </a:xfrm>
          <a:prstGeom prst="rect">
            <a:avLst/>
          </a:prstGeom>
          <a:noFill/>
          <a:ln w="0">
            <a:noFill/>
          </a:ln>
        </p:spPr>
        <p:txBody>
          <a:bodyPr lIns="0" rIns="0" tIns="0" bIns="0" anchor="t">
            <a:norm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cisions of the first General Assembly:</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signation of the Members of the Board</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cision not to set up a general secretariat</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cision to set the annual membership fee to 250€.</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Adoption of the Rules of Procedures</a:t>
            </a: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A bank account has been opened and the situation of the AISBL wrt to the VAT has been clarified.</a:t>
            </a: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registered office of SeaDataNet AISBL is located at RBINS (where EuroGOOS AISBL will soon move.)</a:t>
            </a:r>
            <a:endParaRPr b="1" i="1" lang="en-US" sz="2400" spc="-1" strike="sngStrike" u="sng">
              <a:solidFill>
                <a:srgbClr val="ffffff"/>
              </a:solidFill>
              <a:uFillTx/>
              <a:latin typeface="Basic Sans"/>
            </a:endParaRPr>
          </a:p>
        </p:txBody>
      </p:sp>
      <p:sp>
        <p:nvSpPr>
          <p:cNvPr id="919"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C1377-D0F1-44B1-9598-395B2FE9F895}"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20"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urrent composition of the Board</a:t>
            </a:r>
            <a:endParaRPr b="1" i="1" lang="en-US" sz="4400" spc="-1" strike="sngStrike" u="sng">
              <a:solidFill>
                <a:srgbClr val="ffffff"/>
              </a:solidFill>
              <a:uFillTx/>
              <a:latin typeface="Basic Sans"/>
            </a:endParaRPr>
          </a:p>
        </p:txBody>
      </p:sp>
      <p:sp>
        <p:nvSpPr>
          <p:cNvPr id="922"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 Serge Scory (Chair)</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Michèle Fichaut (Vice-Chair)</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Alessandra Giorgetti</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Athanasia Iona</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Lesley Rickards</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 Dick Schaap</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y act as individuals (but we made sure that they have strong links with institutions responsible for key-elements of the SeaDataNet infrastructure).</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andates run up to the General Assembly of 2022, re-eligible.</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p:txBody>
      </p:sp>
      <p:sp>
        <p:nvSpPr>
          <p:cNvPr id="923"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6CCF5-9281-4EC3-827B-0FB0E0DDEC46}"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24"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Why SeaDataNet AISBL?</a:t>
            </a:r>
            <a:endParaRPr b="1" i="1" lang="en-US" sz="4400" spc="-1" strike="sngStrike" u="sng">
              <a:solidFill>
                <a:srgbClr val="ffffff"/>
              </a:solidFill>
              <a:uFillTx/>
              <a:latin typeface="Basic Sans"/>
            </a:endParaRPr>
          </a:p>
        </p:txBody>
      </p:sp>
      <p:sp>
        <p:nvSpPr>
          <p:cNvPr id="926"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UE Commission wanted for a long time to be able to talk to “SeaDataNet” through a unique entity, not via Beneficiaries of projects</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is is also the case for other “éhigh level” bodies (ENVRI-BEERi, ESFRI, …)</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We need to show that we are not only a project-based initiative and that there is a string will to support the sustainability of the infrastructure, its services and the delivery of high quality marine data through this channel.</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stronger the Organization, the stronger the message </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Wingdings"/>
                <a:ea typeface="Wingdings"/>
              </a:rPr>
              <a:t></a:t>
            </a:r>
            <a:r>
              <a:rPr b="1" i="1" lang="en-US" sz="2400" spc="-1" strike="sngStrike" u="sng">
                <a:solidFill>
                  <a:srgbClr val="ffffff"/>
                </a:solidFill>
                <a:uFillTx/>
                <a:latin typeface="Calibri"/>
              </a:rPr>
              <a:t> </a:t>
            </a:r>
            <a:r>
              <a:rPr b="1" i="1" lang="en-US" sz="2400" spc="-1" strike="sngStrike" u="sng">
                <a:solidFill>
                  <a:srgbClr val="ffffff"/>
                </a:solidFill>
                <a:uFillTx/>
                <a:latin typeface="Calibri"/>
              </a:rPr>
              <a:t>become a member!</a:t>
            </a:r>
            <a:endParaRPr b="1" i="1" lang="en-US" sz="2400" spc="-1" strike="sngStrike" u="sng">
              <a:solidFill>
                <a:srgbClr val="ffffff"/>
              </a:solidFill>
              <a:uFillTx/>
              <a:latin typeface="Basic Sans"/>
            </a:endParaRPr>
          </a:p>
        </p:txBody>
      </p:sp>
      <p:sp>
        <p:nvSpPr>
          <p:cNvPr id="927"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40F5B-CE62-414A-A881-B90E59A47100}"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28"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How will the membership fee used?</a:t>
            </a:r>
            <a:endParaRPr b="1" i="1" lang="en-US" sz="4400" spc="-1" strike="sngStrike" u="sng">
              <a:solidFill>
                <a:srgbClr val="ffffff"/>
              </a:solidFill>
              <a:uFillTx/>
              <a:latin typeface="Basic Sans"/>
            </a:endParaRPr>
          </a:p>
        </p:txBody>
      </p:sp>
      <p:sp>
        <p:nvSpPr>
          <p:cNvPr id="930"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No other income foreseen for the moment</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membership fees will mainly be used to cover</a:t>
            </a:r>
            <a:endParaRPr b="1" i="1" lang="en-US" sz="2400" spc="-1" strike="sngStrike" u="sng">
              <a:solidFill>
                <a:srgbClr val="ffffff"/>
              </a:solidFill>
              <a:uFillTx/>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the establishment costs (~1500€)</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the administrative support for the official accounting</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some operational costs (stamps…)</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promotional expenses (after </a:t>
            </a:r>
            <a:r>
              <a:rPr b="1" i="1" lang="en-US" sz="2400" spc="-1" strike="sngStrike">
                <a:solidFill>
                  <a:srgbClr val="ffffff"/>
                </a:solidFill>
                <a:latin typeface="Calibri"/>
              </a:rPr>
              <a:t>SeaDataCloud</a:t>
            </a:r>
            <a:r>
              <a:rPr b="1" i="1" lang="en-US" sz="2400" spc="-1" strike="sngStrike">
                <a:solidFill>
                  <a:srgbClr val="ffffff"/>
                </a:solidFill>
                <a:latin typeface="Calibri"/>
              </a:rPr>
              <a:t>)</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a:t>
            </a:r>
            <a:endParaRPr b="1" i="1" lang="en-US" sz="2400" spc="-1" strike="sngStrike">
              <a:solidFill>
                <a:srgbClr val="ffffff"/>
              </a:solidFill>
              <a:latin typeface="Basic Sans"/>
            </a:endParaRPr>
          </a:p>
        </p:txBody>
      </p:sp>
      <p:sp>
        <p:nvSpPr>
          <p:cNvPr id="931"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91BE8-1DB5-450C-BF4F-6E5FFB2386AC}"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32"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How to become a member?</a:t>
            </a:r>
            <a:endParaRPr b="1" i="1" lang="en-US" sz="4400" spc="-1" strike="sngStrike" u="sng">
              <a:solidFill>
                <a:srgbClr val="ffffff"/>
              </a:solidFill>
              <a:uFillTx/>
              <a:latin typeface="Basic Sans"/>
            </a:endParaRPr>
          </a:p>
        </p:txBody>
      </p:sp>
      <p:sp>
        <p:nvSpPr>
          <p:cNvPr id="934"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rganizations that signed the “SeaDataNet Exploitation Agreement” at the end of the SeaDataNet 2 project will be automatically admitted as a Member upon notification of their written request for affiliation addressed to the Organization (sdn-aisbl-board@seadatanet.org ).</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rganizations that didn’t sign the “SeaDataNet Exploitation Agreement” must be admitted by the General Meeting.</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nly organizations can become member, no individuals.</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Full membership is granted once the annual membership fee is paid to the organization.</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p:txBody>
      </p:sp>
      <p:sp>
        <p:nvSpPr>
          <p:cNvPr id="935"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B5848-4307-45CF-9358-68B7E1A05C7A}"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36"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ichele FICHAUT, Ifremer Brest PDG-IMN-IDM-SISME</dc:creator>
  <dc:description/>
  <dc:language>en-US</dc:language>
  <cp:lastModifiedBy/>
  <cp:revision>0</cp:revision>
  <dc:subject/>
  <dc:title>Présentation PowerPoint</dc:title>
</cp:coreProperties>
</file>