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54C440E-A053-4FD7-8234-5FB12C1075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CBC53EA-28BA-46EA-9022-6D764C820A2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164AC54D-3075-4761-ADD1-7C3FD6B730F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E8EFDE1A-0B42-44B2-93D2-7CBE68E5256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CDC45452-D448-45A3-BFFE-386D56DD3E1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E959EDEB-3319-45B6-897C-6333BA1FD61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AC59EEA8-8C56-414D-9158-0E9686A55D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E96A166E-43BC-45BF-925B-53BFEA6FBD5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21199EF4-DB64-437D-B57D-46397E0CD35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8C4B9976-6797-48DF-B5E0-0FED14120FC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14718397-AA94-4C11-A499-3C4633E6223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84CFA4-DAD9-44EF-A85A-A32EBD62D4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0F05CC1-264C-4664-8C27-35EC4E69D92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20AD7A-B03D-41BF-885D-BF75FF58B3B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6A3018-4E12-4E4B-B8DD-146242EBDAC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7B7569-FC6D-4A39-B20D-D2F68438E7C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573BE5-1296-4002-BC03-42D244DA973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24C321-EC3B-44A8-8A88-C441F9D0C2E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6C9EFB-0D67-4167-A38E-EE88F98D480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FF233-7E1E-41B9-A2CE-51B62FC184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9AB4F6-7B09-405A-9F97-B2E4D545234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F97961-817A-4AE7-8FD6-E88C892B6FE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A1B970-5082-4818-B933-A165E22699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A548F5B-4026-4837-9B6A-B2093594742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0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717C4E-1BCF-432D-B93B-9483996875B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DAFDB3FE-3D8F-4AF9-8209-1855FE4237A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1C35C3DA-E30E-43F1-B287-D5D0AA191E3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2A68A397-5234-424A-9F1B-A82052BDA8F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F7F05390-F292-42A5-8A04-9350791D383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D13FCFF7-7E60-40DD-A85C-F4A177E3EED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CC24B233-F36B-4C7E-839A-88599266C3F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8480159E-3D13-436E-BA86-0E8A4428862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2E1C286E-D031-4CF5-A4C2-EF817D302AC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DA26A29B-020D-4654-9975-4F6525B65A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03704C1-5A24-4641-BC03-E411C9DE117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D294B537-8835-4345-93B2-F7C22D82FEE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090A90F4-48F4-4282-A6CF-34ACE17B7D6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4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48AB738E-1173-4275-8A03-447B8520C5A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F0F1DA4-B74C-4400-8CD5-EC5C65523A6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1A41585-5597-403A-8305-F8667128DEA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2568220-E0D1-48A9-9473-B3FC67A6889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5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4A013F6-BEC3-489D-95EC-C1AAE4C9A5A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52BE800-6390-4C78-945F-9C65EB88E6B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BA16DD0-429B-4509-B13A-B225E766EFB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41BCDC1-73BF-4E7D-8A37-A93753C738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7BC07C-EE6F-4589-A1D2-AC5F9806E32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B398A76-79BC-4F2A-810E-328D684E902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165B0F3-F248-410C-BBB2-C3BC45748CC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1C99945-0DD2-4D85-B9AF-7252F949785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6B54945-0C14-4EC7-8164-B87264A2EDE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8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64364AD-F304-48D5-BBDF-9E1C80B8709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8B27CAE-9532-4491-A725-D7F65E040B9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C87502B-4465-447C-BEC0-CE87C97D2EA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9A5E4A9-5CE0-4413-95B0-94C49D67A37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5709961-E20B-4929-B698-8929063CDB1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B4A4AA4-2021-4D64-A9B1-698AA4DB17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719726-AC98-40A5-A368-9DB96480FCD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8EE4436-387E-4F78-8F18-29C00F25F44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E8A7471-2FBD-4A67-915D-54011A67291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C968DBA-F6F4-42A8-8EAA-56E9AD1E48C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0ACEA42-2506-4E95-B2C1-2FD55709E9A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BA90C5A-07B3-4651-9F3A-222BC167F1B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91E85628-98E5-455F-B82C-F70390AC477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3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DD6275EC-4ACD-4910-9D6E-F177CE96FDC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3D887E5-B2EA-4B48-B1F3-056DB8CA399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9A56C43-51D4-466F-8839-E237BC7DD1E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BB23B36-4ACC-4081-88C6-407B01A6B9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E7BB8D-5C5C-4B23-9D30-09F9B6B6BB8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47F6023-5CFC-4C65-84DE-AF890CE57A2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F0ED655-83D2-4DC3-8BF5-A5A020E8A60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C2E8101-39B2-4E3D-B5E4-0D7DB3643CE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2FFCF94-8464-4C6A-B7CF-03CE10AD965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B5A900C-B81A-4027-9E73-0F0642B3BF8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4AF34FB-BFE1-46C2-B9AD-9F4A4D21D0C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EB7B54A-73E0-4FF5-A891-BFE6DFF54A5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2764C6E-8B2D-4A9F-A6C6-982A77A1A59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4EC7E67-F5CF-47AA-B933-9C40C37993E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7E95E25A-E202-44E1-B849-4680A208A4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172E8E-26FB-49A8-ADF2-FE22A4DEF88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7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92BBB81A-52CB-4F18-AC4B-0A7543FDB04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3400CA70-DD54-42A3-8DA1-35D1B09A2B2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E0CAD661-9ACF-42A0-8405-14B9AB557F1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F7F4AE27-C0EA-4518-95A9-A9076549831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C376D249-2624-4D76-B48F-CFCB9FF76A4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A59B0003-73DF-4761-A028-2C0DCA9D023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2993A8C3-C7BA-4212-ABEA-3E020FDC345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D015460B-3D3F-4940-A71C-CF9B975416D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DEE43B7D-56B5-4502-95CF-1707F7E8A58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218E1670-3D32-4706-8F51-C188BD9E2B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C66E65-0489-4F25-95CE-311F2C73200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705E3E74-1E06-4DE8-9BDA-5E7458188ED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630ECE0-A8EA-481F-800A-228F6DBC209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1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3FB1D7-BCE8-4E21-BE23-C438B8CC1F3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94ADA5-C940-440F-882A-75A43665776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B53CEF-B2FB-4CB2-85BC-3BAF01DA31D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F7789A-CD14-4D07-BC97-22DEB19F982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2570C6-2754-4A8E-996F-19F6EAA6749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413927-1FE1-4FA3-9877-184D21160AE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2DD9DE-05AC-4230-A628-10DE2EDEC3D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59BC24-39CD-4D0C-BE88-C4561512D8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CA977A-9E7C-455C-9F1F-E0BDE66ECA9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6942B6-B905-4869-B9E4-4153115B584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B81E207-9B41-45EE-9DED-4B8AD8DEA67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E782EF2-3878-4ED0-96E3-96EFD1AAB42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9340BB8C-7DAC-4F44-AA86-3F9A5369A89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DF6F2500-8647-4E30-AB87-7F3DA9EA1D4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E6FEEA1F-F24D-416F-B361-A38C1A8A512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73DF9743-605C-4AFD-99B1-ED8E2676A94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DFF21420-6142-474A-96C1-DEBA98AE550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629A7187-6EF6-4617-BC98-2E4CF0EB480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9A957CC7-FADE-44FC-9AC1-D0EEE310D5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CB461CD-E52B-47C9-A5F2-9E14577C2F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342507-97EF-474A-94D7-06FC0486FBC5}"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3A235B40-D68E-4014-B8A5-D093E7E6034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41E4BA82-695F-4FB2-8BE4-289A16EA37D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54076E7D-CE9C-4EA5-9741-22CB550D119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53F89DAF-7C4B-4617-8C41-2F9F1F56066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3D5F2074-7881-4AEC-9981-9E39B8CF6E4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35AE37D-DED4-4A6A-9798-D069BC6B364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CFFCDB8-5B3B-4EB4-B1E9-3D3517E8563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92163C0-8F84-4745-BBFA-B9EE0323045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0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37B4926-BFB9-4985-85F7-76983172416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0ADD962-A045-4A05-AB4C-8E5C1A7C8B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4B43FD-A84F-40BE-B08A-C88BCFCB7844}"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55A8DF5-6C43-4D8C-926D-645CC5A0CCF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26692AD-533A-4450-952C-67A42B6A61E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FDE020C-A56C-492C-9CDF-1D1551F89DD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FA78A55-0011-44B0-AE11-0A580302239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2C09997-1743-4A7E-931F-20B2C2C14FF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A158E0D-FBC4-4B50-947A-6B9BC4F1E61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2512D37-188E-4DBE-A5AD-CDE939DF4EB6}"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95DAC2B0-032B-4E83-BE10-A3C71002C1B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1C8D70B2-3B52-4E3C-9919-B7B1CB7507B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0247AF12-EDA1-412D-9B9E-861E8CE38A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080B9C-105D-48D1-80DD-FB1436BFE683}"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8394AA5-0EFC-4021-BBD2-BF4493451AA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91EE62CD-222D-4FEF-96E8-67AD7258EF9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AF61E8B7-A7B2-4307-B667-94AF3552283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939D66D2-3CF4-4ED7-9676-816D8507DA9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6A3106E-37EB-492A-9EBE-BE0B3404A6C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6C705AF-320F-4A32-9484-5B3028CCBD2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97B8CB8-B7FF-4E34-83C3-DB9EE103AE2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27BC9A29-0860-4FF4-AA38-A8D659BDAAE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7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4DEFF874-965C-47ED-8486-3FC64F660E9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C9F50A9-7F1C-455D-B72E-14C4BA9ACD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F4674ED-9677-43BE-B413-25B1AA7704A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3C1ECC8-DB5E-440F-842A-4380C3CED14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77FCBAA-FA8F-4A14-9F60-229E8CB6D4C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71C129A-49C5-4EE7-819A-C44A97A40EC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5601C8C-2AC1-4E67-A112-DDBA41C6E27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045DD0C-09C3-4C60-AABF-7A47B1A1722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BE99BD7-C2E6-484A-B6DE-3E5D5EE756F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946B831-54BF-4A82-9B6F-699C7B2841D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6E45E10-D6F0-4869-AA7D-8DD0AEF7AB6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3594AEA-AD04-4222-8C82-FD0E1E4FA7E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B24189C6-5619-45B8-B75B-38A8C0D1F9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FF78C0E-FE39-4A10-BABE-4F1353848643}"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1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F1E712D1-E773-4890-9CAA-0E248EF7843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7890A29C-285E-4F71-85CF-6E7E75BAE1D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88F94635-9FE6-45F6-883D-2C64FB58A7A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FBEE6128-E898-423A-A57C-FEF9CF73B1D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2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31EAF38B-18E6-42B2-A8FB-EB3A12BF1CF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5865FE7D-D682-48A5-8245-00E84C27E74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9A494699-81D7-4066-A7C0-A124A432188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B0CED18C-18DC-48C7-B4A6-DDADE5EEBFC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F0E5FB4C-6B69-46A4-8A07-F1B7A65E28B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98AF90A6-0549-4123-8131-6456153C8BF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B487B6C9-C2E5-4070-BCC7-644055A7CCA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1D841268-A58D-4855-B071-AD878EAFDE4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5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BB017C2F-65BB-4287-9B26-C7C6981E1AA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9C0DE03-C76A-4592-B1C2-8737FFFC6E5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CE5715-ED49-48B6-8CFD-4AB04F651FBC}"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8BB2924-3BFD-4C03-A333-7CFA2BF0BA8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6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BBDC253-9D38-44EB-B3F3-59CBCE53927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9E9CEC1-888C-4651-B5EC-5902239BB09E}"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F24E721-320F-4138-89D7-689EC4AD945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A6716E-9EA9-4F9A-B3A8-B2EB4101E1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367DA4A-D285-4F2A-A488-1DE31AEFCAF5}"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6C5AE94-C735-4C50-92D5-95F6F8FEFBB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F1D9F9A-4B85-4CCC-8AF9-5E2BEDB5970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D36E43A-896D-4CFB-9844-4CD5B1F7A72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9BA7B2D-5763-4249-9C9E-1903932D036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D86F054-FCD1-4643-8E15-1C2C868ABC6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5FAC776-CE50-4245-8CEE-B1F14C83091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6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D003DDB-0620-4D18-BA90-C876124690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C483097-803D-409A-9E87-C749BCDA8A4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94B0B65-6B3D-400B-8C99-55D7D84D1A4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BC86A00-2965-4E3F-A690-129FBDAED29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90DECD3-580D-4800-B40E-14C2E8B28E4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CD31D0B-A71F-4A69-BEB8-77D1327AEB1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DF5AAC9-B2FB-4F4D-9483-5E447B173BA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557F543-DEC7-4C76-B22B-58517A18675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2EFB592-6591-4EF0-9E30-8266AF0E324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BDC8477-F286-47B7-8E68-7CAE90230BE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71DFC88-C02A-4950-B17B-6186AD0EF9D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F9E3BCF-8DEC-4BE6-A48B-733B775C21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FEFD004-E5AE-41DF-B3A6-B86823CE749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1938ABF-DBCD-46DF-BB53-29D2C245D4C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4EC2329-0CCA-49DB-8499-4B4319BEC78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A0636C1-7CCE-420C-97B7-5A4E60DB7D7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7123809-E644-4A7D-BEFE-7B0623B631D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45F3FB5-ECDB-4035-92B6-FECBFA2A9A7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A50564D-AB25-4875-96DC-CFDED455F1C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BFA5973-4D2F-4D44-A06E-EAC8D745805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9025483-C06C-4789-8B82-1FB14F76631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6D4E435-A1D6-41D8-904F-0C806FBF165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01D562B-D646-4E02-94D5-E067F7A78A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E731B80-12E9-43B7-ABF0-D595CF5BC19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8BE4FE3-8EDB-48CC-AE19-D94A8257E71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271390E-62CA-40B4-8EA3-5F184F86862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9F4B265-B6CA-40B1-ACEA-10264FA3C4D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4DE475A-AFE2-4C59-884D-A1BA7165AF7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51DCAEF-70DA-4B64-9A7E-71F6DA2E385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B2BDBCD-06A5-4ED7-91F0-FF03F212A2E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3A47A45-B742-4112-9C41-B5EFBC50DE1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3B69D00-1997-46BC-8AA5-89AAD10BB00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4844C5B-9B00-4E62-9B5F-66BD3ABFB1C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2C5EFF-5F50-4F62-B0B1-300DA3B53A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F6EFE82-4610-4044-A160-DB014B2C5DE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0697654-8E6E-4EE3-BA7B-10BBFC8EDBD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AC5EF6-39CB-4494-AE39-6353C5DE572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B2C759A-8CDE-4215-8852-25D43998415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F4DF484-7AC0-4A62-8FA0-2346EBE14C9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A29CA3D-0653-40C1-8375-72DF2696B31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EE9EDBA-E11A-4399-8C80-7932DD3BF45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16CE27C-88C2-4827-8F79-FA83AA6C931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7ECFA86-3216-4829-BF93-75EE84E2BE8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E40D7DF-DA8F-466C-BC38-F31DA80C5F4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30E9D2C-DD54-46C7-A9F0-33D993D92E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19663D9-8A27-4224-B5E7-081659D1362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F5263A1-4E00-4E57-B19B-4B19101E6A8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0AD9A0F-EA7B-4364-97C7-FA54924516F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D232DBA-3F42-46A4-987A-FBA04836E21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2513C22-B04A-4F0C-92F0-38DDC5A57F7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9DF52A0-D8AF-4DFA-8528-704EE4ACFB2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84DE7F8-8D50-4834-850E-6482A1E181A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93D4F3A-CAB8-4751-8E2A-3EFB18DA241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9CB279FC-795E-4518-8578-701D2201949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2224F2C3-5BEB-4039-A326-3E3A68F94DA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B5F4A2C9-712B-4B66-923F-39EDE5A9F8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00808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 name="PlaceHolder 3"/>
          <p:cNvSpPr>
            <a:spLocks noGrp="1"/>
          </p:cNvSpPr>
          <p:nvPr>
            <p:ph type="sldNum" idx="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844EED-31DB-4ED9-B8A6-99547448C3E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4" name="PlaceHolder 4"/>
          <p:cNvSpPr>
            <a:spLocks noGrp="1"/>
          </p:cNvSpPr>
          <p:nvPr>
            <p:ph type="ftr" idx="2"/>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pic>
        <p:nvPicPr>
          <p:cNvPr id="5" name="Picture 10" descr="SeaDatacloud2017logo_low"/>
          <p:cNvPicPr/>
          <p:nvPr/>
        </p:nvPicPr>
        <p:blipFill>
          <a:blip r:embed="rId3"/>
          <a:stretch/>
        </p:blipFill>
        <p:spPr>
          <a:xfrm>
            <a:off x="611280" y="455760"/>
            <a:ext cx="13683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6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369" name="PlaceHolder 3"/>
          <p:cNvSpPr>
            <a:spLocks noGrp="1"/>
          </p:cNvSpPr>
          <p:nvPr>
            <p:ph type="ftr" idx="1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370" name="PlaceHolder 4"/>
          <p:cNvSpPr>
            <a:spLocks noGrp="1"/>
          </p:cNvSpPr>
          <p:nvPr>
            <p:ph type="sldNum" idx="1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94805-13F0-4237-8CC6-9E27E2D9E0DE}"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08" name="Picture 10" descr="SeaDatacloud2017logo_low"/>
          <p:cNvPicPr/>
          <p:nvPr/>
        </p:nvPicPr>
        <p:blipFill>
          <a:blip r:embed="rId3"/>
          <a:stretch/>
        </p:blipFill>
        <p:spPr>
          <a:xfrm>
            <a:off x="611280" y="455760"/>
            <a:ext cx="1368360" cy="596880"/>
          </a:xfrm>
          <a:prstGeom prst="rect">
            <a:avLst/>
          </a:prstGeom>
          <a:ln w="0">
            <a:noFill/>
          </a:ln>
        </p:spPr>
      </p:pic>
      <p:sp>
        <p:nvSpPr>
          <p:cNvPr id="4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1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11" name="PlaceHolder 3"/>
          <p:cNvSpPr>
            <a:spLocks noGrp="1"/>
          </p:cNvSpPr>
          <p:nvPr>
            <p:ph type="sldNum" idx="1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937AF-A9A7-404F-94F8-2685649087F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12" name="PlaceHolder 4"/>
          <p:cNvSpPr>
            <a:spLocks noGrp="1"/>
          </p:cNvSpPr>
          <p:nvPr>
            <p:ph type="ftr" idx="2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5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51" name="PlaceHolder 3"/>
          <p:cNvSpPr>
            <a:spLocks noGrp="1"/>
          </p:cNvSpPr>
          <p:nvPr>
            <p:ph type="ftr" idx="2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452" name="PlaceHolder 4"/>
          <p:cNvSpPr>
            <a:spLocks noGrp="1"/>
          </p:cNvSpPr>
          <p:nvPr>
            <p:ph type="sldNum" idx="2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2B8A84-9660-4FBA-B8A5-1B2F7390B8A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90" name="Picture 10" descr="SeaDatacloud2017logo_low"/>
          <p:cNvPicPr/>
          <p:nvPr/>
        </p:nvPicPr>
        <p:blipFill>
          <a:blip r:embed="rId3"/>
          <a:stretch/>
        </p:blipFill>
        <p:spPr>
          <a:xfrm>
            <a:off x="611280" y="455760"/>
            <a:ext cx="1368360" cy="596880"/>
          </a:xfrm>
          <a:prstGeom prst="rect">
            <a:avLst/>
          </a:prstGeom>
          <a:ln w="0">
            <a:noFill/>
          </a:ln>
        </p:spPr>
      </p:pic>
      <p:sp>
        <p:nvSpPr>
          <p:cNvPr id="49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92"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93" name="PlaceHolder 3"/>
          <p:cNvSpPr>
            <a:spLocks noGrp="1"/>
          </p:cNvSpPr>
          <p:nvPr>
            <p:ph type="sldNum" idx="23"/>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90B15-B4FD-4222-BB7A-60B73F3CC43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94" name="PlaceHolder 4"/>
          <p:cNvSpPr>
            <a:spLocks noGrp="1"/>
          </p:cNvSpPr>
          <p:nvPr>
            <p:ph type="ftr" idx="24"/>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32"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533" name="PlaceHolder 3"/>
          <p:cNvSpPr>
            <a:spLocks noGrp="1"/>
          </p:cNvSpPr>
          <p:nvPr>
            <p:ph type="ftr" idx="25"/>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534" name="PlaceHolder 4"/>
          <p:cNvSpPr>
            <a:spLocks noGrp="1"/>
          </p:cNvSpPr>
          <p:nvPr>
            <p:ph type="sldNum" idx="26"/>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2782A-8E8C-4E7C-8C2E-502F674151D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572" name="Picture 10" descr="SeaDatacloud2017logo_low"/>
          <p:cNvPicPr/>
          <p:nvPr/>
        </p:nvPicPr>
        <p:blipFill>
          <a:blip r:embed="rId3"/>
          <a:stretch/>
        </p:blipFill>
        <p:spPr>
          <a:xfrm>
            <a:off x="611280" y="455760"/>
            <a:ext cx="1368360" cy="596880"/>
          </a:xfrm>
          <a:prstGeom prst="rect">
            <a:avLst/>
          </a:prstGeom>
          <a:ln w="0">
            <a:noFill/>
          </a:ln>
        </p:spPr>
      </p:pic>
      <p:sp>
        <p:nvSpPr>
          <p:cNvPr id="57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7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575" name="PlaceHolder 3"/>
          <p:cNvSpPr>
            <a:spLocks noGrp="1"/>
          </p:cNvSpPr>
          <p:nvPr>
            <p:ph type="sldNum" idx="2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BEB56-0613-4C08-A2A8-6FEABC3DB592}"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576" name="PlaceHolder 4"/>
          <p:cNvSpPr>
            <a:spLocks noGrp="1"/>
          </p:cNvSpPr>
          <p:nvPr>
            <p:ph type="ftr" idx="2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1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15" name="PlaceHolder 3"/>
          <p:cNvSpPr>
            <a:spLocks noGrp="1"/>
          </p:cNvSpPr>
          <p:nvPr>
            <p:ph type="ftr" idx="2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16" name="PlaceHolder 4"/>
          <p:cNvSpPr>
            <a:spLocks noGrp="1"/>
          </p:cNvSpPr>
          <p:nvPr>
            <p:ph type="sldNum" idx="3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AFC411-3D2E-44F4-9A71-F8957109B16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654" name="Picture 10" descr="SeaDatacloud2017logo_low"/>
          <p:cNvPicPr/>
          <p:nvPr/>
        </p:nvPicPr>
        <p:blipFill>
          <a:blip r:embed="rId3"/>
          <a:stretch/>
        </p:blipFill>
        <p:spPr>
          <a:xfrm>
            <a:off x="611280" y="455760"/>
            <a:ext cx="1368360" cy="596880"/>
          </a:xfrm>
          <a:prstGeom prst="rect">
            <a:avLst/>
          </a:prstGeom>
          <a:ln w="0">
            <a:noFill/>
          </a:ln>
        </p:spPr>
      </p:pic>
      <p:sp>
        <p:nvSpPr>
          <p:cNvPr id="65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5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657" name="PlaceHolder 3"/>
          <p:cNvSpPr>
            <a:spLocks noGrp="1"/>
          </p:cNvSpPr>
          <p:nvPr>
            <p:ph type="sldNum" idx="3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ECE72-C154-44BB-95AC-3BDC0D9AB4B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658" name="PlaceHolder 4"/>
          <p:cNvSpPr>
            <a:spLocks noGrp="1"/>
          </p:cNvSpPr>
          <p:nvPr>
            <p:ph type="ftr" idx="3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9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97" name="PlaceHolder 3"/>
          <p:cNvSpPr>
            <a:spLocks noGrp="1"/>
          </p:cNvSpPr>
          <p:nvPr>
            <p:ph type="ftr" idx="3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98" name="PlaceHolder 4"/>
          <p:cNvSpPr>
            <a:spLocks noGrp="1"/>
          </p:cNvSpPr>
          <p:nvPr>
            <p:ph type="sldNum" idx="3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E00D6-E45B-49C2-9DFE-957C46B25CC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736" name="Picture 10" descr="SeaDatacloud2017logo_low"/>
          <p:cNvPicPr/>
          <p:nvPr/>
        </p:nvPicPr>
        <p:blipFill>
          <a:blip r:embed="rId3"/>
          <a:stretch/>
        </p:blipFill>
        <p:spPr>
          <a:xfrm>
            <a:off x="611280" y="455760"/>
            <a:ext cx="1368360" cy="596880"/>
          </a:xfrm>
          <a:prstGeom prst="rect">
            <a:avLst/>
          </a:prstGeom>
          <a:ln w="0">
            <a:noFill/>
          </a:ln>
        </p:spPr>
      </p:pic>
      <p:sp>
        <p:nvSpPr>
          <p:cNvPr id="7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3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739" name="PlaceHolder 3"/>
          <p:cNvSpPr>
            <a:spLocks noGrp="1"/>
          </p:cNvSpPr>
          <p:nvPr>
            <p:ph type="sldNum" idx="3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2EDC7-E148-4625-9895-C809C6E2A71E}"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740" name="PlaceHolder 4"/>
          <p:cNvSpPr>
            <a:spLocks noGrp="1"/>
          </p:cNvSpPr>
          <p:nvPr>
            <p:ph type="ftr" idx="3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4" name="PlaceHolder 3"/>
          <p:cNvSpPr>
            <a:spLocks noGrp="1"/>
          </p:cNvSpPr>
          <p:nvPr>
            <p:ph type="ftr" idx="3"/>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25458-6AB2-4EF2-81FB-5E9285B9FA04}"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7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779" name="PlaceHolder 3"/>
          <p:cNvSpPr>
            <a:spLocks noGrp="1"/>
          </p:cNvSpPr>
          <p:nvPr>
            <p:ph type="ftr" idx="3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780" name="PlaceHolder 4"/>
          <p:cNvSpPr>
            <a:spLocks noGrp="1"/>
          </p:cNvSpPr>
          <p:nvPr>
            <p:ph type="sldNum" idx="3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A777BD-30EE-4EC6-831B-A511D191DC2B}"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818" name="Picture 10" descr="SeaDatacloud2017logo_low"/>
          <p:cNvPicPr/>
          <p:nvPr/>
        </p:nvPicPr>
        <p:blipFill>
          <a:blip r:embed="rId3"/>
          <a:stretch/>
        </p:blipFill>
        <p:spPr>
          <a:xfrm>
            <a:off x="611280" y="455760"/>
            <a:ext cx="1368360" cy="596880"/>
          </a:xfrm>
          <a:prstGeom prst="rect">
            <a:avLst/>
          </a:prstGeom>
          <a:ln w="0">
            <a:noFill/>
          </a:ln>
        </p:spPr>
      </p:pic>
      <p:sp>
        <p:nvSpPr>
          <p:cNvPr id="81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2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21" name="PlaceHolder 3"/>
          <p:cNvSpPr>
            <a:spLocks noGrp="1"/>
          </p:cNvSpPr>
          <p:nvPr>
            <p:ph type="sldNum" idx="3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05E1F-43E3-44B5-8CB7-E3FEDDA52A62}"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822" name="PlaceHolder 4"/>
          <p:cNvSpPr>
            <a:spLocks noGrp="1"/>
          </p:cNvSpPr>
          <p:nvPr>
            <p:ph type="ftr" idx="4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6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861" name="PlaceHolder 3"/>
          <p:cNvSpPr>
            <a:spLocks noGrp="1"/>
          </p:cNvSpPr>
          <p:nvPr>
            <p:ph type="ftr" idx="4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862" name="PlaceHolder 4"/>
          <p:cNvSpPr>
            <a:spLocks noGrp="1"/>
          </p:cNvSpPr>
          <p:nvPr>
            <p:ph type="sldNum" idx="4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2BDE1-7F0D-4600-BAB6-45CBA22741B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7"/>
          <p:cNvSpPr/>
          <p:nvPr/>
        </p:nvSpPr>
        <p:spPr>
          <a:xfrm>
            <a:off x="4684680" y="6021360"/>
            <a:ext cx="3919680" cy="731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8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5" name="PlaceHolder 3"/>
          <p:cNvSpPr>
            <a:spLocks noGrp="1"/>
          </p:cNvSpPr>
          <p:nvPr>
            <p:ph type="ftr" idx="5"/>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2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124" name="PlaceHolder 3"/>
          <p:cNvSpPr>
            <a:spLocks noGrp="1"/>
          </p:cNvSpPr>
          <p:nvPr>
            <p:ph type="ftr" idx="6"/>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162" name="Picture 10" descr="SeaDatacloud2017logo_low"/>
          <p:cNvPicPr/>
          <p:nvPr/>
        </p:nvPicPr>
        <p:blipFill>
          <a:blip r:embed="rId3"/>
          <a:stretch/>
        </p:blipFill>
        <p:spPr>
          <a:xfrm>
            <a:off x="611280" y="455760"/>
            <a:ext cx="1368360" cy="596880"/>
          </a:xfrm>
          <a:prstGeom prst="rect">
            <a:avLst/>
          </a:prstGeom>
          <a:ln w="0">
            <a:noFill/>
          </a:ln>
        </p:spPr>
      </p:pic>
      <p:sp>
        <p:nvSpPr>
          <p:cNvPr id="16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6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165" name="PlaceHolder 3"/>
          <p:cNvSpPr>
            <a:spLocks noGrp="1"/>
          </p:cNvSpPr>
          <p:nvPr>
            <p:ph type="sldNum" idx="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8077D-A41D-4E38-8095-484678EE0074}"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166" name="PlaceHolder 4"/>
          <p:cNvSpPr>
            <a:spLocks noGrp="1"/>
          </p:cNvSpPr>
          <p:nvPr>
            <p:ph type="ftr" idx="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0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05" name="PlaceHolder 3"/>
          <p:cNvSpPr>
            <a:spLocks noGrp="1"/>
          </p:cNvSpPr>
          <p:nvPr>
            <p:ph type="ftr" idx="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06" name="PlaceHolder 4"/>
          <p:cNvSpPr>
            <a:spLocks noGrp="1"/>
          </p:cNvSpPr>
          <p:nvPr>
            <p:ph type="sldNum" idx="1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92A78-1357-4AD7-B6FB-960FDB1F627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244" name="Picture 10" descr="SeaDatacloud2017logo_low"/>
          <p:cNvPicPr/>
          <p:nvPr/>
        </p:nvPicPr>
        <p:blipFill>
          <a:blip r:embed="rId3"/>
          <a:stretch/>
        </p:blipFill>
        <p:spPr>
          <a:xfrm>
            <a:off x="611280" y="455760"/>
            <a:ext cx="1368360" cy="596880"/>
          </a:xfrm>
          <a:prstGeom prst="rect">
            <a:avLst/>
          </a:prstGeom>
          <a:ln w="0">
            <a:noFill/>
          </a:ln>
        </p:spPr>
      </p:pic>
      <p:sp>
        <p:nvSpPr>
          <p:cNvPr id="24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4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47" name="PlaceHolder 3"/>
          <p:cNvSpPr>
            <a:spLocks noGrp="1"/>
          </p:cNvSpPr>
          <p:nvPr>
            <p:ph type="sldNum" idx="1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CAD47-F705-4AFB-B791-6D6BAAF078D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248" name="PlaceHolder 4"/>
          <p:cNvSpPr>
            <a:spLocks noGrp="1"/>
          </p:cNvSpPr>
          <p:nvPr>
            <p:ph type="ftr" idx="1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8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87" name="PlaceHolder 3"/>
          <p:cNvSpPr>
            <a:spLocks noGrp="1"/>
          </p:cNvSpPr>
          <p:nvPr>
            <p:ph type="ftr" idx="1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88" name="PlaceHolder 4"/>
          <p:cNvSpPr>
            <a:spLocks noGrp="1"/>
          </p:cNvSpPr>
          <p:nvPr>
            <p:ph type="sldNum" idx="1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B96CF-3618-452D-8563-4A1FDA85567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326" name="Picture 10" descr="SeaDatacloud2017logo_low"/>
          <p:cNvPicPr/>
          <p:nvPr/>
        </p:nvPicPr>
        <p:blipFill>
          <a:blip r:embed="rId3"/>
          <a:stretch/>
        </p:blipFill>
        <p:spPr>
          <a:xfrm>
            <a:off x="611280" y="455760"/>
            <a:ext cx="1368360" cy="596880"/>
          </a:xfrm>
          <a:prstGeom prst="rect">
            <a:avLst/>
          </a:prstGeom>
          <a:ln w="0">
            <a:noFill/>
          </a:ln>
        </p:spPr>
      </p:pic>
      <p:sp>
        <p:nvSpPr>
          <p:cNvPr id="32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2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329" name="PlaceHolder 3"/>
          <p:cNvSpPr>
            <a:spLocks noGrp="1"/>
          </p:cNvSpPr>
          <p:nvPr>
            <p:ph type="sldNum" idx="1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A4AC1D-7E9A-4910-82F2-416EE321E5E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30" name="PlaceHolder 4"/>
          <p:cNvSpPr>
            <a:spLocks noGrp="1"/>
          </p:cNvSpPr>
          <p:nvPr>
            <p:ph type="ftr" idx="1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Rectangle 11"/>
          <p:cNvSpPr/>
          <p:nvPr/>
        </p:nvSpPr>
        <p:spPr>
          <a:xfrm>
            <a:off x="1403280" y="5808600"/>
            <a:ext cx="721692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0" name="PlaceHolder 1"/>
          <p:cNvSpPr>
            <a:spLocks noGrp="1"/>
          </p:cNvSpPr>
          <p:nvPr>
            <p:ph type="title"/>
          </p:nvPr>
        </p:nvSpPr>
        <p:spPr>
          <a:xfrm>
            <a:off x="2244240" y="3295440"/>
            <a:ext cx="477540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51a0"/>
                </a:solidFill>
                <a:latin typeface="Calibri Light"/>
              </a:rPr>
              <a:t>SeaDataNet AISBL</a:t>
            </a:r>
            <a:endParaRPr b="1" i="1" lang="en-US" sz="2400" spc="-1" strike="sngStrike" u="sng">
              <a:solidFill>
                <a:srgbClr val="ffffff"/>
              </a:solidFill>
              <a:uFillTx/>
              <a:latin typeface="Basic Sans"/>
            </a:endParaRPr>
          </a:p>
        </p:txBody>
      </p:sp>
      <p:sp>
        <p:nvSpPr>
          <p:cNvPr id="901" name="PlaceHolder 2"/>
          <p:cNvSpPr>
            <a:spLocks noGrp="1"/>
          </p:cNvSpPr>
          <p:nvPr>
            <p:ph type="subTitle"/>
          </p:nvPr>
        </p:nvSpPr>
        <p:spPr>
          <a:xfrm>
            <a:off x="2268000" y="4667040"/>
            <a:ext cx="4751640" cy="26172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551a0"/>
                </a:solidFill>
                <a:latin typeface="Calibri Light"/>
              </a:rPr>
              <a:t>Serge Scory, Chair</a:t>
            </a:r>
            <a:endParaRPr b="1" i="1" lang="en-US" sz="1700" spc="-1" strike="sngStrike" u="sng">
              <a:solidFill>
                <a:srgbClr val="ffffff"/>
              </a:solidFill>
              <a:uFillTx/>
              <a:latin typeface="Basic Sans"/>
            </a:endParaRPr>
          </a:p>
        </p:txBody>
      </p:sp>
      <p:pic>
        <p:nvPicPr>
          <p:cNvPr id="902" name="Picture 1" descr=""/>
          <p:cNvPicPr/>
          <p:nvPr/>
        </p:nvPicPr>
        <p:blipFill>
          <a:blip r:embed="rId2"/>
          <a:stretch/>
        </p:blipFill>
        <p:spPr>
          <a:xfrm>
            <a:off x="4932360" y="3213000"/>
            <a:ext cx="2651040" cy="12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tatus of the membership</a:t>
            </a:r>
            <a:endParaRPr b="1" i="1" lang="en-US" sz="4400" spc="-1" strike="sngStrike" u="sng">
              <a:solidFill>
                <a:srgbClr val="ffffff"/>
              </a:solidFill>
              <a:uFillTx/>
              <a:latin typeface="Basic Sans"/>
            </a:endParaRPr>
          </a:p>
        </p:txBody>
      </p:sp>
      <p:sp>
        <p:nvSpPr>
          <p:cNvPr id="938" name=""/>
          <p:cNvSpPr txBox="1"/>
          <p:nvPr/>
        </p:nvSpPr>
        <p:spPr>
          <a:xfrm>
            <a:off x="610920" y="1988640"/>
            <a:ext cx="453708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e full membe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ive organizations applied</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38 Potential “direct” members (Status June 2016)</a:t>
            </a:r>
            <a:endParaRPr b="1" i="1" lang="en-US" sz="2400" spc="-1" strike="sngStrike" u="sng">
              <a:solidFill>
                <a:srgbClr val="ffffff"/>
              </a:solidFill>
              <a:uFillTx/>
              <a:latin typeface="Basic Sans"/>
            </a:endParaRPr>
          </a:p>
        </p:txBody>
      </p:sp>
      <p:sp>
        <p:nvSpPr>
          <p:cNvPr id="93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5D13-0658-405C-8215-4E0B4CDA52D1}"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41" name="TextBox 5"/>
          <p:cNvSpPr/>
          <p:nvPr/>
        </p:nvSpPr>
        <p:spPr>
          <a:xfrm>
            <a:off x="5219640" y="1484280"/>
            <a:ext cx="3816360" cy="52693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To: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c/o Serge Scory (Chair)</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oyal Belgian Institute of Natural Sciences</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ue Vautier 29</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1000 Brussels (Belgium)</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i="1" lang="en-US" sz="1000" spc="-1" strike="sngStrike" u="sng">
                <a:solidFill>
                  <a:srgbClr val="ffffff"/>
                </a:solidFill>
                <a:uFillTx/>
                <a:latin typeface="Basic Sans"/>
              </a:rPr>
              <a:t>To the Board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In agreement with Art. 7 of the statutes of SeaDataNet aisbl, stating that the signatories of the "SeaDatanet Exploitation Agreement" will become a full member by explicitely notifying to the association their willingness to become a member; considering further that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signed this agreeement in due time, </a:t>
            </a:r>
            <a:r>
              <a:rPr b="1" i="1" lang="en-US" sz="1000" spc="-1" strike="sngStrike" u="sng">
                <a:solidFill>
                  <a:srgbClr val="ffffff"/>
                </a:solidFill>
                <a:uFillTx/>
                <a:latin typeface="Basic Sans"/>
              </a:rPr>
              <a:t>[your Institution name] </a:t>
            </a:r>
            <a:r>
              <a:rPr b="1" i="1" lang="en-US" sz="1000" spc="-1" strike="sngStrike" u="sng">
                <a:solidFill>
                  <a:srgbClr val="ffffff"/>
                </a:solidFill>
                <a:uFillTx/>
                <a:latin typeface="Basic Sans"/>
              </a:rPr>
              <a:t>herewith notifies SeaDataNet aisbl of its willingness to become a full member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acknowledges that its membership will only become effective once its financial contribution to the functioning of the association ("annual fee", currently equal to 250,-€) will be available on the bank account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Furthermore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mandates</a:t>
            </a:r>
            <a:r>
              <a:rPr b="1" i="1" lang="en-US" sz="1000" spc="-1" strike="sngStrike" u="sng">
                <a:solidFill>
                  <a:srgbClr val="ffffff"/>
                </a:solidFill>
                <a:uFillTx/>
                <a:latin typeface="Basic Sans"/>
              </a:rPr>
              <a:t> Dr/Mrs/M. XXX (+full address)</a:t>
            </a:r>
            <a:r>
              <a:rPr b="1" i="1" lang="en-US" sz="1000" spc="-1" strike="sngStrike" u="sng">
                <a:solidFill>
                  <a:srgbClr val="ffffff"/>
                </a:solidFill>
                <a:uFillTx/>
                <a:latin typeface="Basic Sans"/>
              </a:rPr>
              <a:t> as its representative to the General Assembly of SeaDataNet aisbl and the follow-up of the activities of the association.</a:t>
            </a:r>
            <a:br>
              <a:rPr sz="1000"/>
            </a:b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Signatory name, title; date; stamp</a:t>
            </a:r>
            <a:endParaRPr b="1" i="1" lang="en-US" sz="1000" spc="-1" strike="sngStrike" u="sng">
              <a:solidFill>
                <a:srgbClr val="ffffff"/>
              </a:solidFill>
              <a:uFillTx/>
              <a:latin typeface="Basic Sans"/>
            </a:endParaRPr>
          </a:p>
        </p:txBody>
      </p:sp>
      <p:sp>
        <p:nvSpPr>
          <p:cNvPr id="942" name="TextBox 6"/>
          <p:cNvSpPr/>
          <p:nvPr/>
        </p:nvSpPr>
        <p:spPr>
          <a:xfrm>
            <a:off x="1835280" y="3882960"/>
            <a:ext cx="3241440" cy="1189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ffffff"/>
                </a:solidFill>
                <a:uFillTx/>
                <a:latin typeface="Calibri"/>
              </a:rPr>
              <a:t>We’ll send an email soon to the signatories of the exploitation agreement with a template of an application letter.</a:t>
            </a:r>
            <a:endParaRPr b="1" i="1" lang="en-US" sz="18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4"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elgiu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LG</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Georg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SU-DN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VLI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German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BSH</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ulgar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O_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AW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roat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F</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ce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R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Cypru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C-UC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Denmar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Aarhus_Universit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srae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L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CE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tal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G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Esto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S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N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in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ENE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France</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H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NGV</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1151-748D-4952-964A-1214BB93A794}"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8"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atv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HE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IO-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alt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U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ontenegr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B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love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B_MBS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etherland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IO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pai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E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orwa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TM-CSI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PA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wede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MH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GW</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uni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NST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rtuga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HPT</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Turke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ETU</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oma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MR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91CD-43C9-4CE0-91F3-522D03DAE68A}"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ontact: sdn-aisbl-board@seadatanet.org</a:t>
            </a:r>
            <a:endParaRPr b="1" i="1" lang="en-US" sz="4400" spc="-1" strike="sngStrike" u="sng">
              <a:solidFill>
                <a:srgbClr val="ffffff"/>
              </a:solidFill>
              <a:uFillTx/>
              <a:latin typeface="Basic Sans"/>
            </a:endParaRPr>
          </a:p>
        </p:txBody>
      </p:sp>
      <p:pic>
        <p:nvPicPr>
          <p:cNvPr id="952" name="Content Placeholder 5" descr=""/>
          <p:cNvPicPr/>
          <p:nvPr/>
        </p:nvPicPr>
        <p:blipFill>
          <a:blip r:embed="rId2"/>
          <a:stretch/>
        </p:blipFill>
        <p:spPr>
          <a:xfrm>
            <a:off x="611280" y="2182680"/>
            <a:ext cx="8064360" cy="3932280"/>
          </a:xfrm>
          <a:prstGeom prst="rect">
            <a:avLst/>
          </a:prstGeom>
          <a:ln w="0">
            <a:noFill/>
          </a:ln>
        </p:spPr>
      </p:pic>
      <p:sp>
        <p:nvSpPr>
          <p:cNvPr id="95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C357-4E62-4FF2-9822-F648A47089D1}"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eaDataNet AISBL is established</a:t>
            </a:r>
            <a:endParaRPr b="1" i="1" lang="en-US" sz="4400" spc="-1" strike="sngStrike" u="sng">
              <a:solidFill>
                <a:srgbClr val="ffffff"/>
              </a:solidFill>
              <a:uFillTx/>
              <a:latin typeface="Basic Sans"/>
            </a:endParaRPr>
          </a:p>
        </p:txBody>
      </p:sp>
      <p:sp>
        <p:nvSpPr>
          <p:cNvPr id="904"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1541-106E-4B1A-90BA-52E32AFC315E}"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05"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a:t>
            </a:r>
            <a:r>
              <a:rPr b="1" i="1" lang="en-US" sz="2000" spc="-1" strike="sngStrike" u="sng">
                <a:solidFill>
                  <a:srgbClr val="ffffff"/>
                </a:solidFill>
                <a:uFillTx/>
                <a:latin typeface="Calibri"/>
              </a:rPr>
              <a:t>AISBL”: Non-profit international organization under Belgian law</a:t>
            </a:r>
            <a:endParaRPr b="1" i="1" lang="en-US" sz="20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Several steps:</a:t>
            </a:r>
            <a:endParaRPr b="1" i="1" lang="en-US" sz="20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2 February 2019: Adoption of the statutes by the 2 founding members (IFREMER and RBINS) and first General Assembly</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3 April 2019: Signature of the Royal Decree</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09 May 2019: Publication in the Belgian official Gazette</a:t>
            </a:r>
            <a:endParaRPr b="1" i="1" lang="en-US" sz="1600" spc="-1" strike="sngStrike">
              <a:solidFill>
                <a:srgbClr val="ffffff"/>
              </a:solidFill>
              <a:latin typeface="Basic Sans"/>
            </a:endParaRPr>
          </a:p>
        </p:txBody>
      </p:sp>
      <p:pic>
        <p:nvPicPr>
          <p:cNvPr id="907" name="Picture 6" descr=""/>
          <p:cNvPicPr/>
          <p:nvPr/>
        </p:nvPicPr>
        <p:blipFill>
          <a:blip r:embed="rId2"/>
          <a:stretch/>
        </p:blipFill>
        <p:spPr>
          <a:xfrm>
            <a:off x="4284720" y="4149720"/>
            <a:ext cx="4281480" cy="2075040"/>
          </a:xfrm>
          <a:prstGeom prst="rect">
            <a:avLst/>
          </a:prstGeom>
          <a:ln w="0">
            <a:noFill/>
          </a:ln>
        </p:spPr>
      </p:pic>
      <p:pic>
        <p:nvPicPr>
          <p:cNvPr id="908" name="Picture 8" descr=""/>
          <p:cNvPicPr/>
          <p:nvPr/>
        </p:nvPicPr>
        <p:blipFill>
          <a:blip r:embed="rId3"/>
          <a:stretch/>
        </p:blipFill>
        <p:spPr>
          <a:xfrm>
            <a:off x="1476360" y="3933720"/>
            <a:ext cx="1913040" cy="19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0"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ccording to its </a:t>
            </a:r>
            <a:r>
              <a:rPr b="1" i="1" lang="en-US" sz="2400" spc="-1" strike="sngStrike" u="sng">
                <a:solidFill>
                  <a:srgbClr val="ffffff"/>
                </a:solidFill>
                <a:uFillTx/>
                <a:latin typeface="Calibri"/>
              </a:rPr>
              <a:t>statutes</a:t>
            </a:r>
            <a:r>
              <a:rPr b="1" i="1" lang="en-US" sz="2400" spc="-1" strike="sngStrike" u="sng">
                <a:solidFill>
                  <a:srgbClr val="ffffff"/>
                </a:solidFill>
                <a:uFillTx/>
                <a:latin typeface="Calibri"/>
              </a:rPr>
              <a:t> , </a:t>
            </a:r>
            <a:r>
              <a:rPr b="1" i="1" lang="en-US" sz="2400" spc="-1" strike="sngStrike" u="sng">
                <a:solidFill>
                  <a:srgbClr val="ffffff"/>
                </a:solidFill>
                <a:uFillTx/>
                <a:latin typeface="Calibri"/>
              </a:rPr>
              <a:t>the Organization, which does not seek financial gain, aims to work in the collective interest of its members to improve the quality and effectiveness in the management, the processing and the dissemination of oceanographic data at national, regional and global level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SeaDataNet is a light organization aiming mainly at promoting our common endeavours. It isn’t its purpose to take over, as it is now, the operational role of the various SeaDataNet partners</a:t>
            </a:r>
            <a:endParaRPr b="1" i="1" lang="en-US" sz="2400" spc="-1" strike="sngStrike" u="sng">
              <a:solidFill>
                <a:srgbClr val="ffffff"/>
              </a:solidFill>
              <a:uFillTx/>
              <a:latin typeface="Basic Sans"/>
            </a:endParaRPr>
          </a:p>
        </p:txBody>
      </p:sp>
      <p:sp>
        <p:nvSpPr>
          <p:cNvPr id="91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2E27-C064-4DAE-8CDC-DB6DFBCD1660}"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4"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ore specifically the purpose of the Organization is:</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the SeaDataNet infrastructure, tools and services and the development of underpinning science and technology;</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Foster cooperation and coordination within its Members in the field of data management, processing and dissemination ;</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and coordinate the development of commonly available products and services; and</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Coordinate the contribution of the pan-European oceanographic data management community to the European Union initiatives for a better environmental status of the seas and oceans and for an improved marine knowledge in general.</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sngStrike" u="sng">
              <a:solidFill>
                <a:srgbClr val="ffffff"/>
              </a:solidFill>
              <a:uFillTx/>
              <a:latin typeface="Basic Sans"/>
            </a:endParaRPr>
          </a:p>
        </p:txBody>
      </p:sp>
      <p:sp>
        <p:nvSpPr>
          <p:cNvPr id="91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8AA7-F51D-4B5C-A417-63F0F8295562}"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First actions</a:t>
            </a:r>
            <a:endParaRPr b="1" i="1" lang="en-US" sz="4400" spc="-1" strike="sngStrike" u="sng">
              <a:solidFill>
                <a:srgbClr val="ffffff"/>
              </a:solidFill>
              <a:uFillTx/>
              <a:latin typeface="Basic Sans"/>
            </a:endParaRPr>
          </a:p>
        </p:txBody>
      </p:sp>
      <p:sp>
        <p:nvSpPr>
          <p:cNvPr id="918"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s of the first General Assembly:</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signation of the Members of the Board</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not to set up a general secretariat</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to set the annual membership fee to 250€.</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doption of the Rules of Procedure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 bank account has been opened and the situation of the AISBL wrt to the VAT has been clarified.</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registered office of SeaDataNet AISBL is located at RBINS (where EuroGOOS AISBL will soon move.)</a:t>
            </a:r>
            <a:endParaRPr b="1" i="1" lang="en-US" sz="2400" spc="-1" strike="sngStrike" u="sng">
              <a:solidFill>
                <a:srgbClr val="ffffff"/>
              </a:solidFill>
              <a:uFillTx/>
              <a:latin typeface="Basic Sans"/>
            </a:endParaRPr>
          </a:p>
        </p:txBody>
      </p:sp>
      <p:sp>
        <p:nvSpPr>
          <p:cNvPr id="91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C032-5DE2-4F9D-B1CE-DFF63B9222A6}"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urrent composition of the Board</a:t>
            </a:r>
            <a:endParaRPr b="1" i="1" lang="en-US" sz="4400" spc="-1" strike="sngStrike" u="sng">
              <a:solidFill>
                <a:srgbClr val="ffffff"/>
              </a:solidFill>
              <a:uFillTx/>
              <a:latin typeface="Basic Sans"/>
            </a:endParaRPr>
          </a:p>
        </p:txBody>
      </p:sp>
      <p:sp>
        <p:nvSpPr>
          <p:cNvPr id="922"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Serge Scory (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Michèle Fichaut (Vice-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lessandra Giorgetti</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thanasia Iona</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Lesley Rickard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Dick Schaap</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y act as individuals (but we made sure that they have strong links with institutions responsible for key-elements of the SeaDataNet infrastructure).</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andates run up to the General Assembly of 2022, re-eligible.</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2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8F05-F60B-4726-8ED4-3D15BA20B562}"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Why SeaDataNet AISBL?</a:t>
            </a:r>
            <a:endParaRPr b="1" i="1" lang="en-US" sz="4400" spc="-1" strike="sngStrike" u="sng">
              <a:solidFill>
                <a:srgbClr val="ffffff"/>
              </a:solidFill>
              <a:uFillTx/>
              <a:latin typeface="Basic Sans"/>
            </a:endParaRPr>
          </a:p>
        </p:txBody>
      </p:sp>
      <p:sp>
        <p:nvSpPr>
          <p:cNvPr id="92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UE Commission wanted for a long time to be able to talk to “SeaDataNet” through a unique entity, not via Beneficiaries of project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is is also the case for other “éhigh level” bodies (ENVRI-BEERi, ESFRI,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We need to show that we are not only a project-based initiative and that there is a string will to support the sustainability of the infrastructure, its services and the delivery of high quality marine data through this channel.</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stronger the Organization, the stronger the message </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Wingdings"/>
                <a:ea typeface="Wingdings"/>
              </a:rPr>
              <a:t></a:t>
            </a:r>
            <a:r>
              <a:rPr b="1" i="1" lang="en-US" sz="2400" spc="-1" strike="sngStrike" u="sng">
                <a:solidFill>
                  <a:srgbClr val="ffffff"/>
                </a:solidFill>
                <a:uFillTx/>
                <a:latin typeface="Calibri"/>
              </a:rPr>
              <a:t> </a:t>
            </a:r>
            <a:r>
              <a:rPr b="1" i="1" lang="en-US" sz="2400" spc="-1" strike="sngStrike" u="sng">
                <a:solidFill>
                  <a:srgbClr val="ffffff"/>
                </a:solidFill>
                <a:uFillTx/>
                <a:latin typeface="Calibri"/>
              </a:rPr>
              <a:t>become a member!</a:t>
            </a:r>
            <a:endParaRPr b="1" i="1" lang="en-US" sz="2400" spc="-1" strike="sngStrike" u="sng">
              <a:solidFill>
                <a:srgbClr val="ffffff"/>
              </a:solidFill>
              <a:uFillTx/>
              <a:latin typeface="Basic Sans"/>
            </a:endParaRPr>
          </a:p>
        </p:txBody>
      </p:sp>
      <p:sp>
        <p:nvSpPr>
          <p:cNvPr id="927"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7406-8A90-4274-99A5-B955C571CD0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8"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will the membership fee used?</a:t>
            </a:r>
            <a:endParaRPr b="1" i="1" lang="en-US" sz="4400" spc="-1" strike="sngStrike" u="sng">
              <a:solidFill>
                <a:srgbClr val="ffffff"/>
              </a:solidFill>
              <a:uFillTx/>
              <a:latin typeface="Basic Sans"/>
            </a:endParaRPr>
          </a:p>
        </p:txBody>
      </p:sp>
      <p:sp>
        <p:nvSpPr>
          <p:cNvPr id="930"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No other income foreseen for the moment</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membership fees will mainly be used to cover</a:t>
            </a:r>
            <a:endParaRPr b="1" i="1" lang="en-US" sz="24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establishment costs (~1500€)</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administrative support for the official accounting</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some operational costs (stamps…)</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promotional expenses (after </a:t>
            </a:r>
            <a:r>
              <a:rPr b="1" i="1" lang="en-US" sz="2400" spc="-1" strike="sngStrike">
                <a:solidFill>
                  <a:srgbClr val="ffffff"/>
                </a:solidFill>
                <a:latin typeface="Calibri"/>
              </a:rPr>
              <a:t>SeaDataCloud</a:t>
            </a:r>
            <a:r>
              <a:rPr b="1" i="1" lang="en-US" sz="2400" spc="-1" strike="sngStrike">
                <a:solidFill>
                  <a:srgbClr val="ffffff"/>
                </a:solidFill>
                <a:latin typeface="Calibri"/>
              </a:rPr>
              <a:t>)</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a:t>
            </a:r>
            <a:endParaRPr b="1" i="1" lang="en-US" sz="2400" spc="-1" strike="sngStrike">
              <a:solidFill>
                <a:srgbClr val="ffffff"/>
              </a:solidFill>
              <a:latin typeface="Basic Sans"/>
            </a:endParaRPr>
          </a:p>
        </p:txBody>
      </p:sp>
      <p:sp>
        <p:nvSpPr>
          <p:cNvPr id="93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7DF6-D716-4CCA-8AAC-585DA87414BF}"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to become a member?</a:t>
            </a:r>
            <a:endParaRPr b="1" i="1" lang="en-US" sz="4400" spc="-1" strike="sngStrike" u="sng">
              <a:solidFill>
                <a:srgbClr val="ffffff"/>
              </a:solidFill>
              <a:uFillTx/>
              <a:latin typeface="Basic Sans"/>
            </a:endParaRPr>
          </a:p>
        </p:txBody>
      </p:sp>
      <p:sp>
        <p:nvSpPr>
          <p:cNvPr id="934"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signed the “SeaDataNet Exploitation Agreement” at the end of the SeaDataNet 2 project will be automatically admitted as a Member upon notification of their written request for affiliation addressed to the Organization (sdn-aisbl-board@seadatanet.org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didn’t sign the “SeaDataNet Exploitation Agreement” must be admitted by the General Meeting.</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ly organizations can become member, no individuals.</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ull membership is granted once the annual membership fee is paid to the organization.</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3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655E-3CA7-4EF2-9879-01A0DAA2298A}"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ele FICHAUT, Ifremer Brest PDG-IMN-IDM-SISME</dc:creator>
  <dc:description/>
  <dc:language>en-US</dc:language>
  <cp:lastModifiedBy/>
  <cp:revision>0</cp:revision>
  <dc:subject/>
  <dc:title>Présentation PowerPoint</dc:title>
</cp:coreProperties>
</file>