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7C8DB62-4C55-4BD6-BD97-0ABF25008D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BD43A71-28F0-4CC6-8875-FB7115AF5D1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B727A259-FD38-4706-A725-EF9D0DCA8D1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A923202F-90F1-4D6F-9CDF-8EE1BA0972D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34108E90-31B9-4D56-B188-7483C4A0DB8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07302E1D-02C6-45B8-AA63-2C9B179730E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B2BF76C5-9AF4-4799-9325-BBF787D7731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1433B0B8-97D8-413F-8F3C-34857AC79B3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89D1D3E3-68BD-400C-97E4-1753070A121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1A579F2C-7B9E-4232-9A5A-3C9DBCF98E2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8D71DD97-058E-4332-9E80-8817ED05DB9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B53A29-2B67-4424-BAE6-DF242FA1D1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386DC5E-EA01-4654-BA44-8C6BE9573A9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1E4789-F77B-4846-84B2-3300B49BA36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D3426E-6509-46A7-87EB-0127791D18D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DE33C7-A7E3-4AB0-B383-65D69436606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CD6229-C452-4945-88FE-644321FD7B6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FDE06F-E54B-4A54-80C7-ED3F68454D5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CF8E2F-69C6-4EF7-A5D7-66B45D9C522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1D8F6E-A27C-4563-BC77-A9D0FD45D24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61183E-C0F0-4A5D-8EB7-5A89805497F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0F4BD4-0A43-43E2-92AC-BE0EC16C84E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CEFD62-1E03-4F3B-8B91-BC24A2F08E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EAE2F83-9280-4234-B814-38B147C5C2B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0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857797-3384-4559-A7D3-6382C05D71E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CA2AD129-DFBD-4587-B818-6617B8497B6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23937559-65CF-41E6-9A28-C288985A6F2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1F46CC11-B4FE-44BC-BEDA-F9E921F9C7A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CCA44655-2598-4E99-8189-F4D19929BAE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C5D9B7E7-7DEA-49AA-A4DD-16D14FE4CC8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4AA20A43-13A8-48BE-AC9D-7F0CD1BBFB2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0A947E1C-8150-4116-84A9-FB58498382F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92648C25-43E3-47A9-B7A5-C0A1DD9914A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DB565C6E-0EA9-4908-8C71-7A3EBD5705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15759DB-0AF1-482A-8A01-F093172E306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8977F9A6-82E5-40AC-8A11-CE3366E0F05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82BCD351-A25B-490D-A092-596E2A574A9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4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6003014F-1250-4CAC-9329-1AC08CA95E0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81EECD1-B137-4DF7-A9AF-B3B4DE7E3BF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012C88A-EBCC-4A11-A76C-F90EA4521C3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5997BBE-F06C-4C1C-81DA-75A61C5AD39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5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18C27DE-3BB2-4CBF-829E-7DF446D8CA7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9503A57-35A8-4B20-B453-7956C086349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DCCA27D-F0B4-4F9D-84A6-B31703CC5A7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F7CFC3E-4E76-43FE-B978-46035C3FD0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C8EB89-F4F1-4E5F-941E-2D545806129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564929F-D7A1-4F06-905D-0F0305A9DD8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EF9B7E0-713A-4B1B-B5AD-5262C8540E3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ADE8758-BD5A-408E-8549-14F7883E459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D073857-8935-4EB9-9B2F-8456B407486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8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E99422C-80EA-4DD9-9EB3-785B298F78A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84A6B498-B1BE-43D1-BB5F-549C9414DA3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1B014B8-BF96-46AB-AA12-AAC92F59C23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AB37177-7A00-4BFD-AC95-AFC04302826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237F897-B58F-455F-9312-8192583334C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70BA739-F235-4F42-93B3-62373FA7F0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97B982-59A8-4F32-8DD3-8A877C2BB47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7ACC5D3-64AC-4A1F-8ED4-C0798993A93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A390BE4-A31C-43F4-82E5-AB4D3BA1991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F573DF1-0A3A-4A4D-83C4-5D51FC82AC0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B31F9E4-4EF2-4479-B6B4-95D505159D9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32006A0-CB5D-483B-8024-2FA9DA94A67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5E893356-04CD-437D-9ECA-E81A1D71B3E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3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8267D9F8-1C4D-4ED4-8F29-09B74164938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5151DBF-42FC-4727-8CDD-A5C1CBA4765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7AB768C-0E30-4591-A235-293EC1A22AB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97C80EA-7A3E-4074-8557-69BD3DB65B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8C61E0-978C-4621-8661-B145E4F9FFA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FE1DBC9-5DD4-4B3E-939F-B5CB7599FD2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EFC8D1C-B336-40B6-AA6D-14647C51823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1139081-84E6-4A03-B6B0-ADCF6CBB35E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FA0AC8B-DF98-4440-BA9D-B7982AD872C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0451AF0-4935-4D12-979A-AE0F6B8B2A9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9D746B0-BF23-4A98-B70E-CCF056B5D16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0B605E9-5E2D-48DA-9BEC-4704261481D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ECF4E89-83B9-4D33-9DBB-F2C1245A058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630687F-1768-4102-AEE0-690446B39EE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DB47E656-EF44-401B-9397-0596812E2A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6840DD4-CF80-4DD0-B3D7-82F1CD1E148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7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D72E2134-A26B-4433-B56B-00B836435E4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0C67C37B-42D1-4026-9CD7-ABA2FE18BE9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727984B8-7083-469A-BE2C-C72AF29AEDB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68709ACD-C2F7-4602-80AF-F02ED90651E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2D052692-2122-4B65-96D5-C5F3A8BD3D8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93A92B3B-B411-431D-A998-2A43FC126A3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0D7DBF9F-A5E4-4F36-AF1F-149D2193A3F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F39C1DB5-0944-4AA4-A3E2-A5DC2C6447F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52277D40-0373-4004-A51D-301A51BFB5E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19E99417-E3E7-406C-B45D-02F86D4782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C8E8A6-FDDB-43DA-A677-3D9059BE26C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035C75F7-807C-4102-B0F7-7DC72C872A4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581799-88FB-48D3-9E6C-D3CE0A7AF1F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1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99AB77-0F13-4C90-AD17-F940BBFFA7F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EBBF64-CAE9-4832-A59C-EFD7AFFB922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3814CB-BE66-428B-B695-DCE3866495C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6555AF-4CAF-483B-9175-7D79E4C8CDF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BB3E44-C6BC-47E9-81C7-662D3EBA5B1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363D34-CE79-4AB4-9D9C-01336B4E1A95}"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0048B2-C9DF-4B17-8EEB-61C47470632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643F37-B776-4830-8026-B16AA0F3FF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2D4C06-BE3C-4F22-9370-702C5582787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D3049E-02FF-4849-AE00-3B09C505840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9CEB4BF-83D2-479F-9836-9F0A6AC9EE3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11485F0-EC67-43BF-9A86-77D5A1BA4F7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2535E62D-40A0-4F08-80C0-0A5C8414645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9887A41F-2B9B-40F6-9EE4-789060EF618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50C98350-F30C-4D4B-B20E-BB39E53AB01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03F98C13-D5ED-4940-A828-4C9F91530E4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C9689BCF-EE61-419C-B317-CDE8F925832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08899F6B-43A8-4F10-AF44-29F07B15E0D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F4BA4CDD-D308-4F60-9909-F24077F23C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75BFF92-4C46-4BB1-AEFB-487526094A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FFDF61-C51B-4C17-B0A8-F6D354975B55}"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84F9AA14-9E41-403B-9D09-D84BB495ACA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58D20843-0B34-466B-A5A7-6F48C622F83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4806C543-D96D-48C4-BE24-EC2FBE6F8E3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78C08888-E543-4782-A21F-556E82498A8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BCC88D3A-A146-4545-853A-9425FAAE6A4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B39F227-7E58-47FB-A927-F86162F0D6A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B82653E-283D-4E0E-B1CB-1EFDA61DBEF8}"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2140D9B-F730-4E6F-ACA8-6467EF987A3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0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17C9A61-8DFA-4E24-A88C-CE43588AE70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264353E-F107-468B-9C12-34CE4EF5B7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908E5D-F8C2-4D4B-A3CA-3B38DDB4AF7E}"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3FE7393-995B-49D4-A714-42C8D48F616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236B42C-461A-4D71-B6C9-90BCDD8CAA4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34950CA-28F2-4200-94E5-82036D80B7E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157307D-1105-4C32-BB31-8166E3304DF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3919AA8-893C-4509-BA90-B036DEF5E16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642D3AF8-2B1C-40D9-BA6F-489F11C5EBB8}"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0B2A5B5-3D03-44CE-827C-E091FE1D501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7905671C-BDCD-4002-B2CD-E284F19C02B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BFCA75DF-A9BB-4120-BB81-F1D03876EB2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039BF56B-4AAC-4AE8-A10F-FE5E499F6F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FA8D26-9DC4-457B-9739-0EAA6D627120}"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5A4316EF-B70D-4191-890A-BAC13757EAA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BCC81F19-5032-4DD0-8A53-8581DE620ED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CA529CF3-9B89-42CA-814D-B981460641D1}"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90D9D070-908D-4C2E-957B-EB01D0B0E8A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A55244AD-C09D-4403-A82E-86F265244FC9}"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47AE357-5FBD-48CA-83D9-052679A9270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4E31336F-7CA7-4432-A80C-BFE6FB99197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3ABF6084-2B16-4C2B-90FC-9F3D7B7C99C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7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19EAB930-1A30-46AD-9A7C-73A930C50D8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876809CF-09DA-4A24-B137-AFE6898B0F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E3184D3-25CA-4C49-9C30-15D6FBE7EB8A}"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A6A30EC-A1B1-4C19-B497-70BFE274F3D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DEA6ECE-131B-4BEE-A639-6FE1A64A14A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31A9CF0-291D-4C99-B3AA-653F1297BAA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770379C-46BB-4219-8607-0C23ED1E165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94639D3-3298-43B1-9919-FB4634C01DB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975AA12-3934-45F3-BFF8-3787F2D88E1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1E679D6-1C0D-47A3-A190-4F0173E7FB6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142F914-226E-4D95-B488-036F6421170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E0C6DFD-55B8-47AE-AA23-42E3A347C4E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659C03C8-9DB2-4F37-B152-AA1B5B2FD1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5EBE8B3-3668-4537-BF6F-9450CF4A4801}"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1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7C793C44-BB62-47A3-A4E9-986D4D1F558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FA155700-DAE4-48E3-8D28-7696DA66CC8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225615AE-F53D-498A-8498-4D942E0969D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C505B0C8-C0AB-4826-95D7-91A07F81B07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2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60006A30-CB5F-43B0-9B89-5804B3A2480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03196365-1430-4BB7-B467-C85C441771A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964565DE-4F5E-44AD-A488-89CFDA952F6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CB48174E-727C-42AC-AB45-0C836AA821D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10A6EEA6-AF5A-431D-994C-1870B892505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A0EB8DF9-3EA8-41C9-B970-51789EB2A4C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25F89FC5-A15E-4F0C-8B13-E23D2C6901E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2E7B5C9A-2485-4AB4-AF07-C4D5A575725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5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9A423856-AA96-49C3-B0D5-9590ACEBB75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BC6D4D0-94FB-44D8-8E0C-087F51AA28C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C691A60-7828-499C-B4B4-593D35DD7DC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241B2D2-4073-424E-9268-5BEADE3760DD}"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6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72D86D-007C-4806-A178-575EA241B4F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9434C9E-C8EC-4B6A-89B3-F7CC2489746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2F6F101-1419-4572-B0A8-C23648E169B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539ABF-0F13-4748-BCCF-84A2F60701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63B933-CE08-4CEA-858C-B2DF56AFA4E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778DC7-6269-46F6-8668-31E579700E6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CDF8DA1-7F48-4DA5-8413-8D84B00C288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61B166B-B4BA-4D6B-A601-1F64F95AD95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D518273-A7C1-47F8-A405-2EFB4E7E655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970FB8A-01C1-438E-851A-2DD24938699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E77FD60-41F1-4429-8804-B70C0625CC3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6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8310546-A6C9-4C91-B3E0-3EAD0693A4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62F6415-B6B6-4313-ABE0-7BC0EC701FD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8166D2F-3EF4-4286-AA13-FCE7D0A6EE8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74359D5-7776-4C59-B929-CA3F8E6413E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76C3B24-2DE8-4610-A1D2-C93CC2CF7CE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98B1381-AD22-4FD9-8FE0-435D9A7217E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3B763A2-C244-4426-AC3F-FE56FC5B8E6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FFA664B-D49C-48FA-8FFD-097A01FD2E9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A581584-59A6-4B20-A43B-378830823A3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0A39B95-D3F4-45A6-BF01-3A57D386076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E02FE39-9964-45DC-AB4D-5CB0FF95442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8337C44-B959-47CB-A99F-F5E87821AF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6BA3C38-FC3A-4EB8-96D6-3AB9B5DF374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F44D3D0-D2FD-4DBD-8A07-2CF5D6EC54B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809A21F-F2EB-4256-9DAB-B2123C5C798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9FD8946-1CF4-42AC-94C8-444CA528D70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2935321-66D3-4CEA-BFE0-F2E24BAFD1B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917848E-F751-4074-A841-5C119216F17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7AD77AB-79B6-45D5-8458-202C55CCEE5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00CD112-1A48-466F-9F3C-3A8CC581F4A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3203DAB-6680-4D69-8503-EE06EE4E546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24B8EA6-64EA-48CE-B5B6-27AA8F8E883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3622141-AFEB-497D-B224-C30C18039F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A61AA70-BDF1-4F5D-8725-CA152D3CB3A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45A0887-1605-4450-A653-D5FE1CECA1C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1DF0269-73B2-4883-B281-0C4F738045E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53FA742-711E-4F9F-9B2D-1559B913072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D236B89-C1B4-49EC-9D8B-2AC3DFF8713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C7FC006-60C0-4487-B848-21E9CA28B7E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D3B966E-A786-43F4-88C5-8FCA3E26D9E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7DE68E2-B806-4B4E-BE82-4DE05C11CAF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E4A3C46-334C-4B65-8363-2A471B4CDA2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3DA72B0-9715-4D91-95BF-024147D05AF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26EC92-1CA0-46B7-92A2-75971DC2B2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794E196-147B-4EC7-B26D-855D07F4350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B3EF1B-07FB-4982-A524-5D19F32435A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F69E03-72A0-4325-BE4D-304D1924D30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6E6E631-D73D-4E6E-AE54-7B80891C173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0D7451F-074D-43F2-A0DE-9BD57D3D9DB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0F96C41-E776-4371-9DEF-B77F42A273A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2CF8077-0F1D-4D72-AFDE-CC96290E320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5D75F5B-60C0-49C9-8479-5B4284A3D2D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1BB55D0-938B-4C56-9144-FA8C03B9782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5974B8A-CF65-4A53-8E24-AB996885C38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C9F8418-2FEF-467B-9CFC-7635F7E65E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CCD70EF-D88F-4C83-8093-9B8817C4325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3D6E974-EAB5-4895-9CAF-DE6C29E4520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0A7ADDF-DBAC-4F1B-B6FB-888C1DF2614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CF1D799-795C-40AE-9955-BE6DF5970AD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B478876-4656-491B-92D2-79C167BD771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9AAC0D9-126C-4CCC-932F-481C1F67F69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265AA3A-A4A4-4BA4-AF02-5C0A519BC1C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8E01F93-62BF-43A0-A75C-D7D4EC75B6E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6D8AA577-0E23-4B05-ADC4-0A3BB319716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0BB346A3-3231-4FBA-81AA-59DC4CC768B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FF53D789-1CC3-4A78-9E19-E021EAC9DC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00808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 name="PlaceHolder 3"/>
          <p:cNvSpPr>
            <a:spLocks noGrp="1"/>
          </p:cNvSpPr>
          <p:nvPr>
            <p:ph type="sldNum" idx="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39EF6-A2B2-4882-BC28-28B905C48A4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4" name="PlaceHolder 4"/>
          <p:cNvSpPr>
            <a:spLocks noGrp="1"/>
          </p:cNvSpPr>
          <p:nvPr>
            <p:ph type="ftr" idx="2"/>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pic>
        <p:nvPicPr>
          <p:cNvPr id="5" name="Picture 10" descr="SeaDatacloud2017logo_low"/>
          <p:cNvPicPr/>
          <p:nvPr/>
        </p:nvPicPr>
        <p:blipFill>
          <a:blip r:embed="rId3"/>
          <a:stretch/>
        </p:blipFill>
        <p:spPr>
          <a:xfrm>
            <a:off x="611280" y="455760"/>
            <a:ext cx="13683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6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369" name="PlaceHolder 3"/>
          <p:cNvSpPr>
            <a:spLocks noGrp="1"/>
          </p:cNvSpPr>
          <p:nvPr>
            <p:ph type="ftr" idx="1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370" name="PlaceHolder 4"/>
          <p:cNvSpPr>
            <a:spLocks noGrp="1"/>
          </p:cNvSpPr>
          <p:nvPr>
            <p:ph type="sldNum" idx="1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FA985-4319-406B-8FA2-4EAEE3CED59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08" name="Picture 10" descr="SeaDatacloud2017logo_low"/>
          <p:cNvPicPr/>
          <p:nvPr/>
        </p:nvPicPr>
        <p:blipFill>
          <a:blip r:embed="rId3"/>
          <a:stretch/>
        </p:blipFill>
        <p:spPr>
          <a:xfrm>
            <a:off x="611280" y="455760"/>
            <a:ext cx="1368360" cy="596880"/>
          </a:xfrm>
          <a:prstGeom prst="rect">
            <a:avLst/>
          </a:prstGeom>
          <a:ln w="0">
            <a:noFill/>
          </a:ln>
        </p:spPr>
      </p:pic>
      <p:sp>
        <p:nvSpPr>
          <p:cNvPr id="4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1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11" name="PlaceHolder 3"/>
          <p:cNvSpPr>
            <a:spLocks noGrp="1"/>
          </p:cNvSpPr>
          <p:nvPr>
            <p:ph type="sldNum" idx="1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EA787-7D45-448B-8AA0-A43AAC2683B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12" name="PlaceHolder 4"/>
          <p:cNvSpPr>
            <a:spLocks noGrp="1"/>
          </p:cNvSpPr>
          <p:nvPr>
            <p:ph type="ftr" idx="2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5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51" name="PlaceHolder 3"/>
          <p:cNvSpPr>
            <a:spLocks noGrp="1"/>
          </p:cNvSpPr>
          <p:nvPr>
            <p:ph type="ftr" idx="2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452" name="PlaceHolder 4"/>
          <p:cNvSpPr>
            <a:spLocks noGrp="1"/>
          </p:cNvSpPr>
          <p:nvPr>
            <p:ph type="sldNum" idx="2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4AA1D-35E1-4835-87E4-195BCF4CD04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9"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90" name="Picture 10" descr="SeaDatacloud2017logo_low"/>
          <p:cNvPicPr/>
          <p:nvPr/>
        </p:nvPicPr>
        <p:blipFill>
          <a:blip r:embed="rId3"/>
          <a:stretch/>
        </p:blipFill>
        <p:spPr>
          <a:xfrm>
            <a:off x="611280" y="455760"/>
            <a:ext cx="1368360" cy="596880"/>
          </a:xfrm>
          <a:prstGeom prst="rect">
            <a:avLst/>
          </a:prstGeom>
          <a:ln w="0">
            <a:noFill/>
          </a:ln>
        </p:spPr>
      </p:pic>
      <p:sp>
        <p:nvSpPr>
          <p:cNvPr id="49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92"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93" name="PlaceHolder 3"/>
          <p:cNvSpPr>
            <a:spLocks noGrp="1"/>
          </p:cNvSpPr>
          <p:nvPr>
            <p:ph type="sldNum" idx="23"/>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6A87B-FBE3-4F5F-8C43-1B95974776D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94" name="PlaceHolder 4"/>
          <p:cNvSpPr>
            <a:spLocks noGrp="1"/>
          </p:cNvSpPr>
          <p:nvPr>
            <p:ph type="ftr" idx="24"/>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32"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533" name="PlaceHolder 3"/>
          <p:cNvSpPr>
            <a:spLocks noGrp="1"/>
          </p:cNvSpPr>
          <p:nvPr>
            <p:ph type="ftr" idx="25"/>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534" name="PlaceHolder 4"/>
          <p:cNvSpPr>
            <a:spLocks noGrp="1"/>
          </p:cNvSpPr>
          <p:nvPr>
            <p:ph type="sldNum" idx="26"/>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5ABBE-D04B-4B0E-9A16-32698F68F61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572" name="Picture 10" descr="SeaDatacloud2017logo_low"/>
          <p:cNvPicPr/>
          <p:nvPr/>
        </p:nvPicPr>
        <p:blipFill>
          <a:blip r:embed="rId3"/>
          <a:stretch/>
        </p:blipFill>
        <p:spPr>
          <a:xfrm>
            <a:off x="611280" y="455760"/>
            <a:ext cx="1368360" cy="596880"/>
          </a:xfrm>
          <a:prstGeom prst="rect">
            <a:avLst/>
          </a:prstGeom>
          <a:ln w="0">
            <a:noFill/>
          </a:ln>
        </p:spPr>
      </p:pic>
      <p:sp>
        <p:nvSpPr>
          <p:cNvPr id="57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7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575" name="PlaceHolder 3"/>
          <p:cNvSpPr>
            <a:spLocks noGrp="1"/>
          </p:cNvSpPr>
          <p:nvPr>
            <p:ph type="sldNum" idx="2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A07C8-8357-4B81-ABB7-B8D5F0468C03}"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576" name="PlaceHolder 4"/>
          <p:cNvSpPr>
            <a:spLocks noGrp="1"/>
          </p:cNvSpPr>
          <p:nvPr>
            <p:ph type="ftr" idx="2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1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15" name="PlaceHolder 3"/>
          <p:cNvSpPr>
            <a:spLocks noGrp="1"/>
          </p:cNvSpPr>
          <p:nvPr>
            <p:ph type="ftr" idx="2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16" name="PlaceHolder 4"/>
          <p:cNvSpPr>
            <a:spLocks noGrp="1"/>
          </p:cNvSpPr>
          <p:nvPr>
            <p:ph type="sldNum" idx="3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A79AD-4118-43F7-9261-0EADD7FC6854}"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654" name="Picture 10" descr="SeaDatacloud2017logo_low"/>
          <p:cNvPicPr/>
          <p:nvPr/>
        </p:nvPicPr>
        <p:blipFill>
          <a:blip r:embed="rId3"/>
          <a:stretch/>
        </p:blipFill>
        <p:spPr>
          <a:xfrm>
            <a:off x="611280" y="455760"/>
            <a:ext cx="1368360" cy="596880"/>
          </a:xfrm>
          <a:prstGeom prst="rect">
            <a:avLst/>
          </a:prstGeom>
          <a:ln w="0">
            <a:noFill/>
          </a:ln>
        </p:spPr>
      </p:pic>
      <p:sp>
        <p:nvSpPr>
          <p:cNvPr id="65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5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657" name="PlaceHolder 3"/>
          <p:cNvSpPr>
            <a:spLocks noGrp="1"/>
          </p:cNvSpPr>
          <p:nvPr>
            <p:ph type="sldNum" idx="3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021BA-12B8-46EA-A888-85B915CF40F4}"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658" name="PlaceHolder 4"/>
          <p:cNvSpPr>
            <a:spLocks noGrp="1"/>
          </p:cNvSpPr>
          <p:nvPr>
            <p:ph type="ftr" idx="3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9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97" name="PlaceHolder 3"/>
          <p:cNvSpPr>
            <a:spLocks noGrp="1"/>
          </p:cNvSpPr>
          <p:nvPr>
            <p:ph type="ftr" idx="3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98" name="PlaceHolder 4"/>
          <p:cNvSpPr>
            <a:spLocks noGrp="1"/>
          </p:cNvSpPr>
          <p:nvPr>
            <p:ph type="sldNum" idx="3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9C6A0-369E-429F-BBE7-953926A1FC2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736" name="Picture 10" descr="SeaDatacloud2017logo_low"/>
          <p:cNvPicPr/>
          <p:nvPr/>
        </p:nvPicPr>
        <p:blipFill>
          <a:blip r:embed="rId3"/>
          <a:stretch/>
        </p:blipFill>
        <p:spPr>
          <a:xfrm>
            <a:off x="611280" y="455760"/>
            <a:ext cx="1368360" cy="596880"/>
          </a:xfrm>
          <a:prstGeom prst="rect">
            <a:avLst/>
          </a:prstGeom>
          <a:ln w="0">
            <a:noFill/>
          </a:ln>
        </p:spPr>
      </p:pic>
      <p:sp>
        <p:nvSpPr>
          <p:cNvPr id="7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3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739" name="PlaceHolder 3"/>
          <p:cNvSpPr>
            <a:spLocks noGrp="1"/>
          </p:cNvSpPr>
          <p:nvPr>
            <p:ph type="sldNum" idx="3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E62623-7C8E-49FF-88E3-B294508EB2D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740" name="PlaceHolder 4"/>
          <p:cNvSpPr>
            <a:spLocks noGrp="1"/>
          </p:cNvSpPr>
          <p:nvPr>
            <p:ph type="ftr" idx="3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4" name="PlaceHolder 3"/>
          <p:cNvSpPr>
            <a:spLocks noGrp="1"/>
          </p:cNvSpPr>
          <p:nvPr>
            <p:ph type="ftr" idx="3"/>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DEA6E1-52A0-40D0-A39A-F79C7DE5F7B8}"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7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779" name="PlaceHolder 3"/>
          <p:cNvSpPr>
            <a:spLocks noGrp="1"/>
          </p:cNvSpPr>
          <p:nvPr>
            <p:ph type="ftr" idx="3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780" name="PlaceHolder 4"/>
          <p:cNvSpPr>
            <a:spLocks noGrp="1"/>
          </p:cNvSpPr>
          <p:nvPr>
            <p:ph type="sldNum" idx="3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C5D11-9FD7-43B4-9A23-0104DAA2DF8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818" name="Picture 10" descr="SeaDatacloud2017logo_low"/>
          <p:cNvPicPr/>
          <p:nvPr/>
        </p:nvPicPr>
        <p:blipFill>
          <a:blip r:embed="rId3"/>
          <a:stretch/>
        </p:blipFill>
        <p:spPr>
          <a:xfrm>
            <a:off x="611280" y="455760"/>
            <a:ext cx="1368360" cy="596880"/>
          </a:xfrm>
          <a:prstGeom prst="rect">
            <a:avLst/>
          </a:prstGeom>
          <a:ln w="0">
            <a:noFill/>
          </a:ln>
        </p:spPr>
      </p:pic>
      <p:sp>
        <p:nvSpPr>
          <p:cNvPr id="81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2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21" name="PlaceHolder 3"/>
          <p:cNvSpPr>
            <a:spLocks noGrp="1"/>
          </p:cNvSpPr>
          <p:nvPr>
            <p:ph type="sldNum" idx="3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F4F2E-59B5-4877-8C68-98EE898AC11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822" name="PlaceHolder 4"/>
          <p:cNvSpPr>
            <a:spLocks noGrp="1"/>
          </p:cNvSpPr>
          <p:nvPr>
            <p:ph type="ftr" idx="4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6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861" name="PlaceHolder 3"/>
          <p:cNvSpPr>
            <a:spLocks noGrp="1"/>
          </p:cNvSpPr>
          <p:nvPr>
            <p:ph type="ftr" idx="4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862" name="PlaceHolder 4"/>
          <p:cNvSpPr>
            <a:spLocks noGrp="1"/>
          </p:cNvSpPr>
          <p:nvPr>
            <p:ph type="sldNum" idx="4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DDB3D7-EFF3-4481-AFA1-B386C7EE3E6A}"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 Box 7"/>
          <p:cNvSpPr/>
          <p:nvPr/>
        </p:nvSpPr>
        <p:spPr>
          <a:xfrm>
            <a:off x="4684680" y="6021360"/>
            <a:ext cx="3919680" cy="731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8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5" name="PlaceHolder 3"/>
          <p:cNvSpPr>
            <a:spLocks noGrp="1"/>
          </p:cNvSpPr>
          <p:nvPr>
            <p:ph type="ftr" idx="5"/>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2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124" name="PlaceHolder 3"/>
          <p:cNvSpPr>
            <a:spLocks noGrp="1"/>
          </p:cNvSpPr>
          <p:nvPr>
            <p:ph type="ftr" idx="6"/>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162" name="Picture 10" descr="SeaDatacloud2017logo_low"/>
          <p:cNvPicPr/>
          <p:nvPr/>
        </p:nvPicPr>
        <p:blipFill>
          <a:blip r:embed="rId3"/>
          <a:stretch/>
        </p:blipFill>
        <p:spPr>
          <a:xfrm>
            <a:off x="611280" y="455760"/>
            <a:ext cx="1368360" cy="596880"/>
          </a:xfrm>
          <a:prstGeom prst="rect">
            <a:avLst/>
          </a:prstGeom>
          <a:ln w="0">
            <a:noFill/>
          </a:ln>
        </p:spPr>
      </p:pic>
      <p:sp>
        <p:nvSpPr>
          <p:cNvPr id="16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6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165" name="PlaceHolder 3"/>
          <p:cNvSpPr>
            <a:spLocks noGrp="1"/>
          </p:cNvSpPr>
          <p:nvPr>
            <p:ph type="sldNum" idx="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1B950-BE42-49A7-A960-3336875D91F9}"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166" name="PlaceHolder 4"/>
          <p:cNvSpPr>
            <a:spLocks noGrp="1"/>
          </p:cNvSpPr>
          <p:nvPr>
            <p:ph type="ftr" idx="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0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05" name="PlaceHolder 3"/>
          <p:cNvSpPr>
            <a:spLocks noGrp="1"/>
          </p:cNvSpPr>
          <p:nvPr>
            <p:ph type="ftr" idx="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06" name="PlaceHolder 4"/>
          <p:cNvSpPr>
            <a:spLocks noGrp="1"/>
          </p:cNvSpPr>
          <p:nvPr>
            <p:ph type="sldNum" idx="1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BE1B3-3CBE-4D8E-8ADE-7A69FFFD309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244" name="Picture 10" descr="SeaDatacloud2017logo_low"/>
          <p:cNvPicPr/>
          <p:nvPr/>
        </p:nvPicPr>
        <p:blipFill>
          <a:blip r:embed="rId3"/>
          <a:stretch/>
        </p:blipFill>
        <p:spPr>
          <a:xfrm>
            <a:off x="611280" y="455760"/>
            <a:ext cx="1368360" cy="596880"/>
          </a:xfrm>
          <a:prstGeom prst="rect">
            <a:avLst/>
          </a:prstGeom>
          <a:ln w="0">
            <a:noFill/>
          </a:ln>
        </p:spPr>
      </p:pic>
      <p:sp>
        <p:nvSpPr>
          <p:cNvPr id="24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4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47" name="PlaceHolder 3"/>
          <p:cNvSpPr>
            <a:spLocks noGrp="1"/>
          </p:cNvSpPr>
          <p:nvPr>
            <p:ph type="sldNum" idx="1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90B790-F8A8-4656-9E42-438C0BD6DFEA}"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248" name="PlaceHolder 4"/>
          <p:cNvSpPr>
            <a:spLocks noGrp="1"/>
          </p:cNvSpPr>
          <p:nvPr>
            <p:ph type="ftr" idx="1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8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87" name="PlaceHolder 3"/>
          <p:cNvSpPr>
            <a:spLocks noGrp="1"/>
          </p:cNvSpPr>
          <p:nvPr>
            <p:ph type="ftr" idx="1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88" name="PlaceHolder 4"/>
          <p:cNvSpPr>
            <a:spLocks noGrp="1"/>
          </p:cNvSpPr>
          <p:nvPr>
            <p:ph type="sldNum" idx="1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4E99E-9488-4B66-921F-5AA3A33C64C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326" name="Picture 10" descr="SeaDatacloud2017logo_low"/>
          <p:cNvPicPr/>
          <p:nvPr/>
        </p:nvPicPr>
        <p:blipFill>
          <a:blip r:embed="rId3"/>
          <a:stretch/>
        </p:blipFill>
        <p:spPr>
          <a:xfrm>
            <a:off x="611280" y="455760"/>
            <a:ext cx="1368360" cy="596880"/>
          </a:xfrm>
          <a:prstGeom prst="rect">
            <a:avLst/>
          </a:prstGeom>
          <a:ln w="0">
            <a:noFill/>
          </a:ln>
        </p:spPr>
      </p:pic>
      <p:sp>
        <p:nvSpPr>
          <p:cNvPr id="32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2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329" name="PlaceHolder 3"/>
          <p:cNvSpPr>
            <a:spLocks noGrp="1"/>
          </p:cNvSpPr>
          <p:nvPr>
            <p:ph type="sldNum" idx="1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CEF863-4F55-4BEF-B830-C89689FF065D}"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30" name="PlaceHolder 4"/>
          <p:cNvSpPr>
            <a:spLocks noGrp="1"/>
          </p:cNvSpPr>
          <p:nvPr>
            <p:ph type="ftr" idx="1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Rectangle 11"/>
          <p:cNvSpPr/>
          <p:nvPr/>
        </p:nvSpPr>
        <p:spPr>
          <a:xfrm>
            <a:off x="1403280" y="5808600"/>
            <a:ext cx="721692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0" name="PlaceHolder 1"/>
          <p:cNvSpPr>
            <a:spLocks noGrp="1"/>
          </p:cNvSpPr>
          <p:nvPr>
            <p:ph type="title"/>
          </p:nvPr>
        </p:nvSpPr>
        <p:spPr>
          <a:xfrm>
            <a:off x="2244240" y="3295440"/>
            <a:ext cx="477540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51a0"/>
                </a:solidFill>
                <a:latin typeface="Calibri Light"/>
              </a:rPr>
              <a:t>SeaDataNet AISBL</a:t>
            </a:r>
            <a:endParaRPr b="1" i="1" lang="en-US" sz="2400" spc="-1" strike="sngStrike" u="sng">
              <a:solidFill>
                <a:srgbClr val="ffffff"/>
              </a:solidFill>
              <a:uFillTx/>
              <a:latin typeface="Basic Sans"/>
            </a:endParaRPr>
          </a:p>
        </p:txBody>
      </p:sp>
      <p:sp>
        <p:nvSpPr>
          <p:cNvPr id="901" name="PlaceHolder 2"/>
          <p:cNvSpPr>
            <a:spLocks noGrp="1"/>
          </p:cNvSpPr>
          <p:nvPr>
            <p:ph type="subTitle"/>
          </p:nvPr>
        </p:nvSpPr>
        <p:spPr>
          <a:xfrm>
            <a:off x="2268000" y="4667040"/>
            <a:ext cx="4751640" cy="26172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551a0"/>
                </a:solidFill>
                <a:latin typeface="Calibri Light"/>
              </a:rPr>
              <a:t>Serge Scory, Chair</a:t>
            </a:r>
            <a:endParaRPr b="1" i="1" lang="en-US" sz="1700" spc="-1" strike="sngStrike" u="sng">
              <a:solidFill>
                <a:srgbClr val="ffffff"/>
              </a:solidFill>
              <a:uFillTx/>
              <a:latin typeface="Basic Sans"/>
            </a:endParaRPr>
          </a:p>
        </p:txBody>
      </p:sp>
      <p:pic>
        <p:nvPicPr>
          <p:cNvPr id="902" name="Picture 1" descr=""/>
          <p:cNvPicPr/>
          <p:nvPr/>
        </p:nvPicPr>
        <p:blipFill>
          <a:blip r:embed="rId2"/>
          <a:stretch/>
        </p:blipFill>
        <p:spPr>
          <a:xfrm>
            <a:off x="4932360" y="3213000"/>
            <a:ext cx="2651040" cy="12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tatus of the membership</a:t>
            </a:r>
            <a:endParaRPr b="1" i="1" lang="en-US" sz="4400" spc="-1" strike="sngStrike" u="sng">
              <a:solidFill>
                <a:srgbClr val="ffffff"/>
              </a:solidFill>
              <a:uFillTx/>
              <a:latin typeface="Basic Sans"/>
            </a:endParaRPr>
          </a:p>
        </p:txBody>
      </p:sp>
      <p:sp>
        <p:nvSpPr>
          <p:cNvPr id="938" name=""/>
          <p:cNvSpPr txBox="1"/>
          <p:nvPr/>
        </p:nvSpPr>
        <p:spPr>
          <a:xfrm>
            <a:off x="610920" y="1988640"/>
            <a:ext cx="453708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e full membe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ive organizations applied</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38 Potential “direct” members (Status June 2016)</a:t>
            </a:r>
            <a:endParaRPr b="1" i="1" lang="en-US" sz="2400" spc="-1" strike="sngStrike" u="sng">
              <a:solidFill>
                <a:srgbClr val="ffffff"/>
              </a:solidFill>
              <a:uFillTx/>
              <a:latin typeface="Basic Sans"/>
            </a:endParaRPr>
          </a:p>
        </p:txBody>
      </p:sp>
      <p:sp>
        <p:nvSpPr>
          <p:cNvPr id="93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E43C-4E32-4F3B-BA26-D30CC0849ABB}"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41" name="TextBox 5"/>
          <p:cNvSpPr/>
          <p:nvPr/>
        </p:nvSpPr>
        <p:spPr>
          <a:xfrm>
            <a:off x="5219640" y="1484280"/>
            <a:ext cx="3816360" cy="5269320"/>
          </a:xfrm>
          <a:prstGeom prst="rect">
            <a:avLst/>
          </a:prstGeom>
          <a:solidFill>
            <a:srgbClr val="ffffff"/>
          </a:soli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To: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c/o Serge Scory (Chair)</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oyal Belgian Institute of Natural Sciences</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ue Vautier 29</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1000 Brussels (Belgium)</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i="1" lang="en-US" sz="1000" spc="-1" strike="sngStrike" u="sng">
                <a:solidFill>
                  <a:srgbClr val="ffffff"/>
                </a:solidFill>
                <a:uFillTx/>
                <a:latin typeface="Basic Sans"/>
              </a:rPr>
              <a:t>To the Board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In agreement with Art. 7 of the statutes of SeaDataNet aisbl, stating that the signatories of the "SeaDatanet Exploitation Agreement" will become a full member by explicitely notifying to the association their willingness to become a member; considering further that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signed this agreeement in due time, </a:t>
            </a:r>
            <a:r>
              <a:rPr b="1" i="1" lang="en-US" sz="1000" spc="-1" strike="sngStrike" u="sng">
                <a:solidFill>
                  <a:srgbClr val="ffffff"/>
                </a:solidFill>
                <a:uFillTx/>
                <a:latin typeface="Basic Sans"/>
              </a:rPr>
              <a:t>[your Institution name] </a:t>
            </a:r>
            <a:r>
              <a:rPr b="1" i="1" lang="en-US" sz="1000" spc="-1" strike="sngStrike" u="sng">
                <a:solidFill>
                  <a:srgbClr val="ffffff"/>
                </a:solidFill>
                <a:uFillTx/>
                <a:latin typeface="Basic Sans"/>
              </a:rPr>
              <a:t>herewith notifies SeaDataNet aisbl of its willingness to become a full member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acknowledges that its membership will only become effective once its financial contribution to the functioning of the association ("annual fee", currently equal to 250,-€) will be available on the bank account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Furthermore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mandates</a:t>
            </a:r>
            <a:r>
              <a:rPr b="1" i="1" lang="en-US" sz="1000" spc="-1" strike="sngStrike" u="sng">
                <a:solidFill>
                  <a:srgbClr val="ffffff"/>
                </a:solidFill>
                <a:uFillTx/>
                <a:latin typeface="Basic Sans"/>
              </a:rPr>
              <a:t> Dr/Mrs/M. XXX (+full address)</a:t>
            </a:r>
            <a:r>
              <a:rPr b="1" i="1" lang="en-US" sz="1000" spc="-1" strike="sngStrike" u="sng">
                <a:solidFill>
                  <a:srgbClr val="ffffff"/>
                </a:solidFill>
                <a:uFillTx/>
                <a:latin typeface="Basic Sans"/>
              </a:rPr>
              <a:t> as its representative to the General Assembly of SeaDataNet aisbl and the follow-up of the activities of the association.</a:t>
            </a:r>
            <a:br>
              <a:rPr sz="1000"/>
            </a:b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Signatory name, title; date; stamp</a:t>
            </a:r>
            <a:endParaRPr b="1" i="1" lang="en-US" sz="1000" spc="-1" strike="sngStrike" u="sng">
              <a:solidFill>
                <a:srgbClr val="ffffff"/>
              </a:solidFill>
              <a:uFillTx/>
              <a:latin typeface="Basic Sans"/>
            </a:endParaRPr>
          </a:p>
        </p:txBody>
      </p:sp>
      <p:sp>
        <p:nvSpPr>
          <p:cNvPr id="942" name="TextBox 6"/>
          <p:cNvSpPr/>
          <p:nvPr/>
        </p:nvSpPr>
        <p:spPr>
          <a:xfrm>
            <a:off x="1835280" y="3882960"/>
            <a:ext cx="3241440" cy="1189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ffffff"/>
                </a:solidFill>
                <a:uFillTx/>
                <a:latin typeface="Calibri"/>
              </a:rPr>
              <a:t>We’ll send an email soon to the signatories of the exploitation agreement with a template of an application letter.</a:t>
            </a:r>
            <a:endParaRPr b="1" i="1" lang="en-US" sz="18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4"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elgiu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LG</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Georg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SU-DN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VLI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German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BSH</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ulgar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O_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AW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roat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F</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ce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R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Cypru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C-UC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Denmar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Aarhus_Universit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srae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L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CE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tal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G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Esto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S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N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in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ENE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France</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H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NGV</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0F42-7944-4DF9-8A2B-3376F184983A}"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8"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atv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HE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IO-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alt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U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ontenegr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B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love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B_MBS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etherland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IO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pai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E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orwa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TM-CSI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PA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wede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MH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GW</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uni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NST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rtuga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HPT</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Turke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ETU</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oma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MR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D291-5C9E-45D1-9FA9-0A4F355C0CEA}"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ontact: sdn-aisbl-board@seadatanet.org</a:t>
            </a:r>
            <a:endParaRPr b="1" i="1" lang="en-US" sz="4400" spc="-1" strike="sngStrike" u="sng">
              <a:solidFill>
                <a:srgbClr val="ffffff"/>
              </a:solidFill>
              <a:uFillTx/>
              <a:latin typeface="Basic Sans"/>
            </a:endParaRPr>
          </a:p>
        </p:txBody>
      </p:sp>
      <p:pic>
        <p:nvPicPr>
          <p:cNvPr id="952" name="Content Placeholder 5" descr=""/>
          <p:cNvPicPr/>
          <p:nvPr/>
        </p:nvPicPr>
        <p:blipFill>
          <a:blip r:embed="rId2"/>
          <a:stretch/>
        </p:blipFill>
        <p:spPr>
          <a:xfrm>
            <a:off x="611280" y="2182680"/>
            <a:ext cx="8064360" cy="3932280"/>
          </a:xfrm>
          <a:prstGeom prst="rect">
            <a:avLst/>
          </a:prstGeom>
          <a:ln w="0">
            <a:noFill/>
          </a:ln>
        </p:spPr>
      </p:pic>
      <p:sp>
        <p:nvSpPr>
          <p:cNvPr id="95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E6FC-BF38-4309-874B-E4E753757965}"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eaDataNet AISBL is established</a:t>
            </a:r>
            <a:endParaRPr b="1" i="1" lang="en-US" sz="4400" spc="-1" strike="sngStrike" u="sng">
              <a:solidFill>
                <a:srgbClr val="ffffff"/>
              </a:solidFill>
              <a:uFillTx/>
              <a:latin typeface="Basic Sans"/>
            </a:endParaRPr>
          </a:p>
        </p:txBody>
      </p:sp>
      <p:sp>
        <p:nvSpPr>
          <p:cNvPr id="904"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33471-B690-4996-A2AB-C70DFF0C7B68}"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05"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a:t>
            </a:r>
            <a:r>
              <a:rPr b="1" i="1" lang="en-US" sz="2000" spc="-1" strike="sngStrike" u="sng">
                <a:solidFill>
                  <a:srgbClr val="ffffff"/>
                </a:solidFill>
                <a:uFillTx/>
                <a:latin typeface="Calibri"/>
              </a:rPr>
              <a:t>AISBL”: Non-profit international organization under Belgian law</a:t>
            </a:r>
            <a:endParaRPr b="1" i="1" lang="en-US" sz="20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Several steps:</a:t>
            </a:r>
            <a:endParaRPr b="1" i="1" lang="en-US" sz="20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2 February 2019: Adoption of the statutes by the 2 founding members (IFREMER and RBINS) and first General Assembly</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3 April 2019: Signature of the Royal Decree</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09 May 2019: Publication in the Belgian official Gazette</a:t>
            </a:r>
            <a:endParaRPr b="1" i="1" lang="en-US" sz="1600" spc="-1" strike="sngStrike">
              <a:solidFill>
                <a:srgbClr val="ffffff"/>
              </a:solidFill>
              <a:latin typeface="Basic Sans"/>
            </a:endParaRPr>
          </a:p>
        </p:txBody>
      </p:sp>
      <p:pic>
        <p:nvPicPr>
          <p:cNvPr id="907" name="Picture 6" descr=""/>
          <p:cNvPicPr/>
          <p:nvPr/>
        </p:nvPicPr>
        <p:blipFill>
          <a:blip r:embed="rId2"/>
          <a:stretch/>
        </p:blipFill>
        <p:spPr>
          <a:xfrm>
            <a:off x="4284720" y="4149720"/>
            <a:ext cx="4281480" cy="2075040"/>
          </a:xfrm>
          <a:prstGeom prst="rect">
            <a:avLst/>
          </a:prstGeom>
          <a:ln w="0">
            <a:noFill/>
          </a:ln>
        </p:spPr>
      </p:pic>
      <p:pic>
        <p:nvPicPr>
          <p:cNvPr id="908" name="Picture 8" descr=""/>
          <p:cNvPicPr/>
          <p:nvPr/>
        </p:nvPicPr>
        <p:blipFill>
          <a:blip r:embed="rId3"/>
          <a:stretch/>
        </p:blipFill>
        <p:spPr>
          <a:xfrm>
            <a:off x="1476360" y="3933720"/>
            <a:ext cx="1913040" cy="19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0"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ccording to its </a:t>
            </a:r>
            <a:r>
              <a:rPr b="1" i="1" lang="en-US" sz="2400" spc="-1" strike="sngStrike" u="sng">
                <a:solidFill>
                  <a:srgbClr val="ffffff"/>
                </a:solidFill>
                <a:uFillTx/>
                <a:latin typeface="Calibri"/>
              </a:rPr>
              <a:t>statutes</a:t>
            </a:r>
            <a:r>
              <a:rPr b="1" i="1" lang="en-US" sz="2400" spc="-1" strike="sngStrike" u="sng">
                <a:solidFill>
                  <a:srgbClr val="ffffff"/>
                </a:solidFill>
                <a:uFillTx/>
                <a:latin typeface="Calibri"/>
              </a:rPr>
              <a:t> , </a:t>
            </a:r>
            <a:r>
              <a:rPr b="1" i="1" lang="en-US" sz="2400" spc="-1" strike="sngStrike" u="sng">
                <a:solidFill>
                  <a:srgbClr val="ffffff"/>
                </a:solidFill>
                <a:uFillTx/>
                <a:latin typeface="Calibri"/>
              </a:rPr>
              <a:t>the Organization, which does not seek financial gain, aims to work in the collective interest of its members to improve the quality and effectiveness in the management, the processing and the dissemination of oceanographic data at national, regional and global level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SeaDataNet is a light organization aiming mainly at promoting our common endeavours. It isn’t its purpose to take over, as it is now, the operational role of the various SeaDataNet partners</a:t>
            </a:r>
            <a:endParaRPr b="1" i="1" lang="en-US" sz="2400" spc="-1" strike="sngStrike" u="sng">
              <a:solidFill>
                <a:srgbClr val="ffffff"/>
              </a:solidFill>
              <a:uFillTx/>
              <a:latin typeface="Basic Sans"/>
            </a:endParaRPr>
          </a:p>
        </p:txBody>
      </p:sp>
      <p:sp>
        <p:nvSpPr>
          <p:cNvPr id="91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79B9-D4F1-440C-A5A0-4DF372A94DB5}"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4"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ore specifically the purpose of the Organization is:</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the SeaDataNet infrastructure, tools and services and the development of underpinning science and technology;</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Foster cooperation and coordination within its Members in the field of data management, processing and dissemination ;</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and coordinate the development of commonly available products and services; and</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Coordinate the contribution of the pan-European oceanographic data management community to the European Union initiatives for a better environmental status of the seas and oceans and for an improved marine knowledge in general.</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sngStrike" u="sng">
              <a:solidFill>
                <a:srgbClr val="ffffff"/>
              </a:solidFill>
              <a:uFillTx/>
              <a:latin typeface="Basic Sans"/>
            </a:endParaRPr>
          </a:p>
        </p:txBody>
      </p:sp>
      <p:sp>
        <p:nvSpPr>
          <p:cNvPr id="91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B5C4-41C3-4CDE-90E3-3B546A21C9A8}"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First actions</a:t>
            </a:r>
            <a:endParaRPr b="1" i="1" lang="en-US" sz="4400" spc="-1" strike="sngStrike" u="sng">
              <a:solidFill>
                <a:srgbClr val="ffffff"/>
              </a:solidFill>
              <a:uFillTx/>
              <a:latin typeface="Basic Sans"/>
            </a:endParaRPr>
          </a:p>
        </p:txBody>
      </p:sp>
      <p:sp>
        <p:nvSpPr>
          <p:cNvPr id="918"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s of the first General Assembly:</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signation of the Members of the Board</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not to set up a general secretariat</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to set the annual membership fee to 250€.</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doption of the Rules of Procedure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 bank account has been opened and the situation of the AISBL wrt to the VAT has been clarified.</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registered office of SeaDataNet AISBL is located at RBINS (where EuroGOOS AISBL will soon move.)</a:t>
            </a:r>
            <a:endParaRPr b="1" i="1" lang="en-US" sz="2400" spc="-1" strike="sngStrike" u="sng">
              <a:solidFill>
                <a:srgbClr val="ffffff"/>
              </a:solidFill>
              <a:uFillTx/>
              <a:latin typeface="Basic Sans"/>
            </a:endParaRPr>
          </a:p>
        </p:txBody>
      </p:sp>
      <p:sp>
        <p:nvSpPr>
          <p:cNvPr id="91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981B-CE0D-4123-AC6F-7EB8F31057F8}"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urrent composition of the Board</a:t>
            </a:r>
            <a:endParaRPr b="1" i="1" lang="en-US" sz="4400" spc="-1" strike="sngStrike" u="sng">
              <a:solidFill>
                <a:srgbClr val="ffffff"/>
              </a:solidFill>
              <a:uFillTx/>
              <a:latin typeface="Basic Sans"/>
            </a:endParaRPr>
          </a:p>
        </p:txBody>
      </p:sp>
      <p:sp>
        <p:nvSpPr>
          <p:cNvPr id="922"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Serge Scory (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Michèle Fichaut (Vice-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lessandra Giorgetti</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thanasia Iona</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Lesley Rickard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Dick Schaap</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y act as individuals (but we made sure that they have strong links with institutions responsible for key-elements of the SeaDataNet infrastructure).</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andates run up to the General Assembly of 2022, re-eligible.</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2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7654-D8A7-4BE6-AB03-FBD4602EDD02}"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Why SeaDataNet AISBL?</a:t>
            </a:r>
            <a:endParaRPr b="1" i="1" lang="en-US" sz="4400" spc="-1" strike="sngStrike" u="sng">
              <a:solidFill>
                <a:srgbClr val="ffffff"/>
              </a:solidFill>
              <a:uFillTx/>
              <a:latin typeface="Basic Sans"/>
            </a:endParaRPr>
          </a:p>
        </p:txBody>
      </p:sp>
      <p:sp>
        <p:nvSpPr>
          <p:cNvPr id="92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UE Commission wanted for a long time to be able to talk to “SeaDataNet” through a unique entity, not via Beneficiaries of project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is is also the case for other “éhigh level” bodies (ENVRI-BEERi, ESFRI,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We need to show that we are not only a project-based initiative and that there is a string will to support the sustainability of the infrastructure, its services and the delivery of high quality marine data through this channel.</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stronger the Organization, the stronger the message </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Wingdings"/>
                <a:ea typeface="Wingdings"/>
              </a:rPr>
              <a:t></a:t>
            </a:r>
            <a:r>
              <a:rPr b="1" i="1" lang="en-US" sz="2400" spc="-1" strike="sngStrike" u="sng">
                <a:solidFill>
                  <a:srgbClr val="ffffff"/>
                </a:solidFill>
                <a:uFillTx/>
                <a:latin typeface="Calibri"/>
              </a:rPr>
              <a:t> </a:t>
            </a:r>
            <a:r>
              <a:rPr b="1" i="1" lang="en-US" sz="2400" spc="-1" strike="sngStrike" u="sng">
                <a:solidFill>
                  <a:srgbClr val="ffffff"/>
                </a:solidFill>
                <a:uFillTx/>
                <a:latin typeface="Calibri"/>
              </a:rPr>
              <a:t>become a member!</a:t>
            </a:r>
            <a:endParaRPr b="1" i="1" lang="en-US" sz="2400" spc="-1" strike="sngStrike" u="sng">
              <a:solidFill>
                <a:srgbClr val="ffffff"/>
              </a:solidFill>
              <a:uFillTx/>
              <a:latin typeface="Basic Sans"/>
            </a:endParaRPr>
          </a:p>
        </p:txBody>
      </p:sp>
      <p:sp>
        <p:nvSpPr>
          <p:cNvPr id="927"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30B5-5BD6-40A3-B2D2-65B217077387}"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8"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will the membership fee used?</a:t>
            </a:r>
            <a:endParaRPr b="1" i="1" lang="en-US" sz="4400" spc="-1" strike="sngStrike" u="sng">
              <a:solidFill>
                <a:srgbClr val="ffffff"/>
              </a:solidFill>
              <a:uFillTx/>
              <a:latin typeface="Basic Sans"/>
            </a:endParaRPr>
          </a:p>
        </p:txBody>
      </p:sp>
      <p:sp>
        <p:nvSpPr>
          <p:cNvPr id="930"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No other income foreseen for the moment</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membership fees will mainly be used to cover</a:t>
            </a:r>
            <a:endParaRPr b="1" i="1" lang="en-US" sz="24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establishment costs (~1500€)</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administrative support for the official accounting</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some operational costs (stamps…)</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promotional expenses (after </a:t>
            </a:r>
            <a:r>
              <a:rPr b="1" i="1" lang="en-US" sz="2400" spc="-1" strike="sngStrike">
                <a:solidFill>
                  <a:srgbClr val="ffffff"/>
                </a:solidFill>
                <a:latin typeface="Calibri"/>
              </a:rPr>
              <a:t>SeaDataCloud</a:t>
            </a:r>
            <a:r>
              <a:rPr b="1" i="1" lang="en-US" sz="2400" spc="-1" strike="sngStrike">
                <a:solidFill>
                  <a:srgbClr val="ffffff"/>
                </a:solidFill>
                <a:latin typeface="Calibri"/>
              </a:rPr>
              <a:t>)</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a:t>
            </a:r>
            <a:endParaRPr b="1" i="1" lang="en-US" sz="2400" spc="-1" strike="sngStrike">
              <a:solidFill>
                <a:srgbClr val="ffffff"/>
              </a:solidFill>
              <a:latin typeface="Basic Sans"/>
            </a:endParaRPr>
          </a:p>
        </p:txBody>
      </p:sp>
      <p:sp>
        <p:nvSpPr>
          <p:cNvPr id="93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F978B-EA7C-4C3F-A683-F22A0F1AB266}"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to become a member?</a:t>
            </a:r>
            <a:endParaRPr b="1" i="1" lang="en-US" sz="4400" spc="-1" strike="sngStrike" u="sng">
              <a:solidFill>
                <a:srgbClr val="ffffff"/>
              </a:solidFill>
              <a:uFillTx/>
              <a:latin typeface="Basic Sans"/>
            </a:endParaRPr>
          </a:p>
        </p:txBody>
      </p:sp>
      <p:sp>
        <p:nvSpPr>
          <p:cNvPr id="934"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signed the “SeaDataNet Exploitation Agreement” at the end of the SeaDataNet 2 project will be automatically admitted as a Member upon notification of their written request for affiliation addressed to the Organization (sdn-aisbl-board@seadatanet.org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didn’t sign the “SeaDataNet Exploitation Agreement” must be admitted by the General Meeting.</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ly organizations can become member, no individuals.</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ull membership is granted once the annual membership fee is paid to the organization.</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3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E59D-5778-49A0-9485-4F79F0E5D435}"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ele FICHAUT, Ifremer Brest PDG-IMN-IDM-SISME</dc:creator>
  <dc:description/>
  <dc:language>en-US</dc:language>
  <cp:lastModifiedBy/>
  <cp:revision>0</cp:revision>
  <dc:subject/>
  <dc:title>Présentation PowerPoint</dc:title>
</cp:coreProperties>
</file>