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B38A55C-CD9C-45C5-8BF6-7421627A41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DC77E6D-FDD2-42B1-9BB1-9FECFE85E91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1D720D2C-77FA-48BD-A297-D25549BB810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BF30F5DE-9FE1-4ED3-A87B-8F41427F71A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B8580433-0F66-4BBC-A23F-96620113263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3A1ADD41-E1EF-4CB8-B677-623A20DADE4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3B06F980-7637-4B71-8C29-19AF560AA23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A326380D-E376-4253-9B44-3979CB43CA0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525C76DB-BD3D-4D8B-82B2-37A1D08E910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C133328D-0306-427C-92F6-C9027E062BE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2D503303-D6D3-42DF-829F-A0E75F2AD4E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07D278-91F3-4E98-B96D-D622F90114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84D7AD9-CCCC-426B-A456-8437F825760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6A2948-68D2-4E28-8844-69314C7C894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9639D5-B8EF-441C-B650-0BF2823D417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F08514-13BA-4102-A920-3942AA52673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A5FC1C-96B2-431D-9199-EE19F51D56D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60103F-6F57-4D0B-B520-630F2DDD9C5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B6CB8F-5A0E-48AF-93D3-AFC747EE3C9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716F4B-BCD7-49F6-B426-7256269A0D3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AA856D-959C-4EB9-A593-2845DDE0E32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04898C-E867-428A-B6BF-B4912A7CB32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7E87D9-066B-4D94-BEC1-416309A494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99ECEED-8DF2-4E0B-86AB-C437FFE844A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0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F3753A-0E8E-4086-8EBA-B3CAB26CC31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872CD404-3DAC-4290-9F95-87B82BD5478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74700BA3-8048-4D60-8907-0D4625364EA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297794CC-F5BF-4A96-AE5E-470BCF42FE6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580F2560-AEEC-409D-80B3-36B3627B9AF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2C9A525C-AEB2-45A1-B20E-606E18ED38D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A3E6AEAC-152C-45EC-8128-152FD4D2A22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A61B9571-C2C6-4590-910E-46855711E7F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C7832841-6741-457A-8C38-A51FDCF90BB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9AC44E2A-3AA4-42A1-962C-70784A2E5C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E0F646E-7A8D-4ED0-8BE2-B334087D492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3E1D024D-ECE5-4B63-829B-95F87BBEA54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3816DF8D-87E4-4396-86D6-17C049AB50A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4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58AC74B0-0834-4EC6-8949-D1639458D2C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DBE4C48-A225-4389-B4A6-71CFDF05DAB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2274829-7B44-4F78-BBAE-59429E2C5D8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FF9B342-BDC7-490D-843D-761E10AF6D1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5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0AB1824-232D-4315-A266-DF467C6DB00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AE117C2-9823-4E3B-B816-F7C0AEDE6DF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7CBA9D7-C9A9-43B2-BB80-44246AD4860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1F7C5E7-4267-4B25-8FD6-49B9DF1C46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037321-4F32-45BA-B4C7-3C33EA79D61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FF5A09F-7E01-4185-9FD3-5F496C3C495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7C52D44-C74C-4A98-BC13-3205EDE6F27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649C7AC-C84B-4815-9121-8E32EBA9FD3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8F0547F-17FF-40A1-94FA-D760998B700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8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52C86E2-1CF0-4AC0-A6E9-15ED84988F8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C6E73044-65A0-47A8-88F9-2198AF7F52B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0BA4F2E-6CCD-4E7F-B7DA-8981D0C0F80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C8FABD2-493B-49D0-8016-885F1FB787B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C834FA92-0C6A-4BAE-96FA-1836ABE99FC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75279ED-5CCF-4E68-B0B2-F47F2DA909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CDD9C69-C9BD-49A3-A268-5AE407FDDEB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2590895-01AE-40B1-98AC-1C4DFDC3B2B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F2B71F3-BC44-4806-A873-541E96B4A1E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16B8997-704A-4FF3-9905-01A1E6BECB8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C9CE7BF-DB39-419B-9FE1-A212DEE1ED2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7EEA7F3-03F1-4EB6-90A6-3C62D6C2FD1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C1A88F67-CCBD-4B88-B7A0-54C370AF112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3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B725162D-9380-4FF8-94A2-C04AEA33029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9CB35A5-0D5B-4B1F-80C2-63F08161D6B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56C1804-FA75-404D-A5B1-549E5897EF2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D4D3F90-0E42-4AF9-8699-20AED86361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339D882-5C99-42B8-AA6B-2873C25CDBFF}"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AA3CBD4-F580-4583-A9CF-BE4D5F0B1F0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293FA17-C4D9-4D50-966B-B31D12B8EEB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2827C92-9D04-405B-9270-4E96E56DE99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6ECF701-3573-47E8-96F2-38F5B08E5F5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0EF7C39-4660-49CF-B323-AA45E6EFB1C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BD76C55-9BDC-4D34-BC8F-F21194FDB06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B112578-DF2A-42D2-88C3-343A1DB8E80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9D44421-D956-43E0-81E5-3C4F5EF7D10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93CBAD4-424A-4213-8BE4-0F3E1DFAB2B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9DD22E61-BAE2-4FA0-B4CB-5F2D131D31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C5E94BA-2F7F-412E-BBA7-AF67ABBABA6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7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34E72FD6-BCB4-4561-8114-C333578CF66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9BB19CCA-6279-4D03-B595-30DA187F221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C57EE622-0558-4AFE-AE7B-3D7D6F45A32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200F5185-40E7-4E94-9DC0-FEBF271239E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2C180F9C-069D-43B4-968E-839FECB9B69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922916CA-592B-44BA-B41F-0966FE48073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472F0077-3713-423B-AB2C-EA5CEBF5EC8B}"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8C57CB38-FFD5-4D38-A14D-205D02A9138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FC658D07-61AB-4E7C-A9EA-9B74529E515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EF3B3940-AA31-43AA-85BC-CEBFFAAE51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2E7AA9F-2C08-4AA1-BA9D-85A8C4A08A2F}"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ED1C1645-2374-45F7-AF42-F64CF333BEF9}"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E23199B-C91F-4EFD-967E-C50E069E509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1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B88546-3B5D-4000-AB00-D01659CF745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826C4B-A4AD-4D8D-8DB6-B343817478A7}"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F2372E-D167-4045-B1EE-21D29CF9A08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33447B-9594-4F92-A374-3C7970F425E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B3E6CD-1BF7-4185-AB68-52067151C069}"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AB077A-BC63-418D-B8E9-8B44F980FECB}"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8B84D0-1A43-42A5-8C12-1E9D77699A8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35D861-2E86-4D05-BAE6-DEA85D8500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B774DB-C18D-4D06-BFCB-1E4EB5FDDAA9}"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687FC4-ED1F-4DF2-800D-66D8742576A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77F7370-D253-4119-8B6F-9CF9F1D4806B}"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9B55E34-DCFD-4D6B-ADAB-36F09B10643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0B32DA8C-4A90-4CD9-A951-A5729E308EF8}"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C3A6AE26-5EAD-4A45-9F0B-7A04D8EA406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98201300-CA2E-4706-BE43-17D35A71187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E1E00A2D-4B3C-4B1A-B1D0-33F648B713E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34AA03B0-8B9D-4394-A613-43F29465C66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E4BCCC8D-8981-4143-93E6-C1129C9B901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64E179E2-392A-485F-A152-392C3F4449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666D4F4-6DDC-47E2-A07B-530E9492DA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729D38-1266-4FE2-BD46-207AE01B3A1E}"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BE7F0201-1CFE-472B-85EA-8C8A7140902C}"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22FA332B-7CD6-4318-BC12-A80259EAD08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0AACF26A-EAE8-4ABD-8D8E-6EBEB21471F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ABA0D710-8D27-4166-AD8A-DEB7A09368B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FFA8F203-0611-48EA-AEF7-E09D8AA1083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DA50152-C2CB-41EA-A788-141E1FDC2C8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84378B7-5067-4BB9-87CA-1C16A8BD6C7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F72243C-120A-4BC4-8437-DA006EDEEE94}"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0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2F94CDE-9C3B-4FF9-AB87-DD622C16F86F}"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C8E4A41-0A49-45D6-936D-59AAD2A73E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6159AAE-3DC2-4AD9-BF32-F22C49DCC916}"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D6C26F2-3936-442C-A306-8F4D8138D16B}"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F65CC2A-BDFE-4DC0-B766-D46276B0980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131507B-9C39-4440-B507-2CCB6428A9CD}"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940A27A-817A-4F40-A4F6-8A2ED19F691D}"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F5C7F28-2BF0-471E-8668-7A64C94EE63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52600E11-8AB0-4CB3-9646-784E7CC51A0E}"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E9DEE684-4B95-4EFC-8C3F-435A8D9FE72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E16A4504-667C-483B-B662-186C847974C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2C8AA118-0763-4A55-A942-A900BE21E40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CFAA8164-D2B4-402D-957E-943F4228A0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17D426F-9D07-4364-AD57-29462E4A59B5}"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67563DF1-37CE-4D57-851E-9F926F1F532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2F6BE918-BF50-4105-9946-8EB4B164D5B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72808996-12AE-48A4-A0CE-97777435E3E5}"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0D4EC9A2-8239-403B-A7CC-7FE1F624DC1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08D0ACBE-B47F-4452-A396-1D62F2F2C03B}"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505013A2-7C38-4F34-81FF-B404D34A6A5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559C91F7-7D97-4EC6-A1D7-A6C506C5814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65A4F8D2-1904-4AF9-B6F1-1D703996C5C5}"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7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BDE364A2-0844-486E-AE21-E99555B95380}"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A3251269-F323-4CF9-A195-7E834976A6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2FEA7B0-1E9B-4FE8-A7CC-CBF422D19E36}"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44ED11E-3689-4107-A47E-86DBAAB74DB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4F3EF6E-8D88-4CEC-AF58-A4E14E6B9CA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939C2B0B-6853-4994-BE24-D38E91421C7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38AA739E-1E0C-4746-9563-212E4DA6E70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21DC9A78-F03D-4322-83BA-E51AAB2EFCC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BB0298E-4480-4423-A983-D70C0300561F}"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F54DF41-C902-46DE-AF44-B08C7C82667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34A0C61-8C80-4051-A9C8-FCCF4E4D80D7}"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837BEB4-0A05-48EC-9FCE-0DB6F7F8C4C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370BBC6D-6B96-4784-AFBA-26CF454EE5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FCCC071-ED47-480F-B9C1-4D488D51667F}"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1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F7725CE3-5147-4E64-94A3-6F512CECD55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D4E8A42C-3AB5-4E6E-8DDB-9B2A0688132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D789C454-C65E-48A5-8D66-E312E77937D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96B11269-C94B-471F-A68A-01D91B3744EB}"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2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D33EE6CB-8365-482D-A28D-0E918EC0709B}"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8C37FEE6-FB4B-4BFB-96E1-17B44419DFA5}"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D1A3A5DB-9F60-44DF-A655-BD58FC29678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EAFADB9F-A157-422F-9F9F-DB682CB65E9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BD6886EE-E6F5-446E-9872-94AABA7AA69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0375B39D-9B55-47A3-88CC-AA3C0E6C9CE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AAC08FAB-8FB6-4B6B-A5C2-9D7D9CF569C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2C6C710A-F38F-400D-8DCF-2955CE02078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5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EE961002-2BAF-4A10-A94B-A55DC15A7523}"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4D2768B-699E-462E-840F-743AA6F09804}"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3376491-5061-45B8-BDBD-B1815B0C43D2}"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3A4F9E7-BF85-4D0D-8228-4C3BA4ACBAC9}"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6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98AD6F9-DD90-4E07-AEA9-D617D1E471E8}"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FC4E346-1AF5-4F35-A264-C715B0C41093}"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956D55D-971B-422C-8B9C-ADE9CE92A538}"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C03000-B6E2-4FB2-8B89-FF305717222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FCEA27A-0205-4E00-B24A-39A8EACFFCA1}"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A7028E-4CE2-4BF8-A31F-2ACAE34E5D06}"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FE0C28F-FAC5-4506-83D2-6686953EB78B}"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B188EF4-4CED-41F4-8E0D-483332D131B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92817FE-7B18-4F68-A558-5DF4A609A9F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E2101F5-430D-409A-B9D3-3D4C9189D93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FBB7137-A4E9-4BA8-B583-01FD52B59ED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6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5278738-1251-4067-8F23-2358DFF8BE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9CD64D7-FF4B-4C8F-BF7F-660EB37B446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D76716F-D8FD-482E-99E2-5118EA4F1CF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E97FCC5-2E92-410F-B4AC-FE35C32A960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90001FB-5562-43F0-A6BB-4014926710C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A5DE02E-8B27-4F41-A0A5-1458841E009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F589EDC-7F02-41B2-9F28-80D9E67F235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4F54FD8-5898-483F-AFFC-EAFDC84EBA1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85CDF87-67C0-4588-B0D8-4B3D8D88830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6DF71CA-92E6-4689-81E0-4773F8278AD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F8CDA62-9FA3-4749-8EBE-DC96D2F42D7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4861B5C-7D82-4EA1-BDF8-BD90DDC6B9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D7F5984-D95B-4A77-B1A7-EA1A83F1F00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FB06B9B-1952-4942-8F1A-70EF4588439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70C7697-519B-415F-9DE0-B2A2AA660B1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5C6E835-57E7-4E99-A236-84E9BB4707A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A1B33F4-C3C4-4F40-A606-FDF2149E3B1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83E819C-0B74-4D9A-B6A7-0E0AD686AD0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31B32A8-3CA5-4FD6-94BB-04930C422FE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324ACA8-ED73-410C-BDF3-F0240ABC8DF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63D6B25-608A-4A84-A144-4E8C2B117A1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EA04CAE-0A7A-4725-8F65-8225F61EA53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D6F7B24-8EC1-4A7A-9671-E4DA0F2DA5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0573FCD-A5BE-4414-BC60-E25B1D185EC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D602D03-75BF-448E-AF26-F1F4F8D1D97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563D329-A23B-4DD6-BDC2-2A068B5E08A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EF7E38E-1419-42B5-9301-A680919CA2C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688024C-370B-49E6-9F29-BA4DAEC83F3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3D14785-6CA2-4329-ABC3-D9119D3388A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055A77A-C0B0-4706-9B23-B5120E88B12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FDEC33B-3AC8-4C97-A76E-FD8005E1F1D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566521A-6779-4257-B184-9819D431B05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C5622DE-5996-48DC-BA7B-ADE4FA7B94B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5D6A6C3-69F0-4643-8756-7761092E38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67AF3A0-13F0-4135-B734-EBC26E7FCA7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57E5F53-2807-4463-AF01-3CD7BD52D73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10EE7E4-3064-4770-AA6B-76B3493EF0C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4EBFD2F-CE5E-46D6-80D3-A4903AA1FC4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ACD2675-CA6D-4EAF-A2E1-252C2E52EA6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F1C22FF-2A52-4B7B-A021-86DFEF6B29D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2DCC12A-2E78-47D8-A19B-353E417DAAE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B590A1E-9BC4-44F2-9E6D-B69F39195B2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5FC44F6-1E38-4F94-AC58-28C64C0886C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9AF8248-1950-4090-B679-3F8823682CF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7716E3F-ABFF-4AB8-B988-71C29C467A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AD81801-414C-42E8-B587-9B6B4461D4B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11161FF-97F7-4874-AC39-3D0AEAB00FC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32902B6-F73D-4E7B-8A53-CDD9C7A5235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0AC9765-DA9F-40D2-B4CB-0E86ECD9970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F153814-9D4D-4FF0-A1B6-34407C32D3E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FAEEC19-777C-468A-BF7A-9C0E7DBA10E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7774141-1A28-4394-86FA-DAE827A524D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4CB297D-C636-4372-A025-58D684E34AB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5E7AAA3E-94A7-4B6E-8D00-ECA8E9C92B7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5EF5F0A7-95CC-4782-BEF1-0E384E61C15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92030F78-7251-4AF2-8AC3-E54C996BA7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00808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 name="PlaceHolder 3"/>
          <p:cNvSpPr>
            <a:spLocks noGrp="1"/>
          </p:cNvSpPr>
          <p:nvPr>
            <p:ph type="sldNum" idx="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EC289A-1519-4FD0-B627-CA18DABDBB97}"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4" name="PlaceHolder 4"/>
          <p:cNvSpPr>
            <a:spLocks noGrp="1"/>
          </p:cNvSpPr>
          <p:nvPr>
            <p:ph type="ftr" idx="2"/>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pic>
        <p:nvPicPr>
          <p:cNvPr id="5" name="Picture 10" descr="SeaDatacloud2017logo_low"/>
          <p:cNvPicPr/>
          <p:nvPr/>
        </p:nvPicPr>
        <p:blipFill>
          <a:blip r:embed="rId3"/>
          <a:stretch/>
        </p:blipFill>
        <p:spPr>
          <a:xfrm>
            <a:off x="611280" y="455760"/>
            <a:ext cx="13683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6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369" name="PlaceHolder 3"/>
          <p:cNvSpPr>
            <a:spLocks noGrp="1"/>
          </p:cNvSpPr>
          <p:nvPr>
            <p:ph type="ftr" idx="1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370" name="PlaceHolder 4"/>
          <p:cNvSpPr>
            <a:spLocks noGrp="1"/>
          </p:cNvSpPr>
          <p:nvPr>
            <p:ph type="sldNum" idx="1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8CEF5-2829-40E5-8E08-3BD6E5AD240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08" name="Picture 10" descr="SeaDatacloud2017logo_low"/>
          <p:cNvPicPr/>
          <p:nvPr/>
        </p:nvPicPr>
        <p:blipFill>
          <a:blip r:embed="rId3"/>
          <a:stretch/>
        </p:blipFill>
        <p:spPr>
          <a:xfrm>
            <a:off x="611280" y="455760"/>
            <a:ext cx="1368360" cy="596880"/>
          </a:xfrm>
          <a:prstGeom prst="rect">
            <a:avLst/>
          </a:prstGeom>
          <a:ln w="0">
            <a:noFill/>
          </a:ln>
        </p:spPr>
      </p:pic>
      <p:sp>
        <p:nvSpPr>
          <p:cNvPr id="4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1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11" name="PlaceHolder 3"/>
          <p:cNvSpPr>
            <a:spLocks noGrp="1"/>
          </p:cNvSpPr>
          <p:nvPr>
            <p:ph type="sldNum" idx="1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6BBC91-A956-4F11-A814-31F292DA3AA7}"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12" name="PlaceHolder 4"/>
          <p:cNvSpPr>
            <a:spLocks noGrp="1"/>
          </p:cNvSpPr>
          <p:nvPr>
            <p:ph type="ftr" idx="2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5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51" name="PlaceHolder 3"/>
          <p:cNvSpPr>
            <a:spLocks noGrp="1"/>
          </p:cNvSpPr>
          <p:nvPr>
            <p:ph type="ftr" idx="2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452" name="PlaceHolder 4"/>
          <p:cNvSpPr>
            <a:spLocks noGrp="1"/>
          </p:cNvSpPr>
          <p:nvPr>
            <p:ph type="sldNum" idx="2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A54233-914B-41A0-ACE7-9E9F693CA84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9"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90" name="Picture 10" descr="SeaDatacloud2017logo_low"/>
          <p:cNvPicPr/>
          <p:nvPr/>
        </p:nvPicPr>
        <p:blipFill>
          <a:blip r:embed="rId3"/>
          <a:stretch/>
        </p:blipFill>
        <p:spPr>
          <a:xfrm>
            <a:off x="611280" y="455760"/>
            <a:ext cx="1368360" cy="596880"/>
          </a:xfrm>
          <a:prstGeom prst="rect">
            <a:avLst/>
          </a:prstGeom>
          <a:ln w="0">
            <a:noFill/>
          </a:ln>
        </p:spPr>
      </p:pic>
      <p:sp>
        <p:nvSpPr>
          <p:cNvPr id="49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92"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93" name="PlaceHolder 3"/>
          <p:cNvSpPr>
            <a:spLocks noGrp="1"/>
          </p:cNvSpPr>
          <p:nvPr>
            <p:ph type="sldNum" idx="23"/>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238651-B48E-4D89-BC71-D85AB1DD476C}"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94" name="PlaceHolder 4"/>
          <p:cNvSpPr>
            <a:spLocks noGrp="1"/>
          </p:cNvSpPr>
          <p:nvPr>
            <p:ph type="ftr" idx="24"/>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32"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533" name="PlaceHolder 3"/>
          <p:cNvSpPr>
            <a:spLocks noGrp="1"/>
          </p:cNvSpPr>
          <p:nvPr>
            <p:ph type="ftr" idx="25"/>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534" name="PlaceHolder 4"/>
          <p:cNvSpPr>
            <a:spLocks noGrp="1"/>
          </p:cNvSpPr>
          <p:nvPr>
            <p:ph type="sldNum" idx="26"/>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B8DC3-1A89-47A6-B24E-CD6D47BBCD9F}"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572" name="Picture 10" descr="SeaDatacloud2017logo_low"/>
          <p:cNvPicPr/>
          <p:nvPr/>
        </p:nvPicPr>
        <p:blipFill>
          <a:blip r:embed="rId3"/>
          <a:stretch/>
        </p:blipFill>
        <p:spPr>
          <a:xfrm>
            <a:off x="611280" y="455760"/>
            <a:ext cx="1368360" cy="596880"/>
          </a:xfrm>
          <a:prstGeom prst="rect">
            <a:avLst/>
          </a:prstGeom>
          <a:ln w="0">
            <a:noFill/>
          </a:ln>
        </p:spPr>
      </p:pic>
      <p:sp>
        <p:nvSpPr>
          <p:cNvPr id="57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7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575" name="PlaceHolder 3"/>
          <p:cNvSpPr>
            <a:spLocks noGrp="1"/>
          </p:cNvSpPr>
          <p:nvPr>
            <p:ph type="sldNum" idx="2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1054F-6C21-4850-A33B-F5157DB2C8A2}"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576" name="PlaceHolder 4"/>
          <p:cNvSpPr>
            <a:spLocks noGrp="1"/>
          </p:cNvSpPr>
          <p:nvPr>
            <p:ph type="ftr" idx="2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1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15" name="PlaceHolder 3"/>
          <p:cNvSpPr>
            <a:spLocks noGrp="1"/>
          </p:cNvSpPr>
          <p:nvPr>
            <p:ph type="ftr" idx="2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16" name="PlaceHolder 4"/>
          <p:cNvSpPr>
            <a:spLocks noGrp="1"/>
          </p:cNvSpPr>
          <p:nvPr>
            <p:ph type="sldNum" idx="3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753A3-3FBB-484C-A733-D8EE4BC2A3C8}"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654" name="Picture 10" descr="SeaDatacloud2017logo_low"/>
          <p:cNvPicPr/>
          <p:nvPr/>
        </p:nvPicPr>
        <p:blipFill>
          <a:blip r:embed="rId3"/>
          <a:stretch/>
        </p:blipFill>
        <p:spPr>
          <a:xfrm>
            <a:off x="611280" y="455760"/>
            <a:ext cx="1368360" cy="596880"/>
          </a:xfrm>
          <a:prstGeom prst="rect">
            <a:avLst/>
          </a:prstGeom>
          <a:ln w="0">
            <a:noFill/>
          </a:ln>
        </p:spPr>
      </p:pic>
      <p:sp>
        <p:nvSpPr>
          <p:cNvPr id="65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5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657" name="PlaceHolder 3"/>
          <p:cNvSpPr>
            <a:spLocks noGrp="1"/>
          </p:cNvSpPr>
          <p:nvPr>
            <p:ph type="sldNum" idx="3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DEC393-60B2-4696-A7D1-61DEB9CABB06}"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658" name="PlaceHolder 4"/>
          <p:cNvSpPr>
            <a:spLocks noGrp="1"/>
          </p:cNvSpPr>
          <p:nvPr>
            <p:ph type="ftr" idx="3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9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97" name="PlaceHolder 3"/>
          <p:cNvSpPr>
            <a:spLocks noGrp="1"/>
          </p:cNvSpPr>
          <p:nvPr>
            <p:ph type="ftr" idx="3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98" name="PlaceHolder 4"/>
          <p:cNvSpPr>
            <a:spLocks noGrp="1"/>
          </p:cNvSpPr>
          <p:nvPr>
            <p:ph type="sldNum" idx="3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E9AFE9-5AD0-4274-9057-D254DE305D58}"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736" name="Picture 10" descr="SeaDatacloud2017logo_low"/>
          <p:cNvPicPr/>
          <p:nvPr/>
        </p:nvPicPr>
        <p:blipFill>
          <a:blip r:embed="rId3"/>
          <a:stretch/>
        </p:blipFill>
        <p:spPr>
          <a:xfrm>
            <a:off x="611280" y="455760"/>
            <a:ext cx="1368360" cy="596880"/>
          </a:xfrm>
          <a:prstGeom prst="rect">
            <a:avLst/>
          </a:prstGeom>
          <a:ln w="0">
            <a:noFill/>
          </a:ln>
        </p:spPr>
      </p:pic>
      <p:sp>
        <p:nvSpPr>
          <p:cNvPr id="7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3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739" name="PlaceHolder 3"/>
          <p:cNvSpPr>
            <a:spLocks noGrp="1"/>
          </p:cNvSpPr>
          <p:nvPr>
            <p:ph type="sldNum" idx="3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64F7F0-F76A-49E8-8A3B-A4F74F0F49F5}"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740" name="PlaceHolder 4"/>
          <p:cNvSpPr>
            <a:spLocks noGrp="1"/>
          </p:cNvSpPr>
          <p:nvPr>
            <p:ph type="ftr" idx="3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4" name="PlaceHolder 3"/>
          <p:cNvSpPr>
            <a:spLocks noGrp="1"/>
          </p:cNvSpPr>
          <p:nvPr>
            <p:ph type="ftr" idx="3"/>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
        <p:nvSpPr>
          <p:cNvPr id="45" name="PlaceHolder 4"/>
          <p:cNvSpPr>
            <a:spLocks noGrp="1"/>
          </p:cNvSpPr>
          <p:nvPr>
            <p:ph type="sldNum" idx="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259ED8-BD50-4E4A-B4C8-A87FC32732B9}"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7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779" name="PlaceHolder 3"/>
          <p:cNvSpPr>
            <a:spLocks noGrp="1"/>
          </p:cNvSpPr>
          <p:nvPr>
            <p:ph type="ftr" idx="3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780" name="PlaceHolder 4"/>
          <p:cNvSpPr>
            <a:spLocks noGrp="1"/>
          </p:cNvSpPr>
          <p:nvPr>
            <p:ph type="sldNum" idx="3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53C515-7A11-4BBA-B939-F8DACEBBADCD}"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818" name="Picture 10" descr="SeaDatacloud2017logo_low"/>
          <p:cNvPicPr/>
          <p:nvPr/>
        </p:nvPicPr>
        <p:blipFill>
          <a:blip r:embed="rId3"/>
          <a:stretch/>
        </p:blipFill>
        <p:spPr>
          <a:xfrm>
            <a:off x="611280" y="455760"/>
            <a:ext cx="1368360" cy="596880"/>
          </a:xfrm>
          <a:prstGeom prst="rect">
            <a:avLst/>
          </a:prstGeom>
          <a:ln w="0">
            <a:noFill/>
          </a:ln>
        </p:spPr>
      </p:pic>
      <p:sp>
        <p:nvSpPr>
          <p:cNvPr id="81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2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21" name="PlaceHolder 3"/>
          <p:cNvSpPr>
            <a:spLocks noGrp="1"/>
          </p:cNvSpPr>
          <p:nvPr>
            <p:ph type="sldNum" idx="3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788DE3-05FF-48A8-AC1D-ECD4868CD0D0}"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822" name="PlaceHolder 4"/>
          <p:cNvSpPr>
            <a:spLocks noGrp="1"/>
          </p:cNvSpPr>
          <p:nvPr>
            <p:ph type="ftr" idx="4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6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861" name="PlaceHolder 3"/>
          <p:cNvSpPr>
            <a:spLocks noGrp="1"/>
          </p:cNvSpPr>
          <p:nvPr>
            <p:ph type="ftr" idx="4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862" name="PlaceHolder 4"/>
          <p:cNvSpPr>
            <a:spLocks noGrp="1"/>
          </p:cNvSpPr>
          <p:nvPr>
            <p:ph type="sldNum" idx="4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BABAAA-9B35-4737-9562-D2DF2DAF9015}"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Text Box 7"/>
          <p:cNvSpPr/>
          <p:nvPr/>
        </p:nvSpPr>
        <p:spPr>
          <a:xfrm>
            <a:off x="4684680" y="6021360"/>
            <a:ext cx="3919680" cy="731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8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5" name="PlaceHolder 3"/>
          <p:cNvSpPr>
            <a:spLocks noGrp="1"/>
          </p:cNvSpPr>
          <p:nvPr>
            <p:ph type="ftr" idx="5"/>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2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124" name="PlaceHolder 3"/>
          <p:cNvSpPr>
            <a:spLocks noGrp="1"/>
          </p:cNvSpPr>
          <p:nvPr>
            <p:ph type="ftr" idx="6"/>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162" name="Picture 10" descr="SeaDatacloud2017logo_low"/>
          <p:cNvPicPr/>
          <p:nvPr/>
        </p:nvPicPr>
        <p:blipFill>
          <a:blip r:embed="rId3"/>
          <a:stretch/>
        </p:blipFill>
        <p:spPr>
          <a:xfrm>
            <a:off x="611280" y="455760"/>
            <a:ext cx="1368360" cy="596880"/>
          </a:xfrm>
          <a:prstGeom prst="rect">
            <a:avLst/>
          </a:prstGeom>
          <a:ln w="0">
            <a:noFill/>
          </a:ln>
        </p:spPr>
      </p:pic>
      <p:sp>
        <p:nvSpPr>
          <p:cNvPr id="16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6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165" name="PlaceHolder 3"/>
          <p:cNvSpPr>
            <a:spLocks noGrp="1"/>
          </p:cNvSpPr>
          <p:nvPr>
            <p:ph type="sldNum" idx="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55825D-C8F2-4077-8ED2-1102CAE095D6}"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166" name="PlaceHolder 4"/>
          <p:cNvSpPr>
            <a:spLocks noGrp="1"/>
          </p:cNvSpPr>
          <p:nvPr>
            <p:ph type="ftr" idx="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0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05" name="PlaceHolder 3"/>
          <p:cNvSpPr>
            <a:spLocks noGrp="1"/>
          </p:cNvSpPr>
          <p:nvPr>
            <p:ph type="ftr" idx="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06" name="PlaceHolder 4"/>
          <p:cNvSpPr>
            <a:spLocks noGrp="1"/>
          </p:cNvSpPr>
          <p:nvPr>
            <p:ph type="sldNum" idx="1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59CD91-17DC-4A41-8D60-57877F04074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244" name="Picture 10" descr="SeaDatacloud2017logo_low"/>
          <p:cNvPicPr/>
          <p:nvPr/>
        </p:nvPicPr>
        <p:blipFill>
          <a:blip r:embed="rId3"/>
          <a:stretch/>
        </p:blipFill>
        <p:spPr>
          <a:xfrm>
            <a:off x="611280" y="455760"/>
            <a:ext cx="1368360" cy="596880"/>
          </a:xfrm>
          <a:prstGeom prst="rect">
            <a:avLst/>
          </a:prstGeom>
          <a:ln w="0">
            <a:noFill/>
          </a:ln>
        </p:spPr>
      </p:pic>
      <p:sp>
        <p:nvSpPr>
          <p:cNvPr id="24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4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47" name="PlaceHolder 3"/>
          <p:cNvSpPr>
            <a:spLocks noGrp="1"/>
          </p:cNvSpPr>
          <p:nvPr>
            <p:ph type="sldNum" idx="1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C047B-A0D8-420E-AFC5-25E70FB4211B}"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248" name="PlaceHolder 4"/>
          <p:cNvSpPr>
            <a:spLocks noGrp="1"/>
          </p:cNvSpPr>
          <p:nvPr>
            <p:ph type="ftr" idx="1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8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87" name="PlaceHolder 3"/>
          <p:cNvSpPr>
            <a:spLocks noGrp="1"/>
          </p:cNvSpPr>
          <p:nvPr>
            <p:ph type="ftr" idx="1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88" name="PlaceHolder 4"/>
          <p:cNvSpPr>
            <a:spLocks noGrp="1"/>
          </p:cNvSpPr>
          <p:nvPr>
            <p:ph type="sldNum" idx="1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6A3E42-5148-414B-AC33-DD42544A105F}"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326" name="Picture 10" descr="SeaDatacloud2017logo_low"/>
          <p:cNvPicPr/>
          <p:nvPr/>
        </p:nvPicPr>
        <p:blipFill>
          <a:blip r:embed="rId3"/>
          <a:stretch/>
        </p:blipFill>
        <p:spPr>
          <a:xfrm>
            <a:off x="611280" y="455760"/>
            <a:ext cx="1368360" cy="596880"/>
          </a:xfrm>
          <a:prstGeom prst="rect">
            <a:avLst/>
          </a:prstGeom>
          <a:ln w="0">
            <a:noFill/>
          </a:ln>
        </p:spPr>
      </p:pic>
      <p:sp>
        <p:nvSpPr>
          <p:cNvPr id="32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2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329" name="PlaceHolder 3"/>
          <p:cNvSpPr>
            <a:spLocks noGrp="1"/>
          </p:cNvSpPr>
          <p:nvPr>
            <p:ph type="sldNum" idx="1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44122-6E1C-4E1C-8D20-00F8EF055B6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30" name="PlaceHolder 4"/>
          <p:cNvSpPr>
            <a:spLocks noGrp="1"/>
          </p:cNvSpPr>
          <p:nvPr>
            <p:ph type="ftr" idx="1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Rectangle 11"/>
          <p:cNvSpPr/>
          <p:nvPr/>
        </p:nvSpPr>
        <p:spPr>
          <a:xfrm>
            <a:off x="1403280" y="5808600"/>
            <a:ext cx="721692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0" name="PlaceHolder 1"/>
          <p:cNvSpPr>
            <a:spLocks noGrp="1"/>
          </p:cNvSpPr>
          <p:nvPr>
            <p:ph type="title"/>
          </p:nvPr>
        </p:nvSpPr>
        <p:spPr>
          <a:xfrm>
            <a:off x="2244240" y="3295440"/>
            <a:ext cx="4775400" cy="369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51a0"/>
                </a:solidFill>
                <a:latin typeface="Calibri Light"/>
              </a:rPr>
              <a:t>SeaDataNet AISBL</a:t>
            </a:r>
            <a:endParaRPr b="1" i="1" lang="en-US" sz="2400" spc="-1" strike="sngStrike" u="sng">
              <a:solidFill>
                <a:srgbClr val="ffffff"/>
              </a:solidFill>
              <a:uFillTx/>
              <a:latin typeface="Basic Sans"/>
            </a:endParaRPr>
          </a:p>
        </p:txBody>
      </p:sp>
      <p:sp>
        <p:nvSpPr>
          <p:cNvPr id="901" name="PlaceHolder 2"/>
          <p:cNvSpPr>
            <a:spLocks noGrp="1"/>
          </p:cNvSpPr>
          <p:nvPr>
            <p:ph type="subTitle"/>
          </p:nvPr>
        </p:nvSpPr>
        <p:spPr>
          <a:xfrm>
            <a:off x="2268000" y="4667040"/>
            <a:ext cx="4751640" cy="26172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551a0"/>
                </a:solidFill>
                <a:latin typeface="Calibri Light"/>
              </a:rPr>
              <a:t>Serge Scory, Chair</a:t>
            </a:r>
            <a:endParaRPr b="1" i="1" lang="en-US" sz="1700" spc="-1" strike="sngStrike" u="sng">
              <a:solidFill>
                <a:srgbClr val="ffffff"/>
              </a:solidFill>
              <a:uFillTx/>
              <a:latin typeface="Basic Sans"/>
            </a:endParaRPr>
          </a:p>
        </p:txBody>
      </p:sp>
      <p:pic>
        <p:nvPicPr>
          <p:cNvPr id="902" name="Picture 1" descr=""/>
          <p:cNvPicPr/>
          <p:nvPr/>
        </p:nvPicPr>
        <p:blipFill>
          <a:blip r:embed="rId2"/>
          <a:stretch/>
        </p:blipFill>
        <p:spPr>
          <a:xfrm>
            <a:off x="4932360" y="3213000"/>
            <a:ext cx="2651040" cy="129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tatus of the membership</a:t>
            </a:r>
            <a:endParaRPr b="1" i="1" lang="en-US" sz="4400" spc="-1" strike="sngStrike" u="sng">
              <a:solidFill>
                <a:srgbClr val="ffffff"/>
              </a:solidFill>
              <a:uFillTx/>
              <a:latin typeface="Basic Sans"/>
            </a:endParaRPr>
          </a:p>
        </p:txBody>
      </p:sp>
      <p:sp>
        <p:nvSpPr>
          <p:cNvPr id="938" name=""/>
          <p:cNvSpPr txBox="1"/>
          <p:nvPr/>
        </p:nvSpPr>
        <p:spPr>
          <a:xfrm>
            <a:off x="610920" y="1988640"/>
            <a:ext cx="453708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e full membe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ive organizations applied</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38 Potential “direct” members (Status June 2016)</a:t>
            </a:r>
            <a:endParaRPr b="1" i="1" lang="en-US" sz="2400" spc="-1" strike="sngStrike" u="sng">
              <a:solidFill>
                <a:srgbClr val="ffffff"/>
              </a:solidFill>
              <a:uFillTx/>
              <a:latin typeface="Basic Sans"/>
            </a:endParaRPr>
          </a:p>
        </p:txBody>
      </p:sp>
      <p:sp>
        <p:nvSpPr>
          <p:cNvPr id="93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5DFD0-E9BA-4A17-9167-FE8625F2E936}"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41" name="TextBox 5"/>
          <p:cNvSpPr/>
          <p:nvPr/>
        </p:nvSpPr>
        <p:spPr>
          <a:xfrm>
            <a:off x="5219640" y="1484280"/>
            <a:ext cx="3816360" cy="5269320"/>
          </a:xfrm>
          <a:prstGeom prst="rect">
            <a:avLst/>
          </a:prstGeom>
          <a:solidFill>
            <a:srgbClr val="ffffff"/>
          </a:solid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To: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c/o Serge Scory (Chair)</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oyal Belgian Institute of Natural Sciences</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ue Vautier 29</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1000 Brussels (Belgium)</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1" i="1" lang="en-US" sz="1000" spc="-1" strike="sngStrike" u="sng">
                <a:solidFill>
                  <a:srgbClr val="ffffff"/>
                </a:solidFill>
                <a:uFillTx/>
                <a:latin typeface="Basic Sans"/>
              </a:rPr>
              <a:t>To the Board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In agreement with Art. 7 of the statutes of SeaDataNet aisbl, stating that the signatories of the "SeaDatanet Exploitation Agreement" will become a full member by explicitely notifying to the association their willingness to become a member; considering further that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signed this agreeement in due time, </a:t>
            </a:r>
            <a:r>
              <a:rPr b="1" i="1" lang="en-US" sz="1000" spc="-1" strike="sngStrike" u="sng">
                <a:solidFill>
                  <a:srgbClr val="ffffff"/>
                </a:solidFill>
                <a:uFillTx/>
                <a:latin typeface="Basic Sans"/>
              </a:rPr>
              <a:t>[your Institution name] </a:t>
            </a:r>
            <a:r>
              <a:rPr b="1" i="1" lang="en-US" sz="1000" spc="-1" strike="sngStrike" u="sng">
                <a:solidFill>
                  <a:srgbClr val="ffffff"/>
                </a:solidFill>
                <a:uFillTx/>
                <a:latin typeface="Basic Sans"/>
              </a:rPr>
              <a:t>herewith notifies SeaDataNet aisbl of its willingness to become a full member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acknowledges that its membership will only become effective once its financial contribution to the functioning of the association ("annual fee", currently equal to 250,-€) will be available on the bank account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Furthermore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mandates</a:t>
            </a:r>
            <a:r>
              <a:rPr b="1" i="1" lang="en-US" sz="1000" spc="-1" strike="sngStrike" u="sng">
                <a:solidFill>
                  <a:srgbClr val="ffffff"/>
                </a:solidFill>
                <a:uFillTx/>
                <a:latin typeface="Basic Sans"/>
              </a:rPr>
              <a:t> Dr/Mrs/M. XXX (+full address)</a:t>
            </a:r>
            <a:r>
              <a:rPr b="1" i="1" lang="en-US" sz="1000" spc="-1" strike="sngStrike" u="sng">
                <a:solidFill>
                  <a:srgbClr val="ffffff"/>
                </a:solidFill>
                <a:uFillTx/>
                <a:latin typeface="Basic Sans"/>
              </a:rPr>
              <a:t> as its representative to the General Assembly of SeaDataNet aisbl and the follow-up of the activities of the association.</a:t>
            </a:r>
            <a:br>
              <a:rPr sz="1000"/>
            </a:b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Signatory name, title; date; stamp</a:t>
            </a:r>
            <a:endParaRPr b="1" i="1" lang="en-US" sz="1000" spc="-1" strike="sngStrike" u="sng">
              <a:solidFill>
                <a:srgbClr val="ffffff"/>
              </a:solidFill>
              <a:uFillTx/>
              <a:latin typeface="Basic Sans"/>
            </a:endParaRPr>
          </a:p>
        </p:txBody>
      </p:sp>
      <p:sp>
        <p:nvSpPr>
          <p:cNvPr id="942" name="TextBox 6"/>
          <p:cNvSpPr/>
          <p:nvPr/>
        </p:nvSpPr>
        <p:spPr>
          <a:xfrm>
            <a:off x="1835280" y="3882960"/>
            <a:ext cx="3241440" cy="1189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ffffff"/>
                </a:solidFill>
                <a:uFillTx/>
                <a:latin typeface="Calibri"/>
              </a:rPr>
              <a:t>We’ll send an email soon to the signatories of the exploitation agreement with a template of an application letter.</a:t>
            </a:r>
            <a:endParaRPr b="1" i="1" lang="en-US" sz="18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4"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elgiu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LG</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Georg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SU-DN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VLI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German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BSH</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ulgar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O_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AW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roat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F</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ce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R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Cypru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C-UC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Denmar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Aarhus_Universit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srae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L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CE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tal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G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Esto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S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N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in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ENE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France</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H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NGV</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5FAA-9F4A-4BBA-83B2-D37CD97BC4F8}"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8"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atv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HE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IO-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alt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U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ontenegr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B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love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B_MBS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etherland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IO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pai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E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orwa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TM-CSI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PA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wede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MH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GW</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uni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NST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rtuga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HPT</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Turke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ETU</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oma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MR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C3AF7-02C0-40F4-A8E9-E46B7690230E}"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ontact: sdn-aisbl-board@seadatanet.org</a:t>
            </a:r>
            <a:endParaRPr b="1" i="1" lang="en-US" sz="4400" spc="-1" strike="sngStrike" u="sng">
              <a:solidFill>
                <a:srgbClr val="ffffff"/>
              </a:solidFill>
              <a:uFillTx/>
              <a:latin typeface="Basic Sans"/>
            </a:endParaRPr>
          </a:p>
        </p:txBody>
      </p:sp>
      <p:pic>
        <p:nvPicPr>
          <p:cNvPr id="952" name="Content Placeholder 5" descr=""/>
          <p:cNvPicPr/>
          <p:nvPr/>
        </p:nvPicPr>
        <p:blipFill>
          <a:blip r:embed="rId2"/>
          <a:stretch/>
        </p:blipFill>
        <p:spPr>
          <a:xfrm>
            <a:off x="611280" y="2182680"/>
            <a:ext cx="8064360" cy="3932280"/>
          </a:xfrm>
          <a:prstGeom prst="rect">
            <a:avLst/>
          </a:prstGeom>
          <a:ln w="0">
            <a:noFill/>
          </a:ln>
        </p:spPr>
      </p:pic>
      <p:sp>
        <p:nvSpPr>
          <p:cNvPr id="95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8EFC4-3CB4-4CAE-BD1E-59392849FDE5}"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eaDataNet AISBL is established</a:t>
            </a:r>
            <a:endParaRPr b="1" i="1" lang="en-US" sz="4400" spc="-1" strike="sngStrike" u="sng">
              <a:solidFill>
                <a:srgbClr val="ffffff"/>
              </a:solidFill>
              <a:uFillTx/>
              <a:latin typeface="Basic Sans"/>
            </a:endParaRPr>
          </a:p>
        </p:txBody>
      </p:sp>
      <p:sp>
        <p:nvSpPr>
          <p:cNvPr id="904"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B49B-66EF-4768-81C8-DA22494BB0AE}"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05"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a:t>
            </a:r>
            <a:r>
              <a:rPr b="1" i="1" lang="en-US" sz="2000" spc="-1" strike="sngStrike" u="sng">
                <a:solidFill>
                  <a:srgbClr val="ffffff"/>
                </a:solidFill>
                <a:uFillTx/>
                <a:latin typeface="Calibri"/>
              </a:rPr>
              <a:t>AISBL”: Non-profit international organization under Belgian law</a:t>
            </a:r>
            <a:endParaRPr b="1" i="1" lang="en-US" sz="20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Several steps:</a:t>
            </a:r>
            <a:endParaRPr b="1" i="1" lang="en-US" sz="20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2 February 2019: Adoption of the statutes by the 2 founding members (IFREMER and RBINS) and first General Assembly</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3 April 2019: Signature of the Royal Decree</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09 May 2019: Publication in the Belgian official Gazette</a:t>
            </a:r>
            <a:endParaRPr b="1" i="1" lang="en-US" sz="1600" spc="-1" strike="sngStrike">
              <a:solidFill>
                <a:srgbClr val="ffffff"/>
              </a:solidFill>
              <a:latin typeface="Basic Sans"/>
            </a:endParaRPr>
          </a:p>
        </p:txBody>
      </p:sp>
      <p:pic>
        <p:nvPicPr>
          <p:cNvPr id="907" name="Picture 6" descr=""/>
          <p:cNvPicPr/>
          <p:nvPr/>
        </p:nvPicPr>
        <p:blipFill>
          <a:blip r:embed="rId2"/>
          <a:stretch/>
        </p:blipFill>
        <p:spPr>
          <a:xfrm>
            <a:off x="4284720" y="4149720"/>
            <a:ext cx="4281480" cy="2075040"/>
          </a:xfrm>
          <a:prstGeom prst="rect">
            <a:avLst/>
          </a:prstGeom>
          <a:ln w="0">
            <a:noFill/>
          </a:ln>
        </p:spPr>
      </p:pic>
      <p:pic>
        <p:nvPicPr>
          <p:cNvPr id="908" name="Picture 8" descr=""/>
          <p:cNvPicPr/>
          <p:nvPr/>
        </p:nvPicPr>
        <p:blipFill>
          <a:blip r:embed="rId3"/>
          <a:stretch/>
        </p:blipFill>
        <p:spPr>
          <a:xfrm>
            <a:off x="1476360" y="3933720"/>
            <a:ext cx="1913040" cy="198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0"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ccording to its </a:t>
            </a:r>
            <a:r>
              <a:rPr b="1" i="1" lang="en-US" sz="2400" spc="-1" strike="sngStrike" u="sng">
                <a:solidFill>
                  <a:srgbClr val="ffffff"/>
                </a:solidFill>
                <a:uFillTx/>
                <a:latin typeface="Calibri"/>
              </a:rPr>
              <a:t>statutes</a:t>
            </a:r>
            <a:r>
              <a:rPr b="1" i="1" lang="en-US" sz="2400" spc="-1" strike="sngStrike" u="sng">
                <a:solidFill>
                  <a:srgbClr val="ffffff"/>
                </a:solidFill>
                <a:uFillTx/>
                <a:latin typeface="Calibri"/>
              </a:rPr>
              <a:t> , </a:t>
            </a:r>
            <a:r>
              <a:rPr b="1" i="1" lang="en-US" sz="2400" spc="-1" strike="sngStrike" u="sng">
                <a:solidFill>
                  <a:srgbClr val="ffffff"/>
                </a:solidFill>
                <a:uFillTx/>
                <a:latin typeface="Calibri"/>
              </a:rPr>
              <a:t>the Organization, which does not seek financial gain, aims to work in the collective interest of its members to improve the quality and effectiveness in the management, the processing and the dissemination of oceanographic data at national, regional and global level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SeaDataNet is a light organization aiming mainly at promoting our common endeavours. It isn’t its purpose to take over, as it is now, the operational role of the various SeaDataNet partners</a:t>
            </a:r>
            <a:endParaRPr b="1" i="1" lang="en-US" sz="2400" spc="-1" strike="sngStrike" u="sng">
              <a:solidFill>
                <a:srgbClr val="ffffff"/>
              </a:solidFill>
              <a:uFillTx/>
              <a:latin typeface="Basic Sans"/>
            </a:endParaRPr>
          </a:p>
        </p:txBody>
      </p:sp>
      <p:sp>
        <p:nvSpPr>
          <p:cNvPr id="91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CF50A-A8A6-4E06-B7BB-96875DF9C41C}"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4"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ore specifically the purpose of the Organization is:</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the SeaDataNet infrastructure, tools and services and the development of underpinning science and technology;</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Foster cooperation and coordination within its Members in the field of data management, processing and dissemination ;</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and coordinate the development of commonly available products and services; and</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Coordinate the contribution of the pan-European oceanographic data management community to the European Union initiatives for a better environmental status of the seas and oceans and for an improved marine knowledge in general.</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sngStrike" u="sng">
              <a:solidFill>
                <a:srgbClr val="ffffff"/>
              </a:solidFill>
              <a:uFillTx/>
              <a:latin typeface="Basic Sans"/>
            </a:endParaRPr>
          </a:p>
        </p:txBody>
      </p:sp>
      <p:sp>
        <p:nvSpPr>
          <p:cNvPr id="91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EB79-4DAB-4ECD-9A9B-890D7F92554B}"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First actions</a:t>
            </a:r>
            <a:endParaRPr b="1" i="1" lang="en-US" sz="4400" spc="-1" strike="sngStrike" u="sng">
              <a:solidFill>
                <a:srgbClr val="ffffff"/>
              </a:solidFill>
              <a:uFillTx/>
              <a:latin typeface="Basic Sans"/>
            </a:endParaRPr>
          </a:p>
        </p:txBody>
      </p:sp>
      <p:sp>
        <p:nvSpPr>
          <p:cNvPr id="918"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s of the first General Assembly:</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signation of the Members of the Board</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not to set up a general secretariat</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to set the annual membership fee to 250€.</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doption of the Rules of Procedure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 bank account has been opened and the situation of the AISBL wrt to the VAT has been clarified.</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registered office of SeaDataNet AISBL is located at RBINS (where EuroGOOS AISBL will soon move.)</a:t>
            </a:r>
            <a:endParaRPr b="1" i="1" lang="en-US" sz="2400" spc="-1" strike="sngStrike" u="sng">
              <a:solidFill>
                <a:srgbClr val="ffffff"/>
              </a:solidFill>
              <a:uFillTx/>
              <a:latin typeface="Basic Sans"/>
            </a:endParaRPr>
          </a:p>
        </p:txBody>
      </p:sp>
      <p:sp>
        <p:nvSpPr>
          <p:cNvPr id="91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42E6-AD17-40EB-9460-59FB7A02F192}"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urrent composition of the Board</a:t>
            </a:r>
            <a:endParaRPr b="1" i="1" lang="en-US" sz="4400" spc="-1" strike="sngStrike" u="sng">
              <a:solidFill>
                <a:srgbClr val="ffffff"/>
              </a:solidFill>
              <a:uFillTx/>
              <a:latin typeface="Basic Sans"/>
            </a:endParaRPr>
          </a:p>
        </p:txBody>
      </p:sp>
      <p:sp>
        <p:nvSpPr>
          <p:cNvPr id="922"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Serge Scory (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Michèle Fichaut (Vice-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lessandra Giorgetti</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thanasia Iona</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Lesley Rickard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Dick Schaap</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y act as individuals (but we made sure that they have strong links with institutions responsible for key-elements of the SeaDataNet infrastructure).</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andates run up to the General Assembly of 2022, re-eligible.</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2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261C-E79D-4344-A48F-5E2005D2AF9A}"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Why SeaDataNet AISBL?</a:t>
            </a:r>
            <a:endParaRPr b="1" i="1" lang="en-US" sz="4400" spc="-1" strike="sngStrike" u="sng">
              <a:solidFill>
                <a:srgbClr val="ffffff"/>
              </a:solidFill>
              <a:uFillTx/>
              <a:latin typeface="Basic Sans"/>
            </a:endParaRPr>
          </a:p>
        </p:txBody>
      </p:sp>
      <p:sp>
        <p:nvSpPr>
          <p:cNvPr id="92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UE Commission wanted for a long time to be able to talk to “SeaDataNet” through a unique entity, not via Beneficiaries of project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is is also the case for other “éhigh level” bodies (ENVRI-BEERi, ESFRI,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We need to show that we are not only a project-based initiative and that there is a string will to support the sustainability of the infrastructure, its services and the delivery of high quality marine data through this channel.</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stronger the Organization, the stronger the message </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Wingdings"/>
                <a:ea typeface="Wingdings"/>
              </a:rPr>
              <a:t></a:t>
            </a:r>
            <a:r>
              <a:rPr b="1" i="1" lang="en-US" sz="2400" spc="-1" strike="sngStrike" u="sng">
                <a:solidFill>
                  <a:srgbClr val="ffffff"/>
                </a:solidFill>
                <a:uFillTx/>
                <a:latin typeface="Calibri"/>
              </a:rPr>
              <a:t> </a:t>
            </a:r>
            <a:r>
              <a:rPr b="1" i="1" lang="en-US" sz="2400" spc="-1" strike="sngStrike" u="sng">
                <a:solidFill>
                  <a:srgbClr val="ffffff"/>
                </a:solidFill>
                <a:uFillTx/>
                <a:latin typeface="Calibri"/>
              </a:rPr>
              <a:t>become a member!</a:t>
            </a:r>
            <a:endParaRPr b="1" i="1" lang="en-US" sz="2400" spc="-1" strike="sngStrike" u="sng">
              <a:solidFill>
                <a:srgbClr val="ffffff"/>
              </a:solidFill>
              <a:uFillTx/>
              <a:latin typeface="Basic Sans"/>
            </a:endParaRPr>
          </a:p>
        </p:txBody>
      </p:sp>
      <p:sp>
        <p:nvSpPr>
          <p:cNvPr id="927"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0799-EAE4-460A-8CC0-C13A5F1668AE}"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8"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will the membership fee used?</a:t>
            </a:r>
            <a:endParaRPr b="1" i="1" lang="en-US" sz="4400" spc="-1" strike="sngStrike" u="sng">
              <a:solidFill>
                <a:srgbClr val="ffffff"/>
              </a:solidFill>
              <a:uFillTx/>
              <a:latin typeface="Basic Sans"/>
            </a:endParaRPr>
          </a:p>
        </p:txBody>
      </p:sp>
      <p:sp>
        <p:nvSpPr>
          <p:cNvPr id="930"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No other income foreseen for the moment</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membership fees will mainly be used to cover</a:t>
            </a:r>
            <a:endParaRPr b="1" i="1" lang="en-US" sz="24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establishment costs (~1500€)</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administrative support for the official accounting</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some operational costs (stamps…)</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promotional expenses (after </a:t>
            </a:r>
            <a:r>
              <a:rPr b="1" i="1" lang="en-US" sz="2400" spc="-1" strike="sngStrike">
                <a:solidFill>
                  <a:srgbClr val="ffffff"/>
                </a:solidFill>
                <a:latin typeface="Calibri"/>
              </a:rPr>
              <a:t>SeaDataCloud</a:t>
            </a:r>
            <a:r>
              <a:rPr b="1" i="1" lang="en-US" sz="2400" spc="-1" strike="sngStrike">
                <a:solidFill>
                  <a:srgbClr val="ffffff"/>
                </a:solidFill>
                <a:latin typeface="Calibri"/>
              </a:rPr>
              <a:t>)</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a:t>
            </a:r>
            <a:endParaRPr b="1" i="1" lang="en-US" sz="2400" spc="-1" strike="sngStrike">
              <a:solidFill>
                <a:srgbClr val="ffffff"/>
              </a:solidFill>
              <a:latin typeface="Basic Sans"/>
            </a:endParaRPr>
          </a:p>
        </p:txBody>
      </p:sp>
      <p:sp>
        <p:nvSpPr>
          <p:cNvPr id="93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F658D-C7CC-477E-AD10-E94144C9A14A}"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to become a member?</a:t>
            </a:r>
            <a:endParaRPr b="1" i="1" lang="en-US" sz="4400" spc="-1" strike="sngStrike" u="sng">
              <a:solidFill>
                <a:srgbClr val="ffffff"/>
              </a:solidFill>
              <a:uFillTx/>
              <a:latin typeface="Basic Sans"/>
            </a:endParaRPr>
          </a:p>
        </p:txBody>
      </p:sp>
      <p:sp>
        <p:nvSpPr>
          <p:cNvPr id="934"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signed the “SeaDataNet Exploitation Agreement” at the end of the SeaDataNet 2 project will be automatically admitted as a Member upon notification of their written request for affiliation addressed to the Organization (sdn-aisbl-board@seadatanet.org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didn’t sign the “SeaDataNet Exploitation Agreement” must be admitted by the General Meeting.</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ly organizations can become member, no individuals.</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ull membership is granted once the annual membership fee is paid to the organization.</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3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8C8D-2DF7-4312-AF68-654A2BC87F45}"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ele FICHAUT, Ifremer Brest PDG-IMN-IDM-SISME</dc:creator>
  <dc:description/>
  <dc:language>en-US</dc:language>
  <cp:lastModifiedBy/>
  <cp:revision>0</cp:revision>
  <dc:subject/>
  <dc:title>Présentation PowerPoint</dc:title>
</cp:coreProperties>
</file>