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25.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12.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44.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3.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221.xml.rels" ContentType="application/vnd.openxmlformats-package.relationships+xml"/>
  <Override PartName="/ppt/slideLayouts/_rels/slideLayout68.xml.rels" ContentType="application/vnd.openxmlformats-package.relationships+xml"/>
  <Override PartName="/ppt/slideLayouts/_rels/slideLayout180.xml.rels" ContentType="application/vnd.openxmlformats-package.relationships+xml"/>
  <Override PartName="/ppt/slideLayouts/_rels/slideLayout16.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11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56.xml.rels" ContentType="application/vnd.openxmlformats-package.relationships+xml"/>
  <Override PartName="/ppt/slideLayouts/_rels/slideLayout22.xml.rels" ContentType="application/vnd.openxmlformats-package.relationships+xml"/>
  <Override PartName="/ppt/slideLayouts/_rels/slideLayout124.xml.rels" ContentType="application/vnd.openxmlformats-package.relationships+xml"/>
  <Override PartName="/ppt/slideLayouts/_rels/slideLayout4.xml.rels" ContentType="application/vnd.openxmlformats-package.relationships+xml"/>
  <Override PartName="/ppt/slideLayouts/_rels/slideLayout103.xml.rels" ContentType="application/vnd.openxmlformats-package.relationships+xml"/>
  <Override PartName="/ppt/slideLayouts/_rels/slideLayout23.xml.rels" ContentType="application/vnd.openxmlformats-package.relationships+xml"/>
  <Override PartName="/ppt/slideLayouts/_rels/slideLayout22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9.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22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25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77.xml.rels" ContentType="application/vnd.openxmlformats-package.relationships+xml"/>
  <Override PartName="/ppt/slideLayouts/_rels/slideLayout98.xml.rels" ContentType="application/vnd.openxmlformats-package.relationships+xml"/>
  <Override PartName="/ppt/slideLayouts/_rels/slideLayout79.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7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232.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2.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17.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226.xml.rels" ContentType="application/vnd.openxmlformats-package.relationships+xml"/>
  <Override PartName="/ppt/slideLayouts/_rels/slideLayout227.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98.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78.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79.xml" ContentType="application/vnd.openxmlformats-officedocument.presentationml.slideLayout+xml"/>
  <Override PartName="/ppt/slideLayouts/slideLayout1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136.xml" ContentType="application/vnd.openxmlformats-officedocument.presentationml.slideLayout+xml"/>
  <Override PartName="/ppt/slideLayouts/slideLayout137.xml" ContentType="application/vnd.openxmlformats-officedocument.presentationml.slideLayout+xml"/>
  <Override PartName="/ppt/slideLayouts/slideLayout138.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32.xml" ContentType="application/vnd.openxmlformats-officedocument.presentationml.slideLayout+xml"/>
  <Override PartName="/ppt/slideLayouts/slideLayout205.xml" ContentType="application/vnd.openxmlformats-officedocument.presentationml.slideLayout+xml"/>
  <Override PartName="/ppt/slideLayouts/slideLayout33.xml" ContentType="application/vnd.openxmlformats-officedocument.presentationml.slideLayout+xml"/>
  <Override PartName="/ppt/slideLayouts/slideLayout206.xml" ContentType="application/vnd.openxmlformats-officedocument.presentationml.slideLayout+xml"/>
  <Override PartName="/ppt/slideLayouts/slideLayout34.xml" ContentType="application/vnd.openxmlformats-officedocument.presentationml.slideLayout+xml"/>
  <Override PartName="/ppt/slideLayouts/slideLayout207.xml" ContentType="application/vnd.openxmlformats-officedocument.presentationml.slideLayout+xml"/>
  <Override PartName="/ppt/slideLayouts/slideLayout35.xml" ContentType="application/vnd.openxmlformats-officedocument.presentationml.slideLayout+xml"/>
  <Override PartName="/ppt/slideLayouts/slideLayout208.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68AACCA-6811-4282-AE28-29E9040B48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8"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9"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B705FF7-68E1-4FD5-934A-B0484E8530E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36"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3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2D91E014-B631-43E5-8C9D-9312E806FBA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FE48E6C4-6AEA-4EC9-918A-0FF4CF412B9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256CB1D5-0CD9-4B21-8A68-1D27BA6605D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4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E2AABB21-6365-4311-A236-0E3DDB3C69B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45"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7"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972B627E-3367-4E52-B796-D572C0323E6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4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1"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C4F92178-A24F-4ADB-A042-3111F1DEA72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53"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4"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0E521769-0A70-4653-98D5-89822753A7E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5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7"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9"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5"/>
          </p:nvPr>
        </p:nvSpPr>
        <p:spPr/>
        <p:txBody>
          <a:bodyPr/>
          <a:p>
            <a:fld id="{C76DA999-B4D7-4C71-BAF4-3376A40B067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61"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2"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3"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4"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5"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6"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5"/>
          </p:nvPr>
        </p:nvSpPr>
        <p:spPr/>
        <p:txBody>
          <a:bodyPr/>
          <a:p>
            <a:fld id="{3E803CF9-3705-442A-81B0-AA75F52B8EF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9064B0-C402-4958-A3CA-FDBF8D39D7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5E9C4D0-0E1D-4CE6-A423-77700A5415B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72"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4C1476-890B-437C-A305-46943EB03E6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74"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68DD09-685B-433D-86F5-9C6298F0E75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76"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7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C599A1-0420-4332-87B4-493490D9DB5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C9EF18-96A7-471E-802F-211C3C8E4E7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95B04C-9ECF-4EC9-A4F9-18FCC51642F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8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91C330-32DB-4E69-9A67-A277EE7FAF0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85"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7"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57B0AE-1945-48B8-91D3-84B619E1A5F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8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1"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E9DD66-E3B4-4A2B-963C-645ABEE2BD8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93"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4"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B6F704-A8DE-4B68-8B20-26E71A7E3B1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9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7"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9"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11333F3-31A5-4830-B875-CE8A4ABF76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6"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7"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1"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26E2126-D00C-48C5-8178-9897553A7C8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01"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2"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3"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4"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5"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6"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717FDAC-D4C6-4597-BA49-677AA78091F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38D6B9DE-0BA6-4AAE-B982-10A01D15F91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14"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F9F7CA08-5161-4435-9BA7-39F45603264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16"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12BB07D3-62C3-4E55-BB07-754ADFA3C8F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18"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19"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096DA855-DD2A-4AAF-9A57-47F8E9F1C0F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E405C02C-0073-445B-80AA-4BB29E8889E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7B08735B-DD26-4B03-8AC6-26BA6F188DD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2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24"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25"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115B45FA-A582-4DB0-85D3-CCD2739BF3E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27"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2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29"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CEB2C4B7-E9E9-4844-BFC9-217F2FF5ECA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3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3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33"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792B52C3-9E00-4F0C-82CE-1303142865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B52B8B4-E2E6-4F3C-A25A-22A23267022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35"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36"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9E44160A-B3FC-4A50-848A-906D5CA2480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38"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39"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0"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1"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F082B04B-0E1F-4C65-AE2F-2BB97ED762A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43"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4"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5"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6"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7"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8"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6CB4FB36-8659-4C77-BA4A-D9EC6DDE94F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C0235145-235E-4561-8B85-9A80A20BF1F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54"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2EA434D-12A8-4EB8-9BE4-A29E135713F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56"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45D8C15-EA85-4180-BCA3-7D80C00B14D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58"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59"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5914D70-8401-4887-96B7-7A749B4FBC2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106D383-8B23-43E3-951D-1FF4FED91F2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9204E7B-9C48-4DBF-8EAB-CBD76359928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6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64"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65"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1228C73-C516-47E5-BB8D-292D6842E7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7"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2AA61A2-9C46-4956-B8E7-FED92388FD9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67"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6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69"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8EF53ED-5359-4CDC-B8B0-62721A4A575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7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7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73"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3926F38-B672-4CAE-B03E-DA9578A5E5B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75"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76"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6D7D8BF-D7C5-4DD7-9874-07CD957D2F2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78"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79"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0"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1"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7A6B9958-0887-465B-B03F-7540F6A2D6F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83"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4"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5"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6"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7"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8"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646345A4-7958-4F60-8AF8-5CBB9BF75CBE}"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6E25AFB7-2C6F-4843-8BD5-1435E31B5B47}"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96"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D7971740-7FE1-4978-93BA-14100DFC633E}"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98"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7B63816C-821D-47C0-A58C-49689FD1CF2F}"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0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01"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3CDB016D-2DA0-4F62-B0F3-8C8C59BC03DF}"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720DCE70-D59C-4CF9-9BB9-6784521044D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9"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7EEC3F6-2B65-4D85-9A97-303B3090A580}"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30FC21AE-E996-4116-B34F-FC1D0B51076F}"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0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06"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07"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B68578C9-209D-4D5A-8FA2-2503A9E12ABA}"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09"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1"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D1367D78-1054-4743-8BD6-49A82FE24837}"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1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5"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03F18F20-2520-49C3-9A41-4756F0EBCA58}"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17"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8"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254BA5A2-20D3-409E-8EF0-3AE6D183A1DD}"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20"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2"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3"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8D40619E-809F-4ECE-9C1A-38EC922979EE}"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25"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6"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7"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8"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9"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30"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6E26428E-72AF-4DED-AFFF-B727A681E4E3}"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DBAB99EB-ABA1-4583-B1AB-96777E250D59}"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36"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EF1A535-BB06-41F7-94E3-60B037010727}"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38"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A024E9F-B89B-4E6F-AFDE-6ECBE14F1D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6349003-5DDA-41C9-8720-B343B3D7C99D}"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4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41"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339BDC5-68E2-43BB-B0D6-256884B880BB}"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E395900-C11A-49A3-82B4-FF2BB04BD825}"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DDF702C-A93B-4379-8C33-E16498C62785}"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4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46"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47"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9A5B117-F764-4C02-8C52-F959D34BBF2F}"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49"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1"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FCC724F-CD9B-4621-9336-BD5D419EEC63}"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5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5"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98F6F8D-3891-47C1-9094-E93ED8019C36}"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57"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8"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6CCDC2D-5E01-474A-ADFA-9A6619A6B8EC}"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60"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2"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3"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EDA0F23A-91D5-4386-B1B5-45388B059F6F}"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65"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6"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7"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8"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9"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70"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84B4E775-4660-4242-B77B-6F79308D8514}"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7"/>
          </p:nvPr>
        </p:nvSpPr>
        <p:spPr/>
        <p:txBody>
          <a:bodyPr/>
          <a:p>
            <a:fld id="{28D97BE8-4488-4850-8052-5BF58E01FD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2C96381-408C-4631-9BC8-7FD615C92DC3}"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78"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8E4111A8-CC99-4CFA-A87A-A0F8465A9B24}"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80"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ACF0D9EC-9913-45B6-B7E5-202EE9A039BA}"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82"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83"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065F51D1-DBCC-4348-8D0E-FC2CB385DABC}"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3CC88803-5017-4F83-834A-057E67172085}"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42A358A7-10C0-42DD-849A-F84D2ACEC881}"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8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88"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89"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28D8864C-9B66-43BB-B861-D39FEF8079B5}"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9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9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93"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86AF588C-4758-47E7-A410-D7EC73F6226A}"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9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9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97"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04E14112-343E-4FCF-9D5C-88588EC601F3}"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99"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0"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B51C8697-C38B-401B-9F5C-000102AC0C56}"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02"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3"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4"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5"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7"/>
          </p:nvPr>
        </p:nvSpPr>
        <p:spPr/>
        <p:txBody>
          <a:bodyPr/>
          <a:p>
            <a:fld id="{D2E65231-DDBB-4755-B483-6CB9112C7F3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E79BBE1-AF7D-49EF-B1D5-AA0600A550B2}"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07"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8"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9"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10"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11"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12"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7"/>
          </p:nvPr>
        </p:nvSpPr>
        <p:spPr/>
        <p:txBody>
          <a:bodyPr/>
          <a:p>
            <a:fld id="{84121E1F-0898-4B93-A865-DA684E7366A8}"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A54485C-4F1C-4633-8392-B3463E46F430}"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18"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1B69726-2151-451A-BAD8-9A0AB9FC75E9}"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20"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6AFCBB9-EC84-4988-A758-2075D51DBA6C}"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22"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23"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241FE2C-703B-411C-9AE3-88163D13F343}"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F6DAA5E-3A78-4C48-AA69-47D70C2A205E}"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1048B15-9151-4A6D-A87F-340115CA2B83}"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2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28"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29"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8022F80-8E19-4827-AD50-E63C161F447E}"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3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3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33"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8FFC44B-E31E-429F-8AB2-D396F316FDED}"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3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3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37"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63B7883-B62E-452C-93C4-25D7722AE53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DB17D91-F2B7-4471-AB70-8E8BD5A30A85}"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39"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0"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2DB7F4A-E4E9-4E7C-88C9-14185E7D83E9}"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42"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3"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4"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5"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D45D0EF-3589-4823-894E-8B1DAEAA95D7}"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47"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8"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9"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50"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51"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52"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2C25BC3-2D2F-4DD9-9447-881F8DC5048D}"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1"/>
          </p:nvPr>
        </p:nvSpPr>
        <p:spPr/>
        <p:txBody>
          <a:bodyPr/>
          <a:p>
            <a:fld id="{486FDDC9-BE2A-468D-A026-AD01B628E819}"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60"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74EB9F92-8FBC-4C71-AF07-EB7E2802912C}"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62"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82203698-DCF9-46C6-9893-9F5A0F61F7A1}"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64"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65"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92907491-A201-4C65-8E04-ADF66D6EDF06}"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6463F5FB-CC49-40FA-A406-A7F77F2E0737}"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A011D23E-A8C4-461D-BB2E-9F2B5E0BB24D}"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6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0"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1"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BD36F007-EB4B-4509-A617-21BCDFC158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D48BF1B-5E73-42C0-B046-2BE632D2D6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2"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9371EA2-2BBC-4418-AE67-0C99A5EC57E7}"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73"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5"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850933B8-FB31-4806-BCE6-EE5A9FAEA683}"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7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9"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36FFFFB0-7A11-448D-8A73-A37D314CD681}"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81"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82"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356C5963-A9AA-45E5-B107-3695AA3A5D0C}"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8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8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86"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87"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1"/>
          </p:nvPr>
        </p:nvSpPr>
        <p:spPr/>
        <p:txBody>
          <a:bodyPr/>
          <a:p>
            <a:fld id="{0C816491-D5C5-447A-8E83-37F3AA7E695B}"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89"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0"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1"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2"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3"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4"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1"/>
          </p:nvPr>
        </p:nvSpPr>
        <p:spPr/>
        <p:txBody>
          <a:bodyPr/>
          <a:p>
            <a:fld id="{98D146BB-B8D0-41F2-99A6-8DEAAC43BA0C}"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E512E11D-DBBC-4609-8118-AF242756DFF5}"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00"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6B518309-80E6-4358-A4AF-04DDBF66E1AB}"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02"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A0C8E771-00D6-44DE-8781-CE7F32A743CC}"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04"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05"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0AF91161-8CE4-415A-8520-92B7E2261BA4}"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A57CB173-FCDE-41E1-A7FA-C52304901DA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6"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8FAFC20-5EDE-431E-BDCA-F40BE3C77AF5}"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7"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36DF09A5-FD7C-4498-9CC4-4851DA84C231}"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0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0"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1"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867AB117-EC71-4513-A917-3525AD24F08B}"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13"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5"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4C271BD-2223-43C8-B0F5-133074529FAF}"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1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9"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6AA9D422-76F3-4FBE-880B-A52AC41CDAD9}"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21"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2"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5313F6FE-49E3-4E94-94A3-64F0CB3656DF}"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2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6"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7"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097FB842-F46D-40D6-98C4-1E360A563686}"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29"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0"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1"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2"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3"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4"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8AACD92D-E70A-455D-8D6D-2A92CFCFA756}"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6C715A72-EF3A-4881-A724-F2B2E5B6AFA3}"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42"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BA72772D-A2FB-4AC8-8E40-167A47206886}"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44"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F29B48CB-847E-4B44-BBA2-CC55569C7E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8"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1D31852-4584-447D-A5FC-07205F4BCFEF}"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46"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4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D2FBE0F4-1EC4-431F-907F-CCFD5D5C6F20}"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ABD91BAB-4A8C-47D4-B5E3-BCFB9B128998}"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9"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13572C08-EE56-4DD7-8991-3B2B37142526}"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5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5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5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EBD2F1F0-9978-4A33-BBD0-AE3AFF1785D5}"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55"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5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57"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13B718B4-D16D-42C1-B2E5-79D525286379}"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5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1"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F5FEF31C-67B9-44F5-A56F-B63E37EB323C}"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63"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4"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73781C66-3DFA-4787-8078-04BCA2BADF5D}"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6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7"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9"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66C8E914-AED7-4158-8CC7-09C13DA1B823}"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71"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2"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3"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4"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5"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6"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8A42650E-2EEC-4DFD-93D7-B1B2D93D0734}"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6C09A201-6528-4554-8558-511890F627C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4"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3D77D46-DB8B-455F-A765-D157146594F0}"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82"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EC39B7D4-E36F-4F5C-840A-B133DB772034}"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84"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9E60ECD7-A048-411A-9C8D-A6B11DF7D0D3}"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86"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8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DA0A82B4-0B17-457A-81F3-8DF097798CE7}"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D0F0391B-1B90-4815-9642-6362D1EFF8FC}"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9"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2E709F02-C677-4770-93FB-4F111B1BF63D}"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9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F9BC2757-548F-4F5E-BC71-0C72486E838D}"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95"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7"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87737D41-CAA9-4E81-9CC0-2964CD1BECDE}"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9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1"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15FD63FA-1A35-4168-97E3-EA837166D14E}"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03"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4"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CD30685D-E8FC-4A53-A4E8-CCE49BB7FB8F}"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0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7"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9"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EFFF73D1-023D-4959-9800-D5DA375F86B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6"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8"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923014C-08EE-40ED-88D9-F4E522963FB3}"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11"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2"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3"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4"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5"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6"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48A5009B-E1C2-462A-AD4C-5DE87C856839}"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39"/>
          </p:nvPr>
        </p:nvSpPr>
        <p:spPr/>
        <p:txBody>
          <a:bodyPr/>
          <a:p>
            <a:fld id="{A376FE37-5C1F-4FBE-8BD1-827A9E583B3D}"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24"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B7F133FD-7CFE-403A-81C9-D2DF03C9DB56}"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26"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B71B8AC5-F12A-4800-9F51-3ADAAF032B9D}"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28"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29"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CCC1A980-E118-41B3-A862-69A9FBB1CABC}"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A9D82C33-A974-4E26-8C76-81E38A158E9E}"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1"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A6273280-4407-4710-80B0-E7B131C33944}"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3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34"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35"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74F72946-64AF-4870-B83F-166CCBBE0009}"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37"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3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39"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950AC760-4969-433A-B122-FDFD5AC228D6}"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4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4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43"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E831EC31-DAF2-49BD-A1BA-221BAE519C7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45"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46"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C857B00D-1BD8-42C4-824B-70990FB91370}"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48"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49"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0"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1"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39"/>
          </p:nvPr>
        </p:nvSpPr>
        <p:spPr/>
        <p:txBody>
          <a:bodyPr/>
          <a:p>
            <a:fld id="{8119A299-33CA-41C8-B935-6AA987E44341}"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53"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4"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5"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6"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7"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8"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39"/>
          </p:nvPr>
        </p:nvSpPr>
        <p:spPr/>
        <p:txBody>
          <a:bodyPr/>
          <a:p>
            <a:fld id="{29F16129-1DCE-489F-8D47-1FA4E4751850}"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43FB047-7087-4DDC-97AD-75343EEAE90B}"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64"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82F66AD-6251-4109-A2FB-5D7D66EC3343}"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66"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3DA5D41-1A87-4AD6-ACC3-5E6DDEA0142E}"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68"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69"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2CE3069-E830-4423-A9CF-91E6810C67AF}"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CA73195-D784-4D1F-84A1-B8AD6C67765F}"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1"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2A48464-B523-4D29-AE0E-FCAE8EAB1F77}"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7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74"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75"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954B17E-DDA2-4C4F-86E7-288AF366656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7"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5"/>
          </p:nvPr>
        </p:nvSpPr>
        <p:spPr/>
        <p:txBody>
          <a:bodyPr/>
          <a:p>
            <a:r>
              <a:t>Footer</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77"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7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79"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8A53F58-5AF2-4DC7-8E86-668323DC1A53}"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8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8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83"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9EB46D0-C102-4850-B839-AFB573415790}"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85"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86"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E0B8FD7-34D3-422F-B1C8-25B6A44DEBBE}"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88"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89"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0"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1"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B5DD6AF-C53E-4637-B2F4-71A432BCB18E}"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93"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4"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5"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6"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7"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8"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CAFE867-9176-493B-8616-35A3F3EBE4A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9"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9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9"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516B40B-230F-4660-86F5-B6C8C7B0ECA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9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0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2"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0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6"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08"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9"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1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4"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16"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7"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8"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9"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20"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21"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26"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28"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36578EC-2BA0-4561-BE95-265C1DD6093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3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31"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3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36"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37"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39"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1"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4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5"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47"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8"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50"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2"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3"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55"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6"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7"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8"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9"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60"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6"/>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AE29BAFD-83DA-4395-88AD-7CE332BF69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9EC2862-009B-4103-8DCF-78FBBA46B64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68"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CCF46C8-0ED4-47AC-88B2-BD8BB2BCE01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70"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3755F9E-279E-4135-9A28-1A281277A96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72"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73"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48E6981-61AE-4326-A100-DC0B3290D38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F1A6A25-3473-456C-883C-49268F0468A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6F2D91D-D8A5-4FD5-8DA6-DAABBBABB24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7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78"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79"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8937340-36DE-45AB-929E-4EF357DFB97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8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3"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0BE4EB2-EE29-4F89-A44E-0E25C2A887D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8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7"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8C44718-0FA0-4F2E-A9E9-07355859399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89"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0"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749E333-88F6-4DE5-847C-867A86F5C23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92"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3"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4"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5"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49BBF7FA-65A1-4C4C-BFC3-1568661F1B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2872312-9FFD-412F-ADDF-101CB48718F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97"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8"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9"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00"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01"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02"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3BD509CE-38FF-47E9-A191-386A620D941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90DB434C-4BA4-4ABF-B226-C6E53FB4876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08"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BBE8089-6421-4DFB-8B45-0E526B97E26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10"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5FE55FD-FD05-4D66-A432-FECB58F2678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12"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13"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15E1DF1-C7B1-41DE-BAB4-1A9A54EDC8F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229BE8D-0636-499C-9278-2B5CCA341DF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A2FDA06-B645-4A7C-BEB9-3A663AC7DBF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1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18"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19"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8C4C93B-7A43-420F-BA41-652E5B61C2D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2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3"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02FF748-7806-4EC9-B607-5356FF8F223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2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7"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C8EAAC3-848C-480C-8693-02E6BB097D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F2FA24E-9FAC-4B1A-9397-6F441B292B3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29"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0"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56B324D-2C94-417E-B970-5E05E4DD23D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32"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3"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4"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5"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F11EE0E7-4A2A-4397-B68A-D097D456646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37"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8"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9"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40"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41"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42"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CC6A9B23-9C9A-4BBA-8F8A-57E348CF69A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A2EB4FD-F373-4139-8143-65D5CA01DB2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50"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D59D1D3-EAA6-439E-914C-D8DBA8B61DC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52"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3B2A2DA-FB8F-4128-82BC-868845CAC54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54"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55"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3FD80ED-AB61-4227-840D-448529BF96B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2C1EA66-6668-43B2-BEC9-C58FCCEDB7A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954A87D-4211-4DB7-960B-1E0F0D461A0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5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0"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1"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9EC5DB8-6814-4A5F-A36D-63ED3C9EAA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C352C1A-6316-4772-A134-A79AD4358D3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63"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5"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AB9B0E4-2852-40A6-9B42-E0360F25E8E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6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9"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558585F-43DF-4476-8531-B4B1EA66BBD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71"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72"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7236C3F-3367-4B1C-8B5D-B7FCA00CB90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7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7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76"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77"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9A05CBE-A517-4E2E-B654-B462415D4CE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79"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0"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1"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2"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3"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4"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687FBBB-D44C-48C9-8FFF-E4D86947010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9359867-61DB-4FF9-B849-C060A55DFD4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90"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AE5DDD0-D71B-4C56-B41F-41C0E739FCB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92"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58CB1C5-C399-4B27-B647-0831155A7BD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94"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95"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1769721-5321-4FC1-8AD0-086A983280E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4B929B4-5C2E-4724-99D4-14700564A8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DAC16F5-CBAD-417E-8BF2-CE146FC8A41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FCB64E6-DF45-48CF-855F-78A5B4B620F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9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0"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1"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FFC3052-BE0E-46EF-AEE0-185B7842A99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03"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5"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FF54BE2-170F-457C-AD24-C19C516EEF1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0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9"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21B3CBA-B70B-4361-9D5A-2132A3A40B7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11"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12"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89EEEA8-5DED-4AE4-90B8-B864960983F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1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1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16"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17"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80C90B5-3D1A-4C91-A7F0-AB55E25F19B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19"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0"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1"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2"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3"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4"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5D4B50E5-3F2E-4474-B1DB-54D1875ED20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5"/>
          </p:nvPr>
        </p:nvSpPr>
        <p:spPr/>
        <p:txBody>
          <a:bodyPr/>
          <a:p>
            <a:fld id="{C7F1B402-1081-4042-BF2E-7B06FD134CD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32"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33EB605F-6E2C-482A-9442-1148E7DB106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34"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35107703-0906-4D1D-A265-F9C4E159B3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1"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00808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2" name="PlaceHolder 3"/>
          <p:cNvSpPr>
            <a:spLocks noGrp="1"/>
          </p:cNvSpPr>
          <p:nvPr>
            <p:ph type="sldNum" idx="1"/>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26957E-9D10-459B-BF1A-81362D0C1874}"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3"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sp>
        <p:nvSpPr>
          <p:cNvPr id="4" name="PlaceHolder 4"/>
          <p:cNvSpPr>
            <a:spLocks noGrp="1"/>
          </p:cNvSpPr>
          <p:nvPr>
            <p:ph type="ftr" idx="2"/>
          </p:nvPr>
        </p:nvSpPr>
        <p:spPr>
          <a:xfrm>
            <a:off x="2484360" y="620640"/>
            <a:ext cx="6135840" cy="2160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Week, Plouzané, France, 14-18 October 2019</a:t>
            </a:r>
            <a:endParaRPr b="0" lang="en-US" sz="1400" spc="-1" strike="noStrike">
              <a:solidFill>
                <a:srgbClr val="000000"/>
              </a:solidFill>
              <a:latin typeface="Times New Roman"/>
            </a:endParaRPr>
          </a:p>
        </p:txBody>
      </p:sp>
      <p:pic>
        <p:nvPicPr>
          <p:cNvPr id="5" name="Picture 10" descr="SeaDatacloud2017logo_low"/>
          <p:cNvPicPr/>
          <p:nvPr/>
        </p:nvPicPr>
        <p:blipFill>
          <a:blip r:embed="rId3"/>
          <a:stretch/>
        </p:blipFill>
        <p:spPr>
          <a:xfrm>
            <a:off x="611280" y="455760"/>
            <a:ext cx="1368360" cy="596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368"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369" name="PlaceHolder 3"/>
          <p:cNvSpPr>
            <a:spLocks noGrp="1"/>
          </p:cNvSpPr>
          <p:nvPr>
            <p:ph type="ftr" idx="17"/>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370" name="PlaceHolder 4"/>
          <p:cNvSpPr>
            <a:spLocks noGrp="1"/>
          </p:cNvSpPr>
          <p:nvPr>
            <p:ph type="sldNum" idx="18"/>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02F2D7-2606-4DFD-B962-F47C7CA1856A}"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7"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408" name="Picture 10" descr="SeaDatacloud2017logo_low"/>
          <p:cNvPicPr/>
          <p:nvPr/>
        </p:nvPicPr>
        <p:blipFill>
          <a:blip r:embed="rId3"/>
          <a:stretch/>
        </p:blipFill>
        <p:spPr>
          <a:xfrm>
            <a:off x="611280" y="455760"/>
            <a:ext cx="1368360" cy="596880"/>
          </a:xfrm>
          <a:prstGeom prst="rect">
            <a:avLst/>
          </a:prstGeom>
          <a:ln w="0">
            <a:noFill/>
          </a:ln>
        </p:spPr>
      </p:pic>
      <p:sp>
        <p:nvSpPr>
          <p:cNvPr id="409"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410"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411" name="PlaceHolder 3"/>
          <p:cNvSpPr>
            <a:spLocks noGrp="1"/>
          </p:cNvSpPr>
          <p:nvPr>
            <p:ph type="sldNum" idx="19"/>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9EDABC-13D3-4043-BB93-97D45E9EA26A}"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412" name="PlaceHolder 4"/>
          <p:cNvSpPr>
            <a:spLocks noGrp="1"/>
          </p:cNvSpPr>
          <p:nvPr>
            <p:ph type="ftr" idx="20"/>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450"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451" name="PlaceHolder 3"/>
          <p:cNvSpPr>
            <a:spLocks noGrp="1"/>
          </p:cNvSpPr>
          <p:nvPr>
            <p:ph type="ftr" idx="21"/>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452" name="PlaceHolder 4"/>
          <p:cNvSpPr>
            <a:spLocks noGrp="1"/>
          </p:cNvSpPr>
          <p:nvPr>
            <p:ph type="sldNum" idx="22"/>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B9893C-8A1F-4753-BACE-F1214E028EE5}"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9"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490" name="Picture 10" descr="SeaDatacloud2017logo_low"/>
          <p:cNvPicPr/>
          <p:nvPr/>
        </p:nvPicPr>
        <p:blipFill>
          <a:blip r:embed="rId3"/>
          <a:stretch/>
        </p:blipFill>
        <p:spPr>
          <a:xfrm>
            <a:off x="611280" y="455760"/>
            <a:ext cx="1368360" cy="596880"/>
          </a:xfrm>
          <a:prstGeom prst="rect">
            <a:avLst/>
          </a:prstGeom>
          <a:ln w="0">
            <a:noFill/>
          </a:ln>
        </p:spPr>
      </p:pic>
      <p:sp>
        <p:nvSpPr>
          <p:cNvPr id="491"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492"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493" name="PlaceHolder 3"/>
          <p:cNvSpPr>
            <a:spLocks noGrp="1"/>
          </p:cNvSpPr>
          <p:nvPr>
            <p:ph type="sldNum" idx="23"/>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59A55D-E9E9-4D34-98C7-EF8C5F294765}"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494" name="PlaceHolder 4"/>
          <p:cNvSpPr>
            <a:spLocks noGrp="1"/>
          </p:cNvSpPr>
          <p:nvPr>
            <p:ph type="ftr" idx="24"/>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532"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533" name="PlaceHolder 3"/>
          <p:cNvSpPr>
            <a:spLocks noGrp="1"/>
          </p:cNvSpPr>
          <p:nvPr>
            <p:ph type="ftr" idx="25"/>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534" name="PlaceHolder 4"/>
          <p:cNvSpPr>
            <a:spLocks noGrp="1"/>
          </p:cNvSpPr>
          <p:nvPr>
            <p:ph type="sldNum" idx="26"/>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6F9809-B543-47C4-9B5B-F20D5D6A6C9D}"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1"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572" name="Picture 10" descr="SeaDatacloud2017logo_low"/>
          <p:cNvPicPr/>
          <p:nvPr/>
        </p:nvPicPr>
        <p:blipFill>
          <a:blip r:embed="rId3"/>
          <a:stretch/>
        </p:blipFill>
        <p:spPr>
          <a:xfrm>
            <a:off x="611280" y="455760"/>
            <a:ext cx="1368360" cy="596880"/>
          </a:xfrm>
          <a:prstGeom prst="rect">
            <a:avLst/>
          </a:prstGeom>
          <a:ln w="0">
            <a:noFill/>
          </a:ln>
        </p:spPr>
      </p:pic>
      <p:sp>
        <p:nvSpPr>
          <p:cNvPr id="57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574"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575" name="PlaceHolder 3"/>
          <p:cNvSpPr>
            <a:spLocks noGrp="1"/>
          </p:cNvSpPr>
          <p:nvPr>
            <p:ph type="sldNum" idx="27"/>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B58E18-AEC8-4A06-8BF0-BB654FEC1346}"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576" name="PlaceHolder 4"/>
          <p:cNvSpPr>
            <a:spLocks noGrp="1"/>
          </p:cNvSpPr>
          <p:nvPr>
            <p:ph type="ftr" idx="28"/>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614"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615" name="PlaceHolder 3"/>
          <p:cNvSpPr>
            <a:spLocks noGrp="1"/>
          </p:cNvSpPr>
          <p:nvPr>
            <p:ph type="ftr" idx="29"/>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616" name="PlaceHolder 4"/>
          <p:cNvSpPr>
            <a:spLocks noGrp="1"/>
          </p:cNvSpPr>
          <p:nvPr>
            <p:ph type="sldNum" idx="30"/>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F330A9-D116-417B-9260-5079AC2113DE}"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3"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654" name="Picture 10" descr="SeaDatacloud2017logo_low"/>
          <p:cNvPicPr/>
          <p:nvPr/>
        </p:nvPicPr>
        <p:blipFill>
          <a:blip r:embed="rId3"/>
          <a:stretch/>
        </p:blipFill>
        <p:spPr>
          <a:xfrm>
            <a:off x="611280" y="455760"/>
            <a:ext cx="1368360" cy="596880"/>
          </a:xfrm>
          <a:prstGeom prst="rect">
            <a:avLst/>
          </a:prstGeom>
          <a:ln w="0">
            <a:noFill/>
          </a:ln>
        </p:spPr>
      </p:pic>
      <p:sp>
        <p:nvSpPr>
          <p:cNvPr id="655"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656"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657" name="PlaceHolder 3"/>
          <p:cNvSpPr>
            <a:spLocks noGrp="1"/>
          </p:cNvSpPr>
          <p:nvPr>
            <p:ph type="sldNum" idx="31"/>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084BEE-508A-4F21-A2C7-0ADAAF92C94B}"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658" name="PlaceHolder 4"/>
          <p:cNvSpPr>
            <a:spLocks noGrp="1"/>
          </p:cNvSpPr>
          <p:nvPr>
            <p:ph type="ftr" idx="32"/>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696"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697" name="PlaceHolder 3"/>
          <p:cNvSpPr>
            <a:spLocks noGrp="1"/>
          </p:cNvSpPr>
          <p:nvPr>
            <p:ph type="ftr" idx="33"/>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698" name="PlaceHolder 4"/>
          <p:cNvSpPr>
            <a:spLocks noGrp="1"/>
          </p:cNvSpPr>
          <p:nvPr>
            <p:ph type="sldNum" idx="34"/>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1DC7D4-E827-4534-8DFA-514B9A1E923A}"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5"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736" name="Picture 10" descr="SeaDatacloud2017logo_low"/>
          <p:cNvPicPr/>
          <p:nvPr/>
        </p:nvPicPr>
        <p:blipFill>
          <a:blip r:embed="rId3"/>
          <a:stretch/>
        </p:blipFill>
        <p:spPr>
          <a:xfrm>
            <a:off x="611280" y="455760"/>
            <a:ext cx="1368360" cy="596880"/>
          </a:xfrm>
          <a:prstGeom prst="rect">
            <a:avLst/>
          </a:prstGeom>
          <a:ln w="0">
            <a:noFill/>
          </a:ln>
        </p:spPr>
      </p:pic>
      <p:sp>
        <p:nvSpPr>
          <p:cNvPr id="737"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738"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739" name="PlaceHolder 3"/>
          <p:cNvSpPr>
            <a:spLocks noGrp="1"/>
          </p:cNvSpPr>
          <p:nvPr>
            <p:ph type="sldNum" idx="35"/>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7B84B9-51A0-42FF-A1BF-A87CD1C04AF4}"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740" name="PlaceHolder 4"/>
          <p:cNvSpPr>
            <a:spLocks noGrp="1"/>
          </p:cNvSpPr>
          <p:nvPr>
            <p:ph type="ftr" idx="36"/>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43"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44" name="PlaceHolder 3"/>
          <p:cNvSpPr>
            <a:spLocks noGrp="1"/>
          </p:cNvSpPr>
          <p:nvPr>
            <p:ph type="ftr" idx="3"/>
          </p:nvPr>
        </p:nvSpPr>
        <p:spPr>
          <a:xfrm>
            <a:off x="2484360" y="620640"/>
            <a:ext cx="6135840" cy="2160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Week, Plouzané, France, 14-18 October 2019</a:t>
            </a:r>
            <a:endParaRPr b="0" lang="en-US" sz="1400" spc="-1" strike="noStrike">
              <a:solidFill>
                <a:srgbClr val="000000"/>
              </a:solidFill>
              <a:latin typeface="Times New Roman"/>
            </a:endParaRPr>
          </a:p>
        </p:txBody>
      </p:sp>
      <p:sp>
        <p:nvSpPr>
          <p:cNvPr id="45" name="PlaceHolder 4"/>
          <p:cNvSpPr>
            <a:spLocks noGrp="1"/>
          </p:cNvSpPr>
          <p:nvPr>
            <p:ph type="sldNum" idx="4"/>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F5A10A-FA54-48BC-BCA9-31B01619A261}"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778"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779" name="PlaceHolder 3"/>
          <p:cNvSpPr>
            <a:spLocks noGrp="1"/>
          </p:cNvSpPr>
          <p:nvPr>
            <p:ph type="ftr" idx="37"/>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780" name="PlaceHolder 4"/>
          <p:cNvSpPr>
            <a:spLocks noGrp="1"/>
          </p:cNvSpPr>
          <p:nvPr>
            <p:ph type="sldNum" idx="38"/>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ADD6E1-6D4D-4024-8FEF-2BA499E911C3}"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7"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818" name="Picture 10" descr="SeaDatacloud2017logo_low"/>
          <p:cNvPicPr/>
          <p:nvPr/>
        </p:nvPicPr>
        <p:blipFill>
          <a:blip r:embed="rId3"/>
          <a:stretch/>
        </p:blipFill>
        <p:spPr>
          <a:xfrm>
            <a:off x="611280" y="455760"/>
            <a:ext cx="1368360" cy="596880"/>
          </a:xfrm>
          <a:prstGeom prst="rect">
            <a:avLst/>
          </a:prstGeom>
          <a:ln w="0">
            <a:noFill/>
          </a:ln>
        </p:spPr>
      </p:pic>
      <p:sp>
        <p:nvSpPr>
          <p:cNvPr id="819"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820"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821" name="PlaceHolder 3"/>
          <p:cNvSpPr>
            <a:spLocks noGrp="1"/>
          </p:cNvSpPr>
          <p:nvPr>
            <p:ph type="sldNum" idx="39"/>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B20733-95A2-4FF2-B74A-23B54A3A81A8}"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822" name="PlaceHolder 4"/>
          <p:cNvSpPr>
            <a:spLocks noGrp="1"/>
          </p:cNvSpPr>
          <p:nvPr>
            <p:ph type="ftr" idx="40"/>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860"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861" name="PlaceHolder 3"/>
          <p:cNvSpPr>
            <a:spLocks noGrp="1"/>
          </p:cNvSpPr>
          <p:nvPr>
            <p:ph type="ftr" idx="41"/>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862" name="PlaceHolder 4"/>
          <p:cNvSpPr>
            <a:spLocks noGrp="1"/>
          </p:cNvSpPr>
          <p:nvPr>
            <p:ph type="sldNum" idx="42"/>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0CCE69-8A5F-44B9-B996-3F59C90CE934}"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Text Box 7"/>
          <p:cNvSpPr/>
          <p:nvPr/>
        </p:nvSpPr>
        <p:spPr>
          <a:xfrm>
            <a:off x="4684680" y="6021360"/>
            <a:ext cx="3919680" cy="731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sp>
        <p:nvSpPr>
          <p:cNvPr id="8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84"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85" name="PlaceHolder 3"/>
          <p:cNvSpPr>
            <a:spLocks noGrp="1"/>
          </p:cNvSpPr>
          <p:nvPr>
            <p:ph type="ftr" idx="5"/>
          </p:nvPr>
        </p:nvSpPr>
        <p:spPr>
          <a:xfrm>
            <a:off x="2268360" y="5808600"/>
            <a:ext cx="6351840" cy="2160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Week, Plouzané, France, 14-18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123"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124" name="PlaceHolder 3"/>
          <p:cNvSpPr>
            <a:spLocks noGrp="1"/>
          </p:cNvSpPr>
          <p:nvPr>
            <p:ph type="ftr" idx="6"/>
          </p:nvPr>
        </p:nvSpPr>
        <p:spPr>
          <a:xfrm>
            <a:off x="2268360" y="5808600"/>
            <a:ext cx="6351840" cy="2160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Week, Plouzané, France, 14-18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1"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162" name="Picture 10" descr="SeaDatacloud2017logo_low"/>
          <p:cNvPicPr/>
          <p:nvPr/>
        </p:nvPicPr>
        <p:blipFill>
          <a:blip r:embed="rId3"/>
          <a:stretch/>
        </p:blipFill>
        <p:spPr>
          <a:xfrm>
            <a:off x="611280" y="455760"/>
            <a:ext cx="1368360" cy="596880"/>
          </a:xfrm>
          <a:prstGeom prst="rect">
            <a:avLst/>
          </a:prstGeom>
          <a:ln w="0">
            <a:noFill/>
          </a:ln>
        </p:spPr>
      </p:pic>
      <p:sp>
        <p:nvSpPr>
          <p:cNvPr id="16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164"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165" name="PlaceHolder 3"/>
          <p:cNvSpPr>
            <a:spLocks noGrp="1"/>
          </p:cNvSpPr>
          <p:nvPr>
            <p:ph type="sldNum" idx="7"/>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FC5F0E-E121-4EAB-9A64-A0C9E3B3A12C}"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166" name="PlaceHolder 4"/>
          <p:cNvSpPr>
            <a:spLocks noGrp="1"/>
          </p:cNvSpPr>
          <p:nvPr>
            <p:ph type="ftr" idx="8"/>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204"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205" name="PlaceHolder 3"/>
          <p:cNvSpPr>
            <a:spLocks noGrp="1"/>
          </p:cNvSpPr>
          <p:nvPr>
            <p:ph type="ftr" idx="9"/>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206" name="PlaceHolder 4"/>
          <p:cNvSpPr>
            <a:spLocks noGrp="1"/>
          </p:cNvSpPr>
          <p:nvPr>
            <p:ph type="sldNum" idx="10"/>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4F60B8-78DF-4EC6-AF28-E622EF0BA8E4}"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244" name="Picture 10" descr="SeaDatacloud2017logo_low"/>
          <p:cNvPicPr/>
          <p:nvPr/>
        </p:nvPicPr>
        <p:blipFill>
          <a:blip r:embed="rId3"/>
          <a:stretch/>
        </p:blipFill>
        <p:spPr>
          <a:xfrm>
            <a:off x="611280" y="455760"/>
            <a:ext cx="1368360" cy="596880"/>
          </a:xfrm>
          <a:prstGeom prst="rect">
            <a:avLst/>
          </a:prstGeom>
          <a:ln w="0">
            <a:noFill/>
          </a:ln>
        </p:spPr>
      </p:pic>
      <p:sp>
        <p:nvSpPr>
          <p:cNvPr id="245"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246"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247" name="PlaceHolder 3"/>
          <p:cNvSpPr>
            <a:spLocks noGrp="1"/>
          </p:cNvSpPr>
          <p:nvPr>
            <p:ph type="sldNum" idx="11"/>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1737C7-2C14-4D08-853B-4ECB01CDEBC2}"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248" name="PlaceHolder 4"/>
          <p:cNvSpPr>
            <a:spLocks noGrp="1"/>
          </p:cNvSpPr>
          <p:nvPr>
            <p:ph type="ftr" idx="12"/>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286"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287" name="PlaceHolder 3"/>
          <p:cNvSpPr>
            <a:spLocks noGrp="1"/>
          </p:cNvSpPr>
          <p:nvPr>
            <p:ph type="ftr" idx="13"/>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288" name="PlaceHolder 4"/>
          <p:cNvSpPr>
            <a:spLocks noGrp="1"/>
          </p:cNvSpPr>
          <p:nvPr>
            <p:ph type="sldNum" idx="14"/>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479EC9-738E-4AA0-86A6-AFCC473E6E05}"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326" name="Picture 10" descr="SeaDatacloud2017logo_low"/>
          <p:cNvPicPr/>
          <p:nvPr/>
        </p:nvPicPr>
        <p:blipFill>
          <a:blip r:embed="rId3"/>
          <a:stretch/>
        </p:blipFill>
        <p:spPr>
          <a:xfrm>
            <a:off x="611280" y="455760"/>
            <a:ext cx="1368360" cy="596880"/>
          </a:xfrm>
          <a:prstGeom prst="rect">
            <a:avLst/>
          </a:prstGeom>
          <a:ln w="0">
            <a:noFill/>
          </a:ln>
        </p:spPr>
      </p:pic>
      <p:sp>
        <p:nvSpPr>
          <p:cNvPr id="327"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328"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329" name="PlaceHolder 3"/>
          <p:cNvSpPr>
            <a:spLocks noGrp="1"/>
          </p:cNvSpPr>
          <p:nvPr>
            <p:ph type="sldNum" idx="15"/>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1F006B-0914-45BC-A1C8-35AB208BB3A3}"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330" name="PlaceHolder 4"/>
          <p:cNvSpPr>
            <a:spLocks noGrp="1"/>
          </p:cNvSpPr>
          <p:nvPr>
            <p:ph type="ftr" idx="16"/>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9" name="Rectangle 11"/>
          <p:cNvSpPr/>
          <p:nvPr/>
        </p:nvSpPr>
        <p:spPr>
          <a:xfrm>
            <a:off x="1403280" y="5808600"/>
            <a:ext cx="721692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
        <p:nvSpPr>
          <p:cNvPr id="900" name="PlaceHolder 1"/>
          <p:cNvSpPr>
            <a:spLocks noGrp="1"/>
          </p:cNvSpPr>
          <p:nvPr>
            <p:ph type="title"/>
          </p:nvPr>
        </p:nvSpPr>
        <p:spPr>
          <a:xfrm>
            <a:off x="2244240" y="3295440"/>
            <a:ext cx="4775400" cy="369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51a0"/>
                </a:solidFill>
                <a:latin typeface="Calibri Light"/>
              </a:rPr>
              <a:t>SeaDataNet AISBL</a:t>
            </a:r>
            <a:endParaRPr b="1" i="1" lang="en-US" sz="2400" spc="-1" strike="sngStrike" u="sng">
              <a:solidFill>
                <a:srgbClr val="ffffff"/>
              </a:solidFill>
              <a:uFillTx/>
              <a:latin typeface="Basic Sans"/>
            </a:endParaRPr>
          </a:p>
        </p:txBody>
      </p:sp>
      <p:sp>
        <p:nvSpPr>
          <p:cNvPr id="901" name="PlaceHolder 2"/>
          <p:cNvSpPr>
            <a:spLocks noGrp="1"/>
          </p:cNvSpPr>
          <p:nvPr>
            <p:ph type="subTitle"/>
          </p:nvPr>
        </p:nvSpPr>
        <p:spPr>
          <a:xfrm>
            <a:off x="2268000" y="4667040"/>
            <a:ext cx="4751640" cy="261720"/>
          </a:xfrm>
          <a:prstGeom prst="rect">
            <a:avLst/>
          </a:prstGeom>
          <a:noFill/>
          <a:ln w="0">
            <a:noFill/>
          </a:ln>
        </p:spPr>
        <p:txBody>
          <a:bodyPr lIns="0" rIns="0" tIns="0" bIns="0" anchor="t">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551a0"/>
                </a:solidFill>
                <a:latin typeface="Calibri Light"/>
              </a:rPr>
              <a:t>Serge Scory, Chair</a:t>
            </a:r>
            <a:endParaRPr b="1" i="1" lang="en-US" sz="1700" spc="-1" strike="sngStrike" u="sng">
              <a:solidFill>
                <a:srgbClr val="ffffff"/>
              </a:solidFill>
              <a:uFillTx/>
              <a:latin typeface="Basic Sans"/>
            </a:endParaRPr>
          </a:p>
        </p:txBody>
      </p:sp>
      <p:pic>
        <p:nvPicPr>
          <p:cNvPr id="902" name="Picture 1" descr=""/>
          <p:cNvPicPr/>
          <p:nvPr/>
        </p:nvPicPr>
        <p:blipFill>
          <a:blip r:embed="rId2"/>
          <a:stretch/>
        </p:blipFill>
        <p:spPr>
          <a:xfrm>
            <a:off x="4932360" y="3213000"/>
            <a:ext cx="2651040" cy="129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Status of the membership</a:t>
            </a:r>
            <a:endParaRPr b="1" i="1" lang="en-US" sz="4400" spc="-1" strike="sngStrike" u="sng">
              <a:solidFill>
                <a:srgbClr val="ffffff"/>
              </a:solidFill>
              <a:uFillTx/>
              <a:latin typeface="Basic Sans"/>
            </a:endParaRPr>
          </a:p>
        </p:txBody>
      </p:sp>
      <p:sp>
        <p:nvSpPr>
          <p:cNvPr id="938" name=""/>
          <p:cNvSpPr txBox="1"/>
          <p:nvPr/>
        </p:nvSpPr>
        <p:spPr>
          <a:xfrm>
            <a:off x="610920" y="1988640"/>
            <a:ext cx="453708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One full member</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Five organizations applied</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38 Potential “direct” members (Status June 2016)</a:t>
            </a:r>
            <a:endParaRPr b="1" i="1" lang="en-US" sz="2400" spc="-1" strike="sngStrike" u="sng">
              <a:solidFill>
                <a:srgbClr val="ffffff"/>
              </a:solidFill>
              <a:uFillTx/>
              <a:latin typeface="Basic Sans"/>
            </a:endParaRPr>
          </a:p>
        </p:txBody>
      </p:sp>
      <p:sp>
        <p:nvSpPr>
          <p:cNvPr id="939"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1C79D-5A20-4774-8D63-7DFFC6EA1427}"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40"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
        <p:nvSpPr>
          <p:cNvPr id="941" name="TextBox 5"/>
          <p:cNvSpPr/>
          <p:nvPr/>
        </p:nvSpPr>
        <p:spPr>
          <a:xfrm>
            <a:off x="5219640" y="1484280"/>
            <a:ext cx="3816360" cy="5269320"/>
          </a:xfrm>
          <a:prstGeom prst="rect">
            <a:avLst/>
          </a:prstGeom>
          <a:solidFill>
            <a:srgbClr val="ffffff"/>
          </a:solidFill>
          <a:ln w="9360">
            <a:solidFill>
              <a:srgbClr val="000000"/>
            </a:solidFill>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To: SeaDataNet aisbl</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c/o Serge Scory (Chair)</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Royal Belgian Institute of Natural Sciences</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rue Vautier 29</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1000 Brussels (Belgium)</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000"/>
            </a:br>
            <a:r>
              <a:rPr b="1" i="1" lang="en-US" sz="1000" spc="-1" strike="sngStrike" u="sng">
                <a:solidFill>
                  <a:srgbClr val="ffffff"/>
                </a:solidFill>
                <a:uFillTx/>
                <a:latin typeface="Basic Sans"/>
              </a:rPr>
              <a:t>To the Board of SeaDataNet aisbl,</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i="1" lang="en-US" sz="1000" spc="-1" strike="sngStrike" u="sng">
                <a:solidFill>
                  <a:srgbClr val="ffffff"/>
                </a:solidFill>
                <a:uFillTx/>
                <a:latin typeface="Basic Sans"/>
              </a:rPr>
              <a:t>In agreement with Art. 7 of the statutes of SeaDataNet aisbl, stating that the signatories of the "SeaDatanet Exploitation Agreement" will become a full member by explicitely notifying to the association their willingness to become a member; considering further that </a:t>
            </a:r>
            <a:r>
              <a:rPr b="1" i="1" lang="en-US" sz="1000" spc="-1" strike="sngStrike" u="sng">
                <a:solidFill>
                  <a:srgbClr val="ffffff"/>
                </a:solidFill>
                <a:uFillTx/>
                <a:latin typeface="Basic Sans"/>
              </a:rPr>
              <a:t>[your Institution name]</a:t>
            </a:r>
            <a:r>
              <a:rPr b="1" i="1" lang="en-US" sz="1000" spc="-1" strike="sngStrike" u="sng">
                <a:solidFill>
                  <a:srgbClr val="ffffff"/>
                </a:solidFill>
                <a:uFillTx/>
                <a:latin typeface="Basic Sans"/>
              </a:rPr>
              <a:t> signed this agreeement in due time, </a:t>
            </a:r>
            <a:r>
              <a:rPr b="1" i="1" lang="en-US" sz="1000" spc="-1" strike="sngStrike" u="sng">
                <a:solidFill>
                  <a:srgbClr val="ffffff"/>
                </a:solidFill>
                <a:uFillTx/>
                <a:latin typeface="Basic Sans"/>
              </a:rPr>
              <a:t>[your Institution name] </a:t>
            </a:r>
            <a:r>
              <a:rPr b="1" i="1" lang="en-US" sz="1000" spc="-1" strike="sngStrike" u="sng">
                <a:solidFill>
                  <a:srgbClr val="ffffff"/>
                </a:solidFill>
                <a:uFillTx/>
                <a:latin typeface="Basic Sans"/>
              </a:rPr>
              <a:t>herewith notifies SeaDataNet aisbl of its willingness to become a full member SeaDataNet aisbl.</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i="1" lang="en-US" sz="1000" spc="-1" strike="sngStrike" u="sng">
                <a:solidFill>
                  <a:srgbClr val="ffffff"/>
                </a:solidFill>
                <a:uFillTx/>
                <a:latin typeface="Basic Sans"/>
              </a:rPr>
              <a:t>[your Institution name]</a:t>
            </a:r>
            <a:r>
              <a:rPr b="1" i="1" lang="en-US" sz="1000" spc="-1" strike="sngStrike" u="sng">
                <a:solidFill>
                  <a:srgbClr val="ffffff"/>
                </a:solidFill>
                <a:uFillTx/>
                <a:latin typeface="Basic Sans"/>
              </a:rPr>
              <a:t> acknowledges that its membership will only become effective once its financial contribution to the functioning of the association ("annual fee", currently equal to 250,-€) will be available on the bank account of SeaDataNet aisbl.</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Furthermore </a:t>
            </a:r>
            <a:r>
              <a:rPr b="1" i="1" lang="en-US" sz="1000" spc="-1" strike="sngStrike" u="sng">
                <a:solidFill>
                  <a:srgbClr val="ffffff"/>
                </a:solidFill>
                <a:uFillTx/>
                <a:latin typeface="Basic Sans"/>
              </a:rPr>
              <a:t>[your Institution name]</a:t>
            </a:r>
            <a:r>
              <a:rPr b="1" i="1" lang="en-US" sz="1000" spc="-1" strike="sngStrike" u="sng">
                <a:solidFill>
                  <a:srgbClr val="ffffff"/>
                </a:solidFill>
                <a:uFillTx/>
                <a:latin typeface="Basic Sans"/>
              </a:rPr>
              <a:t> mandates</a:t>
            </a:r>
            <a:r>
              <a:rPr b="1" i="1" lang="en-US" sz="1000" spc="-1" strike="sngStrike" u="sng">
                <a:solidFill>
                  <a:srgbClr val="ffffff"/>
                </a:solidFill>
                <a:uFillTx/>
                <a:latin typeface="Basic Sans"/>
              </a:rPr>
              <a:t> Dr/Mrs/M. XXX (+full address)</a:t>
            </a:r>
            <a:r>
              <a:rPr b="1" i="1" lang="en-US" sz="1000" spc="-1" strike="sngStrike" u="sng">
                <a:solidFill>
                  <a:srgbClr val="ffffff"/>
                </a:solidFill>
                <a:uFillTx/>
                <a:latin typeface="Basic Sans"/>
              </a:rPr>
              <a:t> as its representative to the General Assembly of SeaDataNet aisbl and the follow-up of the activities of the association.</a:t>
            </a:r>
            <a:br>
              <a:rPr sz="1000"/>
            </a:b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Signatory name, title; date; stamp</a:t>
            </a:r>
            <a:endParaRPr b="1" i="1" lang="en-US" sz="1000" spc="-1" strike="sngStrike" u="sng">
              <a:solidFill>
                <a:srgbClr val="ffffff"/>
              </a:solidFill>
              <a:uFillTx/>
              <a:latin typeface="Basic Sans"/>
            </a:endParaRPr>
          </a:p>
        </p:txBody>
      </p:sp>
      <p:sp>
        <p:nvSpPr>
          <p:cNvPr id="942" name="TextBox 6"/>
          <p:cNvSpPr/>
          <p:nvPr/>
        </p:nvSpPr>
        <p:spPr>
          <a:xfrm>
            <a:off x="1835280" y="3882960"/>
            <a:ext cx="3241440" cy="11890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ffffff"/>
                </a:solidFill>
                <a:uFillTx/>
                <a:latin typeface="Calibri"/>
              </a:rPr>
              <a:t>We’ll send an email soon to the signatories of the exploitation agreement with a template of an application letter.</a:t>
            </a:r>
            <a:endParaRPr b="1" i="1" lang="en-US" sz="18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000000"/>
              </a:solidFill>
              <a:uFillTx/>
              <a:latin typeface="Basic Sans"/>
            </a:endParaRPr>
          </a:p>
        </p:txBody>
      </p:sp>
      <p:graphicFrame>
        <p:nvGraphicFramePr>
          <p:cNvPr id="944" name=""/>
          <p:cNvGraphicFramePr/>
          <p:nvPr/>
        </p:nvGraphicFramePr>
        <p:xfrm>
          <a:off x="611280" y="1989000"/>
          <a:ext cx="8064360" cy="4100760"/>
        </p:xfrm>
        <a:graphic>
          <a:graphicData uri="http://schemas.openxmlformats.org/drawingml/2006/table">
            <a:tbl>
              <a:tblPr/>
              <a:tblGrid>
                <a:gridCol w="2016000"/>
                <a:gridCol w="2016360"/>
                <a:gridCol w="2016000"/>
                <a:gridCol w="2016000"/>
              </a:tblGrid>
              <a:tr h="39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Country</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Organization</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Country</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Organization</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0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Belgium</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ULG</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Georg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TSU-DN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VLIZ</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German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BSH</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Bulgar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O_BA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AW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Croat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OF</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celand</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MR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Cypru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OC-UC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M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Denmark</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Aarhus_Universit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srael</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OLR</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CE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tal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OG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Eston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MS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CNR</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Finland</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FM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ENE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France</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SHOM</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NGV</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945"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722C1-530C-48DF-AF6A-D478A905566E}"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46"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000000"/>
              </a:solidFill>
              <a:uFillTx/>
              <a:latin typeface="Basic Sans"/>
            </a:endParaRPr>
          </a:p>
        </p:txBody>
      </p:sp>
      <p:graphicFrame>
        <p:nvGraphicFramePr>
          <p:cNvPr id="948" name=""/>
          <p:cNvGraphicFramePr/>
          <p:nvPr/>
        </p:nvGraphicFramePr>
        <p:xfrm>
          <a:off x="611280" y="1989000"/>
          <a:ext cx="8064360" cy="4100760"/>
        </p:xfrm>
        <a:graphic>
          <a:graphicData uri="http://schemas.openxmlformats.org/drawingml/2006/table">
            <a:tbl>
              <a:tblPr/>
              <a:tblGrid>
                <a:gridCol w="2016000"/>
                <a:gridCol w="2016360"/>
                <a:gridCol w="2016000"/>
                <a:gridCol w="2016000"/>
              </a:tblGrid>
              <a:tr h="39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Country</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Organization</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Country</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Organization</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0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Latv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LHE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Russ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SIO-BA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Malt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UoM</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RIHMI/WDC</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Montenegro</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MBK</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Sloven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NIB_MBS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Netherland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NIOZ</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Spain</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EO</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Norwa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MR</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UTM-CSIC</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Poland</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OPAN</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Sweden</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SMH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MGW</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Tunis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NSTM</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Portugal</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HPT</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Turke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METU</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Roman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NIMRD</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Russ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RIHMI-WDC</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949"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4919C-5FDC-407A-8EFF-FC6EC9DAF905}"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50"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ontact: sdn-aisbl-board@seadatanet.org</a:t>
            </a:r>
            <a:endParaRPr b="1" i="1" lang="en-US" sz="4400" spc="-1" strike="sngStrike" u="sng">
              <a:solidFill>
                <a:srgbClr val="ffffff"/>
              </a:solidFill>
              <a:uFillTx/>
              <a:latin typeface="Basic Sans"/>
            </a:endParaRPr>
          </a:p>
        </p:txBody>
      </p:sp>
      <p:pic>
        <p:nvPicPr>
          <p:cNvPr id="952" name="Content Placeholder 5" descr=""/>
          <p:cNvPicPr/>
          <p:nvPr/>
        </p:nvPicPr>
        <p:blipFill>
          <a:blip r:embed="rId2"/>
          <a:stretch/>
        </p:blipFill>
        <p:spPr>
          <a:xfrm>
            <a:off x="611280" y="2182680"/>
            <a:ext cx="8064360" cy="3932280"/>
          </a:xfrm>
          <a:prstGeom prst="rect">
            <a:avLst/>
          </a:prstGeom>
          <a:ln w="0">
            <a:noFill/>
          </a:ln>
        </p:spPr>
      </p:pic>
      <p:sp>
        <p:nvSpPr>
          <p:cNvPr id="953"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876C1-DF74-403A-813D-C3D1A8BC7A89}"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54"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SeaDataNet AISBL is established</a:t>
            </a:r>
            <a:endParaRPr b="1" i="1" lang="en-US" sz="4400" spc="-1" strike="sngStrike" u="sng">
              <a:solidFill>
                <a:srgbClr val="ffffff"/>
              </a:solidFill>
              <a:uFillTx/>
              <a:latin typeface="Basic Sans"/>
            </a:endParaRPr>
          </a:p>
        </p:txBody>
      </p:sp>
      <p:sp>
        <p:nvSpPr>
          <p:cNvPr id="904"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F8864-7DBB-4D2B-8625-991E6C904A14}"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05"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
        <p:nvSpPr>
          <p:cNvPr id="906"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fffff"/>
                </a:solidFill>
                <a:uFillTx/>
                <a:latin typeface="Calibri"/>
              </a:rPr>
              <a:t>“</a:t>
            </a:r>
            <a:r>
              <a:rPr b="1" i="1" lang="en-US" sz="2000" spc="-1" strike="sngStrike" u="sng">
                <a:solidFill>
                  <a:srgbClr val="ffffff"/>
                </a:solidFill>
                <a:uFillTx/>
                <a:latin typeface="Calibri"/>
              </a:rPr>
              <a:t>AISBL”: Non-profit international organization under Belgian law</a:t>
            </a:r>
            <a:endParaRPr b="1" i="1" lang="en-US" sz="20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fffff"/>
                </a:solidFill>
                <a:uFillTx/>
                <a:latin typeface="Calibri"/>
              </a:rPr>
              <a:t>Several steps:</a:t>
            </a:r>
            <a:endParaRPr b="1" i="1" lang="en-US" sz="2000" spc="-1" strike="sngStrike" u="sng">
              <a:solidFill>
                <a:srgbClr val="ffffff"/>
              </a:solidFill>
              <a:uFillTx/>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sngStrike">
                <a:solidFill>
                  <a:srgbClr val="ffffff"/>
                </a:solidFill>
                <a:latin typeface="Calibri"/>
              </a:rPr>
              <a:t>12 February 2019: Adoption of the statutes by the 2 founding members (IFREMER and RBINS) and first General Assembly</a:t>
            </a:r>
            <a:endParaRPr b="1" i="1" lang="en-US" sz="16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sngStrike">
                <a:solidFill>
                  <a:srgbClr val="ffffff"/>
                </a:solidFill>
                <a:latin typeface="Calibri"/>
              </a:rPr>
              <a:t>13 April 2019: Signature of the Royal Decree</a:t>
            </a:r>
            <a:endParaRPr b="1" i="1" lang="en-US" sz="16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sngStrike">
                <a:solidFill>
                  <a:srgbClr val="ffffff"/>
                </a:solidFill>
                <a:latin typeface="Calibri"/>
              </a:rPr>
              <a:t>09 May 2019: Publication in the Belgian official Gazette</a:t>
            </a:r>
            <a:endParaRPr b="1" i="1" lang="en-US" sz="1600" spc="-1" strike="sngStrike">
              <a:solidFill>
                <a:srgbClr val="ffffff"/>
              </a:solidFill>
              <a:latin typeface="Basic Sans"/>
            </a:endParaRPr>
          </a:p>
        </p:txBody>
      </p:sp>
      <p:pic>
        <p:nvPicPr>
          <p:cNvPr id="907" name="Picture 6" descr=""/>
          <p:cNvPicPr/>
          <p:nvPr/>
        </p:nvPicPr>
        <p:blipFill>
          <a:blip r:embed="rId2"/>
          <a:stretch/>
        </p:blipFill>
        <p:spPr>
          <a:xfrm>
            <a:off x="4284720" y="4149720"/>
            <a:ext cx="4281480" cy="2075040"/>
          </a:xfrm>
          <a:prstGeom prst="rect">
            <a:avLst/>
          </a:prstGeom>
          <a:ln w="0">
            <a:noFill/>
          </a:ln>
        </p:spPr>
      </p:pic>
      <p:pic>
        <p:nvPicPr>
          <p:cNvPr id="908" name="Picture 8" descr=""/>
          <p:cNvPicPr/>
          <p:nvPr/>
        </p:nvPicPr>
        <p:blipFill>
          <a:blip r:embed="rId3"/>
          <a:stretch/>
        </p:blipFill>
        <p:spPr>
          <a:xfrm>
            <a:off x="1476360" y="3933720"/>
            <a:ext cx="1913040" cy="198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Objectives of the Organization</a:t>
            </a:r>
            <a:endParaRPr b="1" i="1" lang="en-US" sz="4400" spc="-1" strike="sngStrike" u="sng">
              <a:solidFill>
                <a:srgbClr val="ffffff"/>
              </a:solidFill>
              <a:uFillTx/>
              <a:latin typeface="Basic Sans"/>
            </a:endParaRPr>
          </a:p>
        </p:txBody>
      </p:sp>
      <p:sp>
        <p:nvSpPr>
          <p:cNvPr id="910" name=""/>
          <p:cNvSpPr txBox="1"/>
          <p:nvPr/>
        </p:nvSpPr>
        <p:spPr>
          <a:xfrm>
            <a:off x="610920" y="1988640"/>
            <a:ext cx="8064360" cy="4319640"/>
          </a:xfrm>
          <a:prstGeom prst="rect">
            <a:avLst/>
          </a:prstGeom>
          <a:noFill/>
          <a:ln w="0">
            <a:noFill/>
          </a:ln>
        </p:spPr>
        <p:txBody>
          <a:bodyPr lIns="0" rIns="0" tIns="0" bIns="0" anchor="t">
            <a:normAutofit/>
          </a:bodyPr>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According to its </a:t>
            </a:r>
            <a:r>
              <a:rPr b="1" i="1" lang="en-US" sz="2400" spc="-1" strike="sngStrike" u="sng">
                <a:solidFill>
                  <a:srgbClr val="ffffff"/>
                </a:solidFill>
                <a:uFillTx/>
                <a:latin typeface="Calibri"/>
              </a:rPr>
              <a:t>statutes</a:t>
            </a:r>
            <a:r>
              <a:rPr b="1" i="1" lang="en-US" sz="2400" spc="-1" strike="sngStrike" u="sng">
                <a:solidFill>
                  <a:srgbClr val="ffffff"/>
                </a:solidFill>
                <a:uFillTx/>
                <a:latin typeface="Calibri"/>
              </a:rPr>
              <a:t> , </a:t>
            </a:r>
            <a:r>
              <a:rPr b="1" i="1" lang="en-US" sz="2400" spc="-1" strike="sngStrike" u="sng">
                <a:solidFill>
                  <a:srgbClr val="ffffff"/>
                </a:solidFill>
                <a:uFillTx/>
                <a:latin typeface="Calibri"/>
              </a:rPr>
              <a:t>the Organization, which does not seek financial gain, aims to work in the collective interest of its members to improve the quality and effectiveness in the management, the processing and the dissemination of oceanographic data at national, regional and global levels.</a:t>
            </a: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SeaDataNet is a light organization aiming mainly at promoting our common endeavours. It isn’t its purpose to take over, as it is now, the operational role of the various SeaDataNet partners</a:t>
            </a:r>
            <a:endParaRPr b="1" i="1" lang="en-US" sz="2400" spc="-1" strike="sngStrike" u="sng">
              <a:solidFill>
                <a:srgbClr val="ffffff"/>
              </a:solidFill>
              <a:uFillTx/>
              <a:latin typeface="Basic Sans"/>
            </a:endParaRPr>
          </a:p>
        </p:txBody>
      </p:sp>
      <p:sp>
        <p:nvSpPr>
          <p:cNvPr id="911"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44038-F185-4F2F-99EB-2EF5DF6BD719}"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12"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Objectives of the Organization</a:t>
            </a:r>
            <a:endParaRPr b="1" i="1" lang="en-US" sz="4400" spc="-1" strike="sngStrike" u="sng">
              <a:solidFill>
                <a:srgbClr val="ffffff"/>
              </a:solidFill>
              <a:uFillTx/>
              <a:latin typeface="Basic Sans"/>
            </a:endParaRPr>
          </a:p>
        </p:txBody>
      </p:sp>
      <p:sp>
        <p:nvSpPr>
          <p:cNvPr id="914" name=""/>
          <p:cNvSpPr txBox="1"/>
          <p:nvPr/>
        </p:nvSpPr>
        <p:spPr>
          <a:xfrm>
            <a:off x="610920" y="1988640"/>
            <a:ext cx="8064360" cy="4319640"/>
          </a:xfrm>
          <a:prstGeom prst="rect">
            <a:avLst/>
          </a:prstGeom>
          <a:noFill/>
          <a:ln w="0">
            <a:noFill/>
          </a:ln>
        </p:spPr>
        <p:txBody>
          <a:bodyPr lIns="0" rIns="0" tIns="0" bIns="0" anchor="t">
            <a:normAutofit/>
          </a:bodyPr>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ore specifically the purpose of the Organization is:</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sngStrike" u="sng">
                <a:solidFill>
                  <a:srgbClr val="ffffff"/>
                </a:solidFill>
                <a:uFillTx/>
                <a:latin typeface="Calibri"/>
              </a:rPr>
              <a:t>Promote the SeaDataNet infrastructure, tools and services and the development of underpinning science and technology;</a:t>
            </a:r>
            <a:endParaRPr b="1" i="1" lang="en-US" sz="22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sngStrike" u="sng">
                <a:solidFill>
                  <a:srgbClr val="ffffff"/>
                </a:solidFill>
                <a:uFillTx/>
                <a:latin typeface="Calibri"/>
              </a:rPr>
              <a:t>Foster cooperation and coordination within its Members in the field of data management, processing and dissemination ;</a:t>
            </a:r>
            <a:endParaRPr b="1" i="1" lang="en-US" sz="22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sngStrike" u="sng">
                <a:solidFill>
                  <a:srgbClr val="ffffff"/>
                </a:solidFill>
                <a:uFillTx/>
                <a:latin typeface="Calibri"/>
              </a:rPr>
              <a:t>Promote and coordinate the development of commonly available products and services; and</a:t>
            </a:r>
            <a:endParaRPr b="1" i="1" lang="en-US" sz="22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sngStrike" u="sng">
                <a:solidFill>
                  <a:srgbClr val="ffffff"/>
                </a:solidFill>
                <a:uFillTx/>
                <a:latin typeface="Calibri"/>
              </a:rPr>
              <a:t>Coordinate the contribution of the pan-European oceanographic data management community to the European Union initiatives for a better environmental status of the seas and oceans and for an improved marine knowledge in general.</a:t>
            </a:r>
            <a:endParaRPr b="1" i="1" lang="en-US" sz="22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sngStrike" u="sng">
              <a:solidFill>
                <a:srgbClr val="ffffff"/>
              </a:solidFill>
              <a:uFillTx/>
              <a:latin typeface="Basic Sans"/>
            </a:endParaRPr>
          </a:p>
        </p:txBody>
      </p:sp>
      <p:sp>
        <p:nvSpPr>
          <p:cNvPr id="915"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6474F-F4EF-466B-996D-6F872C15D43E}"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16"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First actions</a:t>
            </a:r>
            <a:endParaRPr b="1" i="1" lang="en-US" sz="4400" spc="-1" strike="sngStrike" u="sng">
              <a:solidFill>
                <a:srgbClr val="ffffff"/>
              </a:solidFill>
              <a:uFillTx/>
              <a:latin typeface="Basic Sans"/>
            </a:endParaRPr>
          </a:p>
        </p:txBody>
      </p:sp>
      <p:sp>
        <p:nvSpPr>
          <p:cNvPr id="918" name=""/>
          <p:cNvSpPr txBox="1"/>
          <p:nvPr/>
        </p:nvSpPr>
        <p:spPr>
          <a:xfrm>
            <a:off x="610920" y="1988640"/>
            <a:ext cx="8064360" cy="4319640"/>
          </a:xfrm>
          <a:prstGeom prst="rect">
            <a:avLst/>
          </a:prstGeom>
          <a:noFill/>
          <a:ln w="0">
            <a:noFill/>
          </a:ln>
        </p:spPr>
        <p:txBody>
          <a:bodyPr lIns="0" rIns="0" tIns="0" bIns="0" anchor="t">
            <a:normAutofit/>
          </a:bodyPr>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Decisions of the first General Assembly:</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Designation of the Members of the Board</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Decision not to set up a general secretariat</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Decision to set the annual membership fee to 250€.</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Adoption of the Rules of Procedures</a:t>
            </a: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A bank account has been opened and the situation of the AISBL wrt to the VAT has been clarified.</a:t>
            </a: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 registered office of SeaDataNet AISBL is located at RBINS (where EuroGOOS AISBL will soon move.)</a:t>
            </a:r>
            <a:endParaRPr b="1" i="1" lang="en-US" sz="2400" spc="-1" strike="sngStrike" u="sng">
              <a:solidFill>
                <a:srgbClr val="ffffff"/>
              </a:solidFill>
              <a:uFillTx/>
              <a:latin typeface="Basic Sans"/>
            </a:endParaRPr>
          </a:p>
        </p:txBody>
      </p:sp>
      <p:sp>
        <p:nvSpPr>
          <p:cNvPr id="919"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A61F8-90E0-4642-8437-9DBA2CC9D6AE}"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20"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urrent composition of the Board</a:t>
            </a:r>
            <a:endParaRPr b="1" i="1" lang="en-US" sz="4400" spc="-1" strike="sngStrike" u="sng">
              <a:solidFill>
                <a:srgbClr val="ffffff"/>
              </a:solidFill>
              <a:uFillTx/>
              <a:latin typeface="Basic Sans"/>
            </a:endParaRPr>
          </a:p>
        </p:txBody>
      </p:sp>
      <p:sp>
        <p:nvSpPr>
          <p:cNvPr id="922"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 Serge Scory (Chair)</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s Michèle Fichaut (Vice-Chair)</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s Alessandra Giorgetti</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s Athanasia Iona</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s Lesley Rickards</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 Dick Schaap</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y act as individuals (but we made sure that they have strong links with institutions responsible for key-elements of the SeaDataNet infrastructure).</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andates run up to the General Assembly of 2022, re-eligible.</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p:txBody>
      </p:sp>
      <p:sp>
        <p:nvSpPr>
          <p:cNvPr id="923"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FEC65-10E6-4688-A9E7-43DF3E352A05}"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24"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Why SeaDataNet AISBL?</a:t>
            </a:r>
            <a:endParaRPr b="1" i="1" lang="en-US" sz="4400" spc="-1" strike="sngStrike" u="sng">
              <a:solidFill>
                <a:srgbClr val="ffffff"/>
              </a:solidFill>
              <a:uFillTx/>
              <a:latin typeface="Basic Sans"/>
            </a:endParaRPr>
          </a:p>
        </p:txBody>
      </p:sp>
      <p:sp>
        <p:nvSpPr>
          <p:cNvPr id="926"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 UE Commission wanted for a long time to be able to talk to “SeaDataNet” through a unique entity, not via Beneficiaries of projects</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is is also the case for other “éhigh level” bodies (ENVRI-BEERi, ESFRI, …)</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We need to show that we are not only a project-based initiative and that there is a string will to support the sustainability of the infrastructure, its services and the delivery of high quality marine data through this channel.</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 stronger the Organization, the stronger the message </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Wingdings"/>
                <a:ea typeface="Wingdings"/>
              </a:rPr>
              <a:t></a:t>
            </a:r>
            <a:r>
              <a:rPr b="1" i="1" lang="en-US" sz="2400" spc="-1" strike="sngStrike" u="sng">
                <a:solidFill>
                  <a:srgbClr val="ffffff"/>
                </a:solidFill>
                <a:uFillTx/>
                <a:latin typeface="Calibri"/>
              </a:rPr>
              <a:t> </a:t>
            </a:r>
            <a:r>
              <a:rPr b="1" i="1" lang="en-US" sz="2400" spc="-1" strike="sngStrike" u="sng">
                <a:solidFill>
                  <a:srgbClr val="ffffff"/>
                </a:solidFill>
                <a:uFillTx/>
                <a:latin typeface="Calibri"/>
              </a:rPr>
              <a:t>become a member!</a:t>
            </a:r>
            <a:endParaRPr b="1" i="1" lang="en-US" sz="2400" spc="-1" strike="sngStrike" u="sng">
              <a:solidFill>
                <a:srgbClr val="ffffff"/>
              </a:solidFill>
              <a:uFillTx/>
              <a:latin typeface="Basic Sans"/>
            </a:endParaRPr>
          </a:p>
        </p:txBody>
      </p:sp>
      <p:sp>
        <p:nvSpPr>
          <p:cNvPr id="927"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5CF21-CA80-48F5-83A5-CD481024F714}"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28"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How will the membership fee used?</a:t>
            </a:r>
            <a:endParaRPr b="1" i="1" lang="en-US" sz="4400" spc="-1" strike="sngStrike" u="sng">
              <a:solidFill>
                <a:srgbClr val="ffffff"/>
              </a:solidFill>
              <a:uFillTx/>
              <a:latin typeface="Basic Sans"/>
            </a:endParaRPr>
          </a:p>
        </p:txBody>
      </p:sp>
      <p:sp>
        <p:nvSpPr>
          <p:cNvPr id="930"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No other income foreseen for the moment</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 membership fees will mainly be used to cover</a:t>
            </a:r>
            <a:endParaRPr b="1" i="1" lang="en-US" sz="2400" spc="-1" strike="sngStrike" u="sng">
              <a:solidFill>
                <a:srgbClr val="ffffff"/>
              </a:solidFill>
              <a:uFillTx/>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the establishment costs (~1500€)</a:t>
            </a:r>
            <a:endParaRPr b="1" i="1" lang="en-US" sz="24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the administrative support for the official accounting</a:t>
            </a:r>
            <a:endParaRPr b="1" i="1" lang="en-US" sz="24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some operational costs (stamps…)</a:t>
            </a:r>
            <a:endParaRPr b="1" i="1" lang="en-US" sz="24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promotional expenses (after </a:t>
            </a:r>
            <a:r>
              <a:rPr b="1" i="1" lang="en-US" sz="2400" spc="-1" strike="sngStrike">
                <a:solidFill>
                  <a:srgbClr val="ffffff"/>
                </a:solidFill>
                <a:latin typeface="Calibri"/>
              </a:rPr>
              <a:t>SeaDataCloud</a:t>
            </a:r>
            <a:r>
              <a:rPr b="1" i="1" lang="en-US" sz="2400" spc="-1" strike="sngStrike">
                <a:solidFill>
                  <a:srgbClr val="ffffff"/>
                </a:solidFill>
                <a:latin typeface="Calibri"/>
              </a:rPr>
              <a:t>)</a:t>
            </a:r>
            <a:endParaRPr b="1" i="1" lang="en-US" sz="24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a:t>
            </a:r>
            <a:endParaRPr b="1" i="1" lang="en-US" sz="2400" spc="-1" strike="sngStrike">
              <a:solidFill>
                <a:srgbClr val="ffffff"/>
              </a:solidFill>
              <a:latin typeface="Basic Sans"/>
            </a:endParaRPr>
          </a:p>
        </p:txBody>
      </p:sp>
      <p:sp>
        <p:nvSpPr>
          <p:cNvPr id="931"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8DA1B-4CAA-4D3A-B236-2FD175E864D2}"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32"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How to become a member?</a:t>
            </a:r>
            <a:endParaRPr b="1" i="1" lang="en-US" sz="4400" spc="-1" strike="sngStrike" u="sng">
              <a:solidFill>
                <a:srgbClr val="ffffff"/>
              </a:solidFill>
              <a:uFillTx/>
              <a:latin typeface="Basic Sans"/>
            </a:endParaRPr>
          </a:p>
        </p:txBody>
      </p:sp>
      <p:sp>
        <p:nvSpPr>
          <p:cNvPr id="934"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Organizations that signed the “SeaDataNet Exploitation Agreement” at the end of the SeaDataNet 2 project will be automatically admitted as a Member upon notification of their written request for affiliation addressed to the Organization (sdn-aisbl-board@seadatanet.org ).</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Organizations that didn’t sign the “SeaDataNet Exploitation Agreement” must be admitted by the General Meeting.</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Only organizations can become member, no individuals.</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Full membership is granted once the annual membership fee is paid to the organization.</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p:txBody>
      </p:sp>
      <p:sp>
        <p:nvSpPr>
          <p:cNvPr id="935"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BAC1C-A705-4995-AC83-0FBDC97F00E3}"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36"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ichele FICHAUT, Ifremer Brest PDG-IMN-IDM-SISME</dc:creator>
  <dc:description/>
  <dc:language>en-US</dc:language>
  <cp:lastModifiedBy/>
  <cp:revision>0</cp:revision>
  <dc:subject/>
  <dc:title>Présentation PowerPoint</dc:title>
</cp:coreProperties>
</file>