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562CA0D-B0FD-4CCE-8E7B-ABB5D3F3B2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A62D0E8-DFD9-4937-ADD6-2C469E164C2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F5D933B0-F8AB-4280-A6DF-1B0E51CDAC6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E179DAC0-5BBD-4BFC-B11C-4989A591363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6264803B-3F79-4CB0-AE0A-45AB4FB28CA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52C43D38-E36E-47DA-A0AE-53E6C42158E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53E53B12-3095-4E20-89CE-7D16E0ADEE3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B8CC4265-4F81-468A-9C10-98BBEA29373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0DD4A5CF-8A39-476A-9474-D9153C7F7C4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7A5FED0B-E231-4E8C-B6EE-3E13A733181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06C0BC25-0BD2-4737-BFF8-D353061B61E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99B5AF-A593-47F3-A080-4214D1D353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889CF0F-5291-4E1A-8182-C2222FF111C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50092B-BD5A-4A88-83E3-4ECA34C91E5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E1E5E9-BEFC-4D46-B57E-2E31AEEFBA7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C60D66-1373-4C77-9B1B-9C696116AC1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79B071-DB85-4187-A85E-324691F3FA8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5AECB9-8409-40D2-AFFF-688F1960D55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8D54A8-61E3-489C-99E8-91EAAB0237C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061480-1052-4640-8411-1436B4B012D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E7CD49-6369-45FC-8D57-758408CFFDF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23F673-8813-4151-BEAF-3550D210ECE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FC27DF-F011-4F37-9170-B119C4BA63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163A79B-76AE-4116-A53B-8CDECCC8E07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0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7EA392-3C16-4B36-8757-F583CEB1BC8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AA825AEB-6172-43AA-8615-C6185635D19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A8513014-4E20-4ADF-9A39-6F983914F11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8BD26BE5-CF75-4D45-B830-CB11AD80371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5E5A65A6-9141-4229-87CE-20E7B6E1DB3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F6D77E93-13EB-42B3-9857-91D76B2EC0E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30FBBF9A-583B-4F67-B15D-9F5601B21FC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680AF3D7-6E06-4A15-8D9D-DD390E25950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184401E0-9867-472C-91A4-1B09B619EB6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AC26CD53-5952-4655-837D-2C63670EA4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880D3D5-DF61-4D8C-BB9C-4037EF3BDAD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CE888989-0485-4F9C-863F-19EB9FA6F8D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80846318-5A6E-4F6F-AF15-A918ED9E363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4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D76F9D4A-13EB-4AAF-ADE5-559172E938A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B185D9B-C971-483E-9228-9C3FF3C4F45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586FBDE-F911-4918-B5CB-5556D6AE92F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5EEAA87-D27E-4B0B-9533-99D12A13BC7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5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DA8218B-E3C1-47EE-B832-D6956C44140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EFC88DD-EAC7-472D-BAF4-E34F79F3C9A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999C030-A79B-4569-B58C-E4E871F0DF5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E4A6DE8-7DA9-458C-98A8-C52CE68F30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2ABB0B8-934B-47A1-AE64-C2F3A0E6CDE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FCB08D6-9876-4B2A-ABED-A5F5B21F290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37274D8-A241-457A-ABF1-082A111A21B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E9471E0-C49A-4E8D-9A78-BF26E763436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1B233AB-A509-41A0-99F0-F845CF0CEA9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8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16069DF-687E-4DCA-B900-164F4103BAE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C848EA18-F50F-4A2F-B675-CDC40731F30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1599B297-9BB6-4A10-8A07-463D3D7E0B0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9BC66EE3-9026-4DD6-88D8-95624875579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CEF2F9A5-9772-43E3-BFC9-F1C49D05245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5AB8AE2B-7D9D-48F8-8D49-3CA780867D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97E417-2DC0-43A9-AE52-80820B4DF3C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CA27AB0-6817-482D-8036-FF0493C66AE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B8C73E5-2318-438C-A4C4-D0C8BDB177B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C5A7BEE-CC13-4101-B2DF-E3C4135502C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D910DCD-1D1E-40D9-A7DD-52E82284F1F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CB1CD099-36EF-44DF-850D-B7B3F8AF92E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4652AA48-068B-4D5C-9ADC-99F7FCB3E63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3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44D344A6-C619-488F-AD33-164EBE1DE6FD}"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0849E3C-3550-4C7C-80D7-EB8B92C9AAA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712DA3D-B8A2-4F2B-9AB6-DDF7B9B9A7D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AFEBA1B-E385-495E-AC3E-8FF557A5D9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B7D0BC8-9800-4B09-8317-7743D80FB318}"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7CE1D5A-6555-4503-BEDC-4B91F8A6727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CA7798B-8F77-4D60-8EEE-CD57D205FD4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22F8954-D0FB-40A2-9B6A-A71CD2D25AE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E6F4ECF-821F-4B42-B632-CE79CC06CE8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C6CEF45-58AA-457A-8D55-97C48B5E3C0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FD02AEE-5997-45FF-AD43-2614341DC89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44E27A4-2C96-4A92-B67B-FC8C92F6D27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B10A468-4507-4690-B866-B19436D765B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4A40B26-62A0-46E3-BFE2-131AF2900FD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270D139E-0C37-4748-A28F-D783E41B49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D302AD8-80BB-42A9-AD2F-CF384E3458E5}"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7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69993D14-5543-4E3C-A7D0-821D266D9CF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D8340E99-2D8D-4DB4-A844-C711149C7A1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C06DBBC4-7292-422D-A1A6-E1C48EC260B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7C6513AC-4012-4D2E-9E47-E04749F19AC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44E39E0E-9A46-4A20-A54D-613D59A27A1B}"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38362854-3491-43F9-8797-AB6A3D5F57D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9CCFFAD5-CCF5-4DC9-941D-2858653BB8A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61485A39-DF32-49A1-98DE-A869FCE1C2D9}"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6DDDB69B-E7DE-4CEA-AE9E-72A90DD766AD}"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185856EB-5A68-46D6-8FE1-BD0C61EA11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93CF28C-B5A2-4BF9-B882-6F21611E5D0F}"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12948750-A407-40E4-AB3D-D66CEBDB7EE3}"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B9B4306-D138-487C-8E74-272E203D1664}"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1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EEB2C9E-3BC6-4001-85B1-BE0009159D4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4668E5-6D8C-4CC6-9E28-153FE2A89209}"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621FB40-4EFA-461B-8276-8F57975547D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648EA1-61C3-4D1D-AE33-9C5B34FD75E7}"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5FA45E-8683-464C-AECB-181849BE80FE}"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A0A8D2-76CD-46A6-84DE-7917324765F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43D694-8B6F-41F6-8A54-E0C008C77B7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85EDF2-5B93-42BA-B170-8F02E32776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886768-A67A-4CC8-BEBD-D4321B13CB63}"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438653-E8EC-44B8-8599-006B17822A88}"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B7BFF95-2D49-4E9B-BF57-A40B05D04810}"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DE7D739-3B7A-46A2-9759-8E644E4C1D90}"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60BEACD9-98DB-4B39-8C8A-0C37422ED1D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110465CA-7FE6-4775-9703-A25483D2C407}"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E381EE38-100C-4DAC-B17A-68F47A76B003}"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9D9C8A61-536E-4920-BC05-556C5EE78B2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34DFB837-9DD1-45EC-831B-AF9DD337410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E472B56C-AE36-4E9D-A5E5-8FDB4EE8E3B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63D4C511-4504-460F-BC2E-E3CFDDDA99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4EC7927-C913-40A0-95AA-396DEA4CC1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6388F2-8739-4FE8-98FA-DFD071DAEAEB}"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EFAAABDC-9F5C-401F-9119-6E31901CC67C}"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AB950CBE-2FCF-440B-A7D3-EF4980346969}"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EBD6C3C9-F182-4202-8485-2C7061E4513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CBCBE341-A42D-472E-9B88-E31F256DB591}"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C140CC1C-71FD-4CAC-99D0-DBAA9FA94A9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41C2F900-6C8F-4C1F-A217-F96B9F988EF0}"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C29AD2D-0492-40A2-86D8-CEF459DE0FFF}"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CBC3956-8DCC-4782-9021-9D12D162A41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0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4486F6F-3CF8-4579-8271-71765692D345}"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32B7930B-19D6-4BAD-9619-05A0E876C4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6DCD5E-C3EF-4DD0-91E4-AFAED7E0ECB5}"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9837F82-487C-4F3D-BB24-089E72A2B86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7CFB982-59AA-497C-9B9D-582B89DC6576}"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CE4A831-A88E-4CC5-87D9-24C250D389CE}"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977978C-1161-4516-A694-2E5E6AD8F8BE}"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6D7ABFF-0B8A-4DD2-A30A-2C67A9A888F1}"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12055372-CD99-4D61-BCC2-726DA8017498}"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851C4FFB-B69C-456C-B45F-3F598198107E}"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588E8950-CA54-4198-90AB-1D38F02844C6}"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16811F75-519B-4DFE-993A-834BD720E59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F8906A2E-A5D9-4BD1-B39A-D4E0C78E7F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FE553B5-F271-4E18-B16A-C6558CE774C2}"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9FCD073E-35F6-4AB3-974D-2226E3F6647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2AC2804D-8F2E-47F8-B3D4-C5E013AAC3E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E0B9A252-EFB2-4399-9DA2-EFB650BAF7C3}"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C074C3BC-8651-421E-86FE-9FD4F49BBE1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D12F137D-A81B-40AE-92A2-A36553F74C6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B4BF5E57-F04A-44CE-90CD-075AF719A212}"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592186C9-0B32-479A-A91A-4481B6DAA1C7}"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613E36FA-0DF5-428E-A418-7934F285192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7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15879E61-7BB5-4A22-BA96-535FC964F9A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365EE42E-DB6A-4A12-AB36-A373561C3A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51A91ED-B133-48F0-8726-7577554828B1}"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27999177-4B7E-43DD-A2A2-292D1A96DE77}"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28C0B43B-5DB0-4108-B1F1-8B1EF142FC69}"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D040414B-D1B7-4220-9A07-145966BC75FE}"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9DD1C8DD-C85B-4027-934B-5198C9E6A76C}"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B79F7BA6-4209-450E-8049-C78CBBE353B1}"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F04DFB1-F629-47F2-A3D3-9D683E01E6C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53DCF04-5110-4108-93A6-CD00BF10696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98172D4-356A-4DD9-974B-D7A1BBB2A79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4DCCE53-B9B4-44EE-A1BD-E946A42C897A}"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FCF1C0C5-2E61-4DF0-885C-A6012A202C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3528F5D-3D41-49E6-A342-C8C0783E51B1}"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1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8620F2F6-239C-4A28-AD57-5D2FDB825EC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41E46A0F-16A8-46BC-B49B-7DD35A49572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DB26797B-BE8F-4A93-A1C9-886E04A5284C}"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D883848E-9DC6-4588-99E7-B99C4F178E92}"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2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37B59C02-3FAD-455E-ACE0-8A4E2D54824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DF4F8BB2-75EA-42D9-B897-DC8AC1276A5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02B22AA2-BBC5-4ED1-84BC-9CA7B666A35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496B6A91-38D6-49EF-998C-CD639A673D10}"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761A5166-ACAA-42A8-BA76-311C8083DE03}"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3612463C-27AF-47F2-8A4C-ACDFD96C41B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9391AF07-4125-4B47-A195-8EF5A65D3D49}"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18A9F590-843E-4A10-AB08-991DD0849CF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5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128A5BA9-221F-4439-B9F0-7B6445C52F2D}"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280D359-115A-4173-AFF2-D3BFB479C7E8}"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8E154F5-D3C5-42C4-A235-D1A819CE3726}"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7428A94-BA72-4CA7-8BFF-115A90CED19A}"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6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562FAE2-4489-41D3-8DEB-22678028E218}"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1788FF5-D436-43FA-9720-F0F096CF567C}"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9E742C0-B7A2-4229-88FF-6AACDFC1111B}"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E39FABE-579B-4FD7-98D6-EE97D694A9B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AAB91F9-9EC1-44B5-8A3D-0020358C7F73}"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2B1ABED-AC99-4D4C-BD47-0B2281897BF8}"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86EBC36-E2D6-4A45-B24B-F6F500F54BF9}"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E7707E2-5249-4BB8-9743-605E0E153602}"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B91B6CB-0F17-447A-8C8B-06A549AE5BB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AFABA99-0C03-4AD3-801A-83C10F3F8A8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8154409-3F36-4903-A158-2DE8DD9FC34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6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5D73754-3820-40B5-A885-FC9999A5BA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01FA207-CD9E-4338-A792-8D233DFDF72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2A14B05-7987-4A0D-97BF-4E0DA77D652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C7B02A0-BEAD-4844-AC41-04A74F18652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7848435-C87F-4664-828B-C679A8EE6E2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83E7241-3677-4515-9855-1AE027FC7DE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81C0DF5-260D-44E5-A32F-9C83142E665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FB01295-8EB5-4CDF-9701-8A066BA596B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729F70D-ABC5-4FF1-8B69-743519C4201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2B9E064-B5DE-4866-A631-6B68DF33DBE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BD2813D-347B-443F-AFC9-C69EB5110DC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39A02A0-2812-41A4-A0D4-3672488C4C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9D32525-F2D2-4E9C-B9DA-87D7589A7A7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4364AB4-6B1D-4C27-A9CD-F6BC52FD9AB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346C111-272F-448C-A18D-DF2C412B41C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9A645A6-7EA7-41DD-A3BE-2C930A4AF80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214340E-1840-4982-B43F-79C80FA7248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960FE42-4155-4182-9F6E-BA261C2FB3D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0DBC1E0-9034-4016-B890-81842275A35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0C094D7-E496-4D15-B799-8DB3B2BB2FD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B8AE486-B59F-4EEC-888F-43890E8C57B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1775241-BC99-43DC-A31B-3BDB7A6F56C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506967D-62BE-4706-9824-F7F114CF85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6941EE2-4366-4B11-BD7A-BF3D4DAA4B5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DCD6440-16DF-45CD-BB97-3D8D85E9FF8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14F9DB7-704E-43DD-8D17-192F4158D1C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DEFD54D-EAC7-46BD-9208-B7EEC5FEB73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7BABC0B-8091-4C0E-AFC5-5117CCBAF14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B8BFF74-5BFF-4BC6-8FD6-16D4139EAE2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158BA4B-58C5-4BE1-8AFF-9A66C373279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7F5C725-91D9-4A53-9605-EF01ABE4EC9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F03E9A3-4BFC-4D5E-9BE0-E5DE602963F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CC8F11C-C74E-4044-9B27-3313B3B8C69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0897896-7428-489D-A699-0341116DDE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E760295-56F7-4732-9700-3B4F811DBD3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B8D366B-331A-4EEA-9CA1-08F0C2C8C9D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FB38E09-CB44-4480-95E0-E2B9962C74A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9DED149-E9B7-4D59-B0EC-7AD7429C332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1355A5A-2BA0-4DCB-A856-7F98155B764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8CBDF31-A09B-4858-8EE5-7E12BB84CAE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E8117FF-57E5-4E90-B018-4879C161B29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B364F01-196F-48D3-8D52-9C9B9059194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226F624-67BD-4005-AEA4-E161375A56D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826A0EE-561F-467F-B5C7-EE1AD15A45A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77A9E85-F9A1-42D3-89A7-996BA1EDE0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F6DC5B7-1AC0-44CA-9722-1C1B9E41248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3D3A0BA-DBFF-48CB-93A9-CDE33BB01F7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A14B21F-223B-480A-99BC-8A9E1034C15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62F26B9-4429-4A3C-B77E-FA9B970F766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929829F-C2A7-4A34-AC8D-E4F2091B10C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E6142C1-5CCD-4023-AB2E-8B0369C8233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7EB1980-00CD-4F0C-9C48-BA0D4061DA2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5639464-7D05-4B22-95D6-95FCB62D0A1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1FF00250-3327-41C1-8093-89FB368D4DE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CE854789-39BD-4E3B-A5C0-EAC5D0967B1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FAD0F9A9-6F55-43A0-81CC-79111AB01C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00808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 name="PlaceHolder 3"/>
          <p:cNvSpPr>
            <a:spLocks noGrp="1"/>
          </p:cNvSpPr>
          <p:nvPr>
            <p:ph type="sldNum" idx="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7925ED-F4D9-4902-B726-FB1E258B2159}"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4" name="PlaceHolder 4"/>
          <p:cNvSpPr>
            <a:spLocks noGrp="1"/>
          </p:cNvSpPr>
          <p:nvPr>
            <p:ph type="ftr" idx="2"/>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pic>
        <p:nvPicPr>
          <p:cNvPr id="5" name="Picture 10" descr="SeaDatacloud2017logo_low"/>
          <p:cNvPicPr/>
          <p:nvPr/>
        </p:nvPicPr>
        <p:blipFill>
          <a:blip r:embed="rId3"/>
          <a:stretch/>
        </p:blipFill>
        <p:spPr>
          <a:xfrm>
            <a:off x="611280" y="455760"/>
            <a:ext cx="1368360" cy="59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6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369" name="PlaceHolder 3"/>
          <p:cNvSpPr>
            <a:spLocks noGrp="1"/>
          </p:cNvSpPr>
          <p:nvPr>
            <p:ph type="ftr" idx="1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370" name="PlaceHolder 4"/>
          <p:cNvSpPr>
            <a:spLocks noGrp="1"/>
          </p:cNvSpPr>
          <p:nvPr>
            <p:ph type="sldNum" idx="1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EC2EB0-9A94-4998-A3AC-35272819B9F1}"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08" name="Picture 10" descr="SeaDatacloud2017logo_low"/>
          <p:cNvPicPr/>
          <p:nvPr/>
        </p:nvPicPr>
        <p:blipFill>
          <a:blip r:embed="rId3"/>
          <a:stretch/>
        </p:blipFill>
        <p:spPr>
          <a:xfrm>
            <a:off x="611280" y="455760"/>
            <a:ext cx="1368360" cy="596880"/>
          </a:xfrm>
          <a:prstGeom prst="rect">
            <a:avLst/>
          </a:prstGeom>
          <a:ln w="0">
            <a:noFill/>
          </a:ln>
        </p:spPr>
      </p:pic>
      <p:sp>
        <p:nvSpPr>
          <p:cNvPr id="4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1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11" name="PlaceHolder 3"/>
          <p:cNvSpPr>
            <a:spLocks noGrp="1"/>
          </p:cNvSpPr>
          <p:nvPr>
            <p:ph type="sldNum" idx="1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2A1A7C-C27C-461B-AF11-B9F48A0E7836}"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12" name="PlaceHolder 4"/>
          <p:cNvSpPr>
            <a:spLocks noGrp="1"/>
          </p:cNvSpPr>
          <p:nvPr>
            <p:ph type="ftr" idx="2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5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51" name="PlaceHolder 3"/>
          <p:cNvSpPr>
            <a:spLocks noGrp="1"/>
          </p:cNvSpPr>
          <p:nvPr>
            <p:ph type="ftr" idx="2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452" name="PlaceHolder 4"/>
          <p:cNvSpPr>
            <a:spLocks noGrp="1"/>
          </p:cNvSpPr>
          <p:nvPr>
            <p:ph type="sldNum" idx="2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C402B7-62BB-4BB7-A4A0-F7BCC6EC310B}"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9"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90" name="Picture 10" descr="SeaDatacloud2017logo_low"/>
          <p:cNvPicPr/>
          <p:nvPr/>
        </p:nvPicPr>
        <p:blipFill>
          <a:blip r:embed="rId3"/>
          <a:stretch/>
        </p:blipFill>
        <p:spPr>
          <a:xfrm>
            <a:off x="611280" y="455760"/>
            <a:ext cx="1368360" cy="596880"/>
          </a:xfrm>
          <a:prstGeom prst="rect">
            <a:avLst/>
          </a:prstGeom>
          <a:ln w="0">
            <a:noFill/>
          </a:ln>
        </p:spPr>
      </p:pic>
      <p:sp>
        <p:nvSpPr>
          <p:cNvPr id="49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92"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93" name="PlaceHolder 3"/>
          <p:cNvSpPr>
            <a:spLocks noGrp="1"/>
          </p:cNvSpPr>
          <p:nvPr>
            <p:ph type="sldNum" idx="23"/>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198EE8-7CC8-46CD-B582-8EADF0AD1D3D}"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94" name="PlaceHolder 4"/>
          <p:cNvSpPr>
            <a:spLocks noGrp="1"/>
          </p:cNvSpPr>
          <p:nvPr>
            <p:ph type="ftr" idx="24"/>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32"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533" name="PlaceHolder 3"/>
          <p:cNvSpPr>
            <a:spLocks noGrp="1"/>
          </p:cNvSpPr>
          <p:nvPr>
            <p:ph type="ftr" idx="25"/>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534" name="PlaceHolder 4"/>
          <p:cNvSpPr>
            <a:spLocks noGrp="1"/>
          </p:cNvSpPr>
          <p:nvPr>
            <p:ph type="sldNum" idx="26"/>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0E172D-C178-4C18-A596-D807C3704CE1}"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572" name="Picture 10" descr="SeaDatacloud2017logo_low"/>
          <p:cNvPicPr/>
          <p:nvPr/>
        </p:nvPicPr>
        <p:blipFill>
          <a:blip r:embed="rId3"/>
          <a:stretch/>
        </p:blipFill>
        <p:spPr>
          <a:xfrm>
            <a:off x="611280" y="455760"/>
            <a:ext cx="1368360" cy="596880"/>
          </a:xfrm>
          <a:prstGeom prst="rect">
            <a:avLst/>
          </a:prstGeom>
          <a:ln w="0">
            <a:noFill/>
          </a:ln>
        </p:spPr>
      </p:pic>
      <p:sp>
        <p:nvSpPr>
          <p:cNvPr id="57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7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575" name="PlaceHolder 3"/>
          <p:cNvSpPr>
            <a:spLocks noGrp="1"/>
          </p:cNvSpPr>
          <p:nvPr>
            <p:ph type="sldNum" idx="2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0B3781-1E72-480A-9B00-228A3A04159A}"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576" name="PlaceHolder 4"/>
          <p:cNvSpPr>
            <a:spLocks noGrp="1"/>
          </p:cNvSpPr>
          <p:nvPr>
            <p:ph type="ftr" idx="2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1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15" name="PlaceHolder 3"/>
          <p:cNvSpPr>
            <a:spLocks noGrp="1"/>
          </p:cNvSpPr>
          <p:nvPr>
            <p:ph type="ftr" idx="2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16" name="PlaceHolder 4"/>
          <p:cNvSpPr>
            <a:spLocks noGrp="1"/>
          </p:cNvSpPr>
          <p:nvPr>
            <p:ph type="sldNum" idx="3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822826-C018-42D6-B31C-426BD0504CD3}"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654" name="Picture 10" descr="SeaDatacloud2017logo_low"/>
          <p:cNvPicPr/>
          <p:nvPr/>
        </p:nvPicPr>
        <p:blipFill>
          <a:blip r:embed="rId3"/>
          <a:stretch/>
        </p:blipFill>
        <p:spPr>
          <a:xfrm>
            <a:off x="611280" y="455760"/>
            <a:ext cx="1368360" cy="596880"/>
          </a:xfrm>
          <a:prstGeom prst="rect">
            <a:avLst/>
          </a:prstGeom>
          <a:ln w="0">
            <a:noFill/>
          </a:ln>
        </p:spPr>
      </p:pic>
      <p:sp>
        <p:nvSpPr>
          <p:cNvPr id="65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5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657" name="PlaceHolder 3"/>
          <p:cNvSpPr>
            <a:spLocks noGrp="1"/>
          </p:cNvSpPr>
          <p:nvPr>
            <p:ph type="sldNum" idx="3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EC6CFD-08F9-4729-9C9C-0D83AA01A952}"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658" name="PlaceHolder 4"/>
          <p:cNvSpPr>
            <a:spLocks noGrp="1"/>
          </p:cNvSpPr>
          <p:nvPr>
            <p:ph type="ftr" idx="3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9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97" name="PlaceHolder 3"/>
          <p:cNvSpPr>
            <a:spLocks noGrp="1"/>
          </p:cNvSpPr>
          <p:nvPr>
            <p:ph type="ftr" idx="3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98" name="PlaceHolder 4"/>
          <p:cNvSpPr>
            <a:spLocks noGrp="1"/>
          </p:cNvSpPr>
          <p:nvPr>
            <p:ph type="sldNum" idx="3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6501AA-ECC9-463B-9E3C-B199BC24BE58}"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736" name="Picture 10" descr="SeaDatacloud2017logo_low"/>
          <p:cNvPicPr/>
          <p:nvPr/>
        </p:nvPicPr>
        <p:blipFill>
          <a:blip r:embed="rId3"/>
          <a:stretch/>
        </p:blipFill>
        <p:spPr>
          <a:xfrm>
            <a:off x="611280" y="455760"/>
            <a:ext cx="1368360" cy="596880"/>
          </a:xfrm>
          <a:prstGeom prst="rect">
            <a:avLst/>
          </a:prstGeom>
          <a:ln w="0">
            <a:noFill/>
          </a:ln>
        </p:spPr>
      </p:pic>
      <p:sp>
        <p:nvSpPr>
          <p:cNvPr id="7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3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739" name="PlaceHolder 3"/>
          <p:cNvSpPr>
            <a:spLocks noGrp="1"/>
          </p:cNvSpPr>
          <p:nvPr>
            <p:ph type="sldNum" idx="3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DEA3B0-13BE-4AED-A21A-34C41F8D4C50}"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740" name="PlaceHolder 4"/>
          <p:cNvSpPr>
            <a:spLocks noGrp="1"/>
          </p:cNvSpPr>
          <p:nvPr>
            <p:ph type="ftr" idx="3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4" name="PlaceHolder 3"/>
          <p:cNvSpPr>
            <a:spLocks noGrp="1"/>
          </p:cNvSpPr>
          <p:nvPr>
            <p:ph type="ftr" idx="3"/>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
        <p:nvSpPr>
          <p:cNvPr id="45" name="PlaceHolder 4"/>
          <p:cNvSpPr>
            <a:spLocks noGrp="1"/>
          </p:cNvSpPr>
          <p:nvPr>
            <p:ph type="sldNum" idx="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E86E82-7A4E-4E21-BFB6-93A2E418137D}"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7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779" name="PlaceHolder 3"/>
          <p:cNvSpPr>
            <a:spLocks noGrp="1"/>
          </p:cNvSpPr>
          <p:nvPr>
            <p:ph type="ftr" idx="3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780" name="PlaceHolder 4"/>
          <p:cNvSpPr>
            <a:spLocks noGrp="1"/>
          </p:cNvSpPr>
          <p:nvPr>
            <p:ph type="sldNum" idx="3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CDEA53-260E-4F9F-B7C5-549E1B232284}"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818" name="Picture 10" descr="SeaDatacloud2017logo_low"/>
          <p:cNvPicPr/>
          <p:nvPr/>
        </p:nvPicPr>
        <p:blipFill>
          <a:blip r:embed="rId3"/>
          <a:stretch/>
        </p:blipFill>
        <p:spPr>
          <a:xfrm>
            <a:off x="611280" y="455760"/>
            <a:ext cx="1368360" cy="596880"/>
          </a:xfrm>
          <a:prstGeom prst="rect">
            <a:avLst/>
          </a:prstGeom>
          <a:ln w="0">
            <a:noFill/>
          </a:ln>
        </p:spPr>
      </p:pic>
      <p:sp>
        <p:nvSpPr>
          <p:cNvPr id="81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2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21" name="PlaceHolder 3"/>
          <p:cNvSpPr>
            <a:spLocks noGrp="1"/>
          </p:cNvSpPr>
          <p:nvPr>
            <p:ph type="sldNum" idx="3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97F5F2-6F75-4A46-B7E1-6656EEA2A2C0}"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822" name="PlaceHolder 4"/>
          <p:cNvSpPr>
            <a:spLocks noGrp="1"/>
          </p:cNvSpPr>
          <p:nvPr>
            <p:ph type="ftr" idx="4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6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861" name="PlaceHolder 3"/>
          <p:cNvSpPr>
            <a:spLocks noGrp="1"/>
          </p:cNvSpPr>
          <p:nvPr>
            <p:ph type="ftr" idx="4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862" name="PlaceHolder 4"/>
          <p:cNvSpPr>
            <a:spLocks noGrp="1"/>
          </p:cNvSpPr>
          <p:nvPr>
            <p:ph type="sldNum" idx="4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14B211-FBD6-4007-B4BB-7188983FB1F3}"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Text Box 7"/>
          <p:cNvSpPr/>
          <p:nvPr/>
        </p:nvSpPr>
        <p:spPr>
          <a:xfrm>
            <a:off x="4684680" y="6021360"/>
            <a:ext cx="3919680" cy="731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8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5" name="PlaceHolder 3"/>
          <p:cNvSpPr>
            <a:spLocks noGrp="1"/>
          </p:cNvSpPr>
          <p:nvPr>
            <p:ph type="ftr" idx="5"/>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2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124" name="PlaceHolder 3"/>
          <p:cNvSpPr>
            <a:spLocks noGrp="1"/>
          </p:cNvSpPr>
          <p:nvPr>
            <p:ph type="ftr" idx="6"/>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162" name="Picture 10" descr="SeaDatacloud2017logo_low"/>
          <p:cNvPicPr/>
          <p:nvPr/>
        </p:nvPicPr>
        <p:blipFill>
          <a:blip r:embed="rId3"/>
          <a:stretch/>
        </p:blipFill>
        <p:spPr>
          <a:xfrm>
            <a:off x="611280" y="455760"/>
            <a:ext cx="1368360" cy="596880"/>
          </a:xfrm>
          <a:prstGeom prst="rect">
            <a:avLst/>
          </a:prstGeom>
          <a:ln w="0">
            <a:noFill/>
          </a:ln>
        </p:spPr>
      </p:pic>
      <p:sp>
        <p:nvSpPr>
          <p:cNvPr id="16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6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165" name="PlaceHolder 3"/>
          <p:cNvSpPr>
            <a:spLocks noGrp="1"/>
          </p:cNvSpPr>
          <p:nvPr>
            <p:ph type="sldNum" idx="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B41EC7-4B17-46ED-8545-B7F97F3E776A}"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166" name="PlaceHolder 4"/>
          <p:cNvSpPr>
            <a:spLocks noGrp="1"/>
          </p:cNvSpPr>
          <p:nvPr>
            <p:ph type="ftr" idx="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0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05" name="PlaceHolder 3"/>
          <p:cNvSpPr>
            <a:spLocks noGrp="1"/>
          </p:cNvSpPr>
          <p:nvPr>
            <p:ph type="ftr" idx="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06" name="PlaceHolder 4"/>
          <p:cNvSpPr>
            <a:spLocks noGrp="1"/>
          </p:cNvSpPr>
          <p:nvPr>
            <p:ph type="sldNum" idx="1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156A37-AEE0-4CDA-9055-291A36F2710B}"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244" name="Picture 10" descr="SeaDatacloud2017logo_low"/>
          <p:cNvPicPr/>
          <p:nvPr/>
        </p:nvPicPr>
        <p:blipFill>
          <a:blip r:embed="rId3"/>
          <a:stretch/>
        </p:blipFill>
        <p:spPr>
          <a:xfrm>
            <a:off x="611280" y="455760"/>
            <a:ext cx="1368360" cy="596880"/>
          </a:xfrm>
          <a:prstGeom prst="rect">
            <a:avLst/>
          </a:prstGeom>
          <a:ln w="0">
            <a:noFill/>
          </a:ln>
        </p:spPr>
      </p:pic>
      <p:sp>
        <p:nvSpPr>
          <p:cNvPr id="24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4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47" name="PlaceHolder 3"/>
          <p:cNvSpPr>
            <a:spLocks noGrp="1"/>
          </p:cNvSpPr>
          <p:nvPr>
            <p:ph type="sldNum" idx="1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C9466A-DA1C-4BD6-A852-5087AE1BC206}"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248" name="PlaceHolder 4"/>
          <p:cNvSpPr>
            <a:spLocks noGrp="1"/>
          </p:cNvSpPr>
          <p:nvPr>
            <p:ph type="ftr" idx="1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8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87" name="PlaceHolder 3"/>
          <p:cNvSpPr>
            <a:spLocks noGrp="1"/>
          </p:cNvSpPr>
          <p:nvPr>
            <p:ph type="ftr" idx="1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88" name="PlaceHolder 4"/>
          <p:cNvSpPr>
            <a:spLocks noGrp="1"/>
          </p:cNvSpPr>
          <p:nvPr>
            <p:ph type="sldNum" idx="1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D4ED99-B7D4-49D1-B41B-D8FEA7F4FD8E}"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326" name="Picture 10" descr="SeaDatacloud2017logo_low"/>
          <p:cNvPicPr/>
          <p:nvPr/>
        </p:nvPicPr>
        <p:blipFill>
          <a:blip r:embed="rId3"/>
          <a:stretch/>
        </p:blipFill>
        <p:spPr>
          <a:xfrm>
            <a:off x="611280" y="455760"/>
            <a:ext cx="1368360" cy="596880"/>
          </a:xfrm>
          <a:prstGeom prst="rect">
            <a:avLst/>
          </a:prstGeom>
          <a:ln w="0">
            <a:noFill/>
          </a:ln>
        </p:spPr>
      </p:pic>
      <p:sp>
        <p:nvSpPr>
          <p:cNvPr id="32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2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329" name="PlaceHolder 3"/>
          <p:cNvSpPr>
            <a:spLocks noGrp="1"/>
          </p:cNvSpPr>
          <p:nvPr>
            <p:ph type="sldNum" idx="1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F04433-F653-4367-9669-F038A5C6BDBB}"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30" name="PlaceHolder 4"/>
          <p:cNvSpPr>
            <a:spLocks noGrp="1"/>
          </p:cNvSpPr>
          <p:nvPr>
            <p:ph type="ftr" idx="1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9" name="Rectangle 11"/>
          <p:cNvSpPr/>
          <p:nvPr/>
        </p:nvSpPr>
        <p:spPr>
          <a:xfrm>
            <a:off x="1403280" y="5808600"/>
            <a:ext cx="721692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0" name="PlaceHolder 1"/>
          <p:cNvSpPr>
            <a:spLocks noGrp="1"/>
          </p:cNvSpPr>
          <p:nvPr>
            <p:ph type="title"/>
          </p:nvPr>
        </p:nvSpPr>
        <p:spPr>
          <a:xfrm>
            <a:off x="2244240" y="3295440"/>
            <a:ext cx="4775400" cy="369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51a0"/>
                </a:solidFill>
                <a:latin typeface="Calibri Light"/>
              </a:rPr>
              <a:t>SeaDataNet AISBL</a:t>
            </a:r>
            <a:endParaRPr b="1" i="1" lang="en-US" sz="2400" spc="-1" strike="sngStrike" u="sng">
              <a:solidFill>
                <a:srgbClr val="ffffff"/>
              </a:solidFill>
              <a:uFillTx/>
              <a:latin typeface="Basic Sans"/>
            </a:endParaRPr>
          </a:p>
        </p:txBody>
      </p:sp>
      <p:sp>
        <p:nvSpPr>
          <p:cNvPr id="901" name="PlaceHolder 2"/>
          <p:cNvSpPr>
            <a:spLocks noGrp="1"/>
          </p:cNvSpPr>
          <p:nvPr>
            <p:ph type="subTitle"/>
          </p:nvPr>
        </p:nvSpPr>
        <p:spPr>
          <a:xfrm>
            <a:off x="2268000" y="4667040"/>
            <a:ext cx="4751640" cy="261720"/>
          </a:xfrm>
          <a:prstGeom prst="rect">
            <a:avLst/>
          </a:prstGeom>
          <a:noFill/>
          <a:ln w="0">
            <a:noFill/>
          </a:ln>
        </p:spPr>
        <p:txBody>
          <a:bodyPr lIns="0" rIns="0" tIns="0" bIns="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551a0"/>
                </a:solidFill>
                <a:latin typeface="Calibri Light"/>
              </a:rPr>
              <a:t>Serge Scory, Chair</a:t>
            </a:r>
            <a:endParaRPr b="1" i="1" lang="en-US" sz="1700" spc="-1" strike="sngStrike" u="sng">
              <a:solidFill>
                <a:srgbClr val="ffffff"/>
              </a:solidFill>
              <a:uFillTx/>
              <a:latin typeface="Basic Sans"/>
            </a:endParaRPr>
          </a:p>
        </p:txBody>
      </p:sp>
      <p:pic>
        <p:nvPicPr>
          <p:cNvPr id="902" name="Picture 1" descr=""/>
          <p:cNvPicPr/>
          <p:nvPr/>
        </p:nvPicPr>
        <p:blipFill>
          <a:blip r:embed="rId2"/>
          <a:stretch/>
        </p:blipFill>
        <p:spPr>
          <a:xfrm>
            <a:off x="4932360" y="3213000"/>
            <a:ext cx="2651040" cy="129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tatus of the membership</a:t>
            </a:r>
            <a:endParaRPr b="1" i="1" lang="en-US" sz="4400" spc="-1" strike="sngStrike" u="sng">
              <a:solidFill>
                <a:srgbClr val="ffffff"/>
              </a:solidFill>
              <a:uFillTx/>
              <a:latin typeface="Basic Sans"/>
            </a:endParaRPr>
          </a:p>
        </p:txBody>
      </p:sp>
      <p:sp>
        <p:nvSpPr>
          <p:cNvPr id="938" name=""/>
          <p:cNvSpPr txBox="1"/>
          <p:nvPr/>
        </p:nvSpPr>
        <p:spPr>
          <a:xfrm>
            <a:off x="610920" y="1988640"/>
            <a:ext cx="453708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e full membe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ive organizations applied</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38 Potential “direct” members (Status June 2016)</a:t>
            </a:r>
            <a:endParaRPr b="1" i="1" lang="en-US" sz="2400" spc="-1" strike="sngStrike" u="sng">
              <a:solidFill>
                <a:srgbClr val="ffffff"/>
              </a:solidFill>
              <a:uFillTx/>
              <a:latin typeface="Basic Sans"/>
            </a:endParaRPr>
          </a:p>
        </p:txBody>
      </p:sp>
      <p:sp>
        <p:nvSpPr>
          <p:cNvPr id="93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A184-5C16-4417-9768-899D2B3720F0}"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41" name="TextBox 5"/>
          <p:cNvSpPr/>
          <p:nvPr/>
        </p:nvSpPr>
        <p:spPr>
          <a:xfrm>
            <a:off x="5219640" y="1484280"/>
            <a:ext cx="3816360" cy="5269320"/>
          </a:xfrm>
          <a:prstGeom prst="rect">
            <a:avLst/>
          </a:prstGeom>
          <a:solidFill>
            <a:srgbClr val="ffffff"/>
          </a:solid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To: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c/o Serge Scory (Chair)</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oyal Belgian Institute of Natural Sciences</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ue Vautier 29</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1000 Brussels (Belgium)</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1" i="1" lang="en-US" sz="1000" spc="-1" strike="sngStrike" u="sng">
                <a:solidFill>
                  <a:srgbClr val="ffffff"/>
                </a:solidFill>
                <a:uFillTx/>
                <a:latin typeface="Basic Sans"/>
              </a:rPr>
              <a:t>To the Board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In agreement with Art. 7 of the statutes of SeaDataNet aisbl, stating that the signatories of the "SeaDatanet Exploitation Agreement" will become a full member by explicitely notifying to the association their willingness to become a member; considering further that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signed this agreeement in due time, </a:t>
            </a:r>
            <a:r>
              <a:rPr b="1" i="1" lang="en-US" sz="1000" spc="-1" strike="sngStrike" u="sng">
                <a:solidFill>
                  <a:srgbClr val="ffffff"/>
                </a:solidFill>
                <a:uFillTx/>
                <a:latin typeface="Basic Sans"/>
              </a:rPr>
              <a:t>[your Institution name] </a:t>
            </a:r>
            <a:r>
              <a:rPr b="1" i="1" lang="en-US" sz="1000" spc="-1" strike="sngStrike" u="sng">
                <a:solidFill>
                  <a:srgbClr val="ffffff"/>
                </a:solidFill>
                <a:uFillTx/>
                <a:latin typeface="Basic Sans"/>
              </a:rPr>
              <a:t>herewith notifies SeaDataNet aisbl of its willingness to become a full member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acknowledges that its membership will only become effective once its financial contribution to the functioning of the association ("annual fee", currently equal to 250,-€) will be available on the bank account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Furthermore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mandates</a:t>
            </a:r>
            <a:r>
              <a:rPr b="1" i="1" lang="en-US" sz="1000" spc="-1" strike="sngStrike" u="sng">
                <a:solidFill>
                  <a:srgbClr val="ffffff"/>
                </a:solidFill>
                <a:uFillTx/>
                <a:latin typeface="Basic Sans"/>
              </a:rPr>
              <a:t> Dr/Mrs/M. XXX (+full address)</a:t>
            </a:r>
            <a:r>
              <a:rPr b="1" i="1" lang="en-US" sz="1000" spc="-1" strike="sngStrike" u="sng">
                <a:solidFill>
                  <a:srgbClr val="ffffff"/>
                </a:solidFill>
                <a:uFillTx/>
                <a:latin typeface="Basic Sans"/>
              </a:rPr>
              <a:t> as its representative to the General Assembly of SeaDataNet aisbl and the follow-up of the activities of the association.</a:t>
            </a:r>
            <a:br>
              <a:rPr sz="1000"/>
            </a:b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Signatory name, title; date; stamp</a:t>
            </a:r>
            <a:endParaRPr b="1" i="1" lang="en-US" sz="1000" spc="-1" strike="sngStrike" u="sng">
              <a:solidFill>
                <a:srgbClr val="ffffff"/>
              </a:solidFill>
              <a:uFillTx/>
              <a:latin typeface="Basic Sans"/>
            </a:endParaRPr>
          </a:p>
        </p:txBody>
      </p:sp>
      <p:sp>
        <p:nvSpPr>
          <p:cNvPr id="942" name="TextBox 6"/>
          <p:cNvSpPr/>
          <p:nvPr/>
        </p:nvSpPr>
        <p:spPr>
          <a:xfrm>
            <a:off x="1835280" y="3882960"/>
            <a:ext cx="3241440" cy="1189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ffffff"/>
                </a:solidFill>
                <a:uFillTx/>
                <a:latin typeface="Calibri"/>
              </a:rPr>
              <a:t>We’ll send an email soon to the signatories of the exploitation agreement with a template of an application letter.</a:t>
            </a:r>
            <a:endParaRPr b="1" i="1" lang="en-US" sz="18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4"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elgiu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LG</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Georg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SU-DN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VLI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German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BSH</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ulgar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O_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AW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roat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F</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ce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R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Cypru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C-UC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Denmar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Aarhus_Universit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srae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L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CE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tal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G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Esto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S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N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in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ENE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France</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H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NGV</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2A96-534E-4C12-9BDE-292D00C0FFCD}"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8"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atv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HE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IO-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alt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U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ontenegr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B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love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B_MBS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etherland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IO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pai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E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orwa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TM-CSI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PA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wede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MH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GW</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uni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NST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rtuga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HPT</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Turke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ETU</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oma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MR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D26C-EDC9-45B2-9478-AA1F78BA31C0}"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ontact: sdn-aisbl-board@seadatanet.org</a:t>
            </a:r>
            <a:endParaRPr b="1" i="1" lang="en-US" sz="4400" spc="-1" strike="sngStrike" u="sng">
              <a:solidFill>
                <a:srgbClr val="ffffff"/>
              </a:solidFill>
              <a:uFillTx/>
              <a:latin typeface="Basic Sans"/>
            </a:endParaRPr>
          </a:p>
        </p:txBody>
      </p:sp>
      <p:pic>
        <p:nvPicPr>
          <p:cNvPr id="952" name="Content Placeholder 5" descr=""/>
          <p:cNvPicPr/>
          <p:nvPr/>
        </p:nvPicPr>
        <p:blipFill>
          <a:blip r:embed="rId2"/>
          <a:stretch/>
        </p:blipFill>
        <p:spPr>
          <a:xfrm>
            <a:off x="611280" y="2182680"/>
            <a:ext cx="8064360" cy="3932280"/>
          </a:xfrm>
          <a:prstGeom prst="rect">
            <a:avLst/>
          </a:prstGeom>
          <a:ln w="0">
            <a:noFill/>
          </a:ln>
        </p:spPr>
      </p:pic>
      <p:sp>
        <p:nvSpPr>
          <p:cNvPr id="95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A950C-75C5-46B0-8CD6-D51B96AB805F}"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eaDataNet AISBL is established</a:t>
            </a:r>
            <a:endParaRPr b="1" i="1" lang="en-US" sz="4400" spc="-1" strike="sngStrike" u="sng">
              <a:solidFill>
                <a:srgbClr val="ffffff"/>
              </a:solidFill>
              <a:uFillTx/>
              <a:latin typeface="Basic Sans"/>
            </a:endParaRPr>
          </a:p>
        </p:txBody>
      </p:sp>
      <p:sp>
        <p:nvSpPr>
          <p:cNvPr id="904"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AA42-AED9-4766-A785-678317B3BA07}"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05"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a:t>
            </a:r>
            <a:r>
              <a:rPr b="1" i="1" lang="en-US" sz="2000" spc="-1" strike="sngStrike" u="sng">
                <a:solidFill>
                  <a:srgbClr val="ffffff"/>
                </a:solidFill>
                <a:uFillTx/>
                <a:latin typeface="Calibri"/>
              </a:rPr>
              <a:t>AISBL”: Non-profit international organization under Belgian law</a:t>
            </a:r>
            <a:endParaRPr b="1" i="1" lang="en-US" sz="20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Several steps:</a:t>
            </a:r>
            <a:endParaRPr b="1" i="1" lang="en-US" sz="20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2 February 2019: Adoption of the statutes by the 2 founding members (IFREMER and RBINS) and first General Assembly</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3 April 2019: Signature of the Royal Decree</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09 May 2019: Publication in the Belgian official Gazette</a:t>
            </a:r>
            <a:endParaRPr b="1" i="1" lang="en-US" sz="1600" spc="-1" strike="sngStrike">
              <a:solidFill>
                <a:srgbClr val="ffffff"/>
              </a:solidFill>
              <a:latin typeface="Basic Sans"/>
            </a:endParaRPr>
          </a:p>
        </p:txBody>
      </p:sp>
      <p:pic>
        <p:nvPicPr>
          <p:cNvPr id="907" name="Picture 6" descr=""/>
          <p:cNvPicPr/>
          <p:nvPr/>
        </p:nvPicPr>
        <p:blipFill>
          <a:blip r:embed="rId2"/>
          <a:stretch/>
        </p:blipFill>
        <p:spPr>
          <a:xfrm>
            <a:off x="4284720" y="4149720"/>
            <a:ext cx="4281480" cy="2075040"/>
          </a:xfrm>
          <a:prstGeom prst="rect">
            <a:avLst/>
          </a:prstGeom>
          <a:ln w="0">
            <a:noFill/>
          </a:ln>
        </p:spPr>
      </p:pic>
      <p:pic>
        <p:nvPicPr>
          <p:cNvPr id="908" name="Picture 8" descr=""/>
          <p:cNvPicPr/>
          <p:nvPr/>
        </p:nvPicPr>
        <p:blipFill>
          <a:blip r:embed="rId3"/>
          <a:stretch/>
        </p:blipFill>
        <p:spPr>
          <a:xfrm>
            <a:off x="1476360" y="3933720"/>
            <a:ext cx="1913040" cy="198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0"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ccording to its </a:t>
            </a:r>
            <a:r>
              <a:rPr b="1" i="1" lang="en-US" sz="2400" spc="-1" strike="sngStrike" u="sng">
                <a:solidFill>
                  <a:srgbClr val="ffffff"/>
                </a:solidFill>
                <a:uFillTx/>
                <a:latin typeface="Calibri"/>
              </a:rPr>
              <a:t>statutes</a:t>
            </a:r>
            <a:r>
              <a:rPr b="1" i="1" lang="en-US" sz="2400" spc="-1" strike="sngStrike" u="sng">
                <a:solidFill>
                  <a:srgbClr val="ffffff"/>
                </a:solidFill>
                <a:uFillTx/>
                <a:latin typeface="Calibri"/>
              </a:rPr>
              <a:t> , </a:t>
            </a:r>
            <a:r>
              <a:rPr b="1" i="1" lang="en-US" sz="2400" spc="-1" strike="sngStrike" u="sng">
                <a:solidFill>
                  <a:srgbClr val="ffffff"/>
                </a:solidFill>
                <a:uFillTx/>
                <a:latin typeface="Calibri"/>
              </a:rPr>
              <a:t>the Organization, which does not seek financial gain, aims to work in the collective interest of its members to improve the quality and effectiveness in the management, the processing and the dissemination of oceanographic data at national, regional and global level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SeaDataNet is a light organization aiming mainly at promoting our common endeavours. It isn’t its purpose to take over, as it is now, the operational role of the various SeaDataNet partners</a:t>
            </a:r>
            <a:endParaRPr b="1" i="1" lang="en-US" sz="2400" spc="-1" strike="sngStrike" u="sng">
              <a:solidFill>
                <a:srgbClr val="ffffff"/>
              </a:solidFill>
              <a:uFillTx/>
              <a:latin typeface="Basic Sans"/>
            </a:endParaRPr>
          </a:p>
        </p:txBody>
      </p:sp>
      <p:sp>
        <p:nvSpPr>
          <p:cNvPr id="91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B2853-B3B2-4153-BD8D-2D2651114CE9}"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4"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ore specifically the purpose of the Organization is:</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the SeaDataNet infrastructure, tools and services and the development of underpinning science and technology;</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Foster cooperation and coordination within its Members in the field of data management, processing and dissemination ;</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and coordinate the development of commonly available products and services; and</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Coordinate the contribution of the pan-European oceanographic data management community to the European Union initiatives for a better environmental status of the seas and oceans and for an improved marine knowledge in general.</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sngStrike" u="sng">
              <a:solidFill>
                <a:srgbClr val="ffffff"/>
              </a:solidFill>
              <a:uFillTx/>
              <a:latin typeface="Basic Sans"/>
            </a:endParaRPr>
          </a:p>
        </p:txBody>
      </p:sp>
      <p:sp>
        <p:nvSpPr>
          <p:cNvPr id="91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F1854-190C-416A-B988-980EDFFA89A7}"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First actions</a:t>
            </a:r>
            <a:endParaRPr b="1" i="1" lang="en-US" sz="4400" spc="-1" strike="sngStrike" u="sng">
              <a:solidFill>
                <a:srgbClr val="ffffff"/>
              </a:solidFill>
              <a:uFillTx/>
              <a:latin typeface="Basic Sans"/>
            </a:endParaRPr>
          </a:p>
        </p:txBody>
      </p:sp>
      <p:sp>
        <p:nvSpPr>
          <p:cNvPr id="918"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s of the first General Assembly:</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signation of the Members of the Board</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not to set up a general secretariat</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to set the annual membership fee to 250€.</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doption of the Rules of Procedure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 bank account has been opened and the situation of the AISBL wrt to the VAT has been clarified.</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registered office of SeaDataNet AISBL is located at RBINS (where EuroGOOS AISBL will soon move.)</a:t>
            </a:r>
            <a:endParaRPr b="1" i="1" lang="en-US" sz="2400" spc="-1" strike="sngStrike" u="sng">
              <a:solidFill>
                <a:srgbClr val="ffffff"/>
              </a:solidFill>
              <a:uFillTx/>
              <a:latin typeface="Basic Sans"/>
            </a:endParaRPr>
          </a:p>
        </p:txBody>
      </p:sp>
      <p:sp>
        <p:nvSpPr>
          <p:cNvPr id="91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3A8F-D1B7-4E02-8209-D5FBEF564E11}"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urrent composition of the Board</a:t>
            </a:r>
            <a:endParaRPr b="1" i="1" lang="en-US" sz="4400" spc="-1" strike="sngStrike" u="sng">
              <a:solidFill>
                <a:srgbClr val="ffffff"/>
              </a:solidFill>
              <a:uFillTx/>
              <a:latin typeface="Basic Sans"/>
            </a:endParaRPr>
          </a:p>
        </p:txBody>
      </p:sp>
      <p:sp>
        <p:nvSpPr>
          <p:cNvPr id="922"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Serge Scory (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Michèle Fichaut (Vice-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lessandra Giorgetti</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thanasia Iona</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Lesley Rickard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Dick Schaap</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y act as individuals (but we made sure that they have strong links with institutions responsible for key-elements of the SeaDataNet infrastructure).</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andates run up to the General Assembly of 2022, re-eligible.</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2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3A69E-B08B-4941-B505-435678B15FC3}"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Why SeaDataNet AISBL?</a:t>
            </a:r>
            <a:endParaRPr b="1" i="1" lang="en-US" sz="4400" spc="-1" strike="sngStrike" u="sng">
              <a:solidFill>
                <a:srgbClr val="ffffff"/>
              </a:solidFill>
              <a:uFillTx/>
              <a:latin typeface="Basic Sans"/>
            </a:endParaRPr>
          </a:p>
        </p:txBody>
      </p:sp>
      <p:sp>
        <p:nvSpPr>
          <p:cNvPr id="92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UE Commission wanted for a long time to be able to talk to “SeaDataNet” through a unique entity, not via Beneficiaries of project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is is also the case for other “éhigh level” bodies (ENVRI-BEERi, ESFRI,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We need to show that we are not only a project-based initiative and that there is a string will to support the sustainability of the infrastructure, its services and the delivery of high quality marine data through this channel.</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stronger the Organization, the stronger the message </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Wingdings"/>
                <a:ea typeface="Wingdings"/>
              </a:rPr>
              <a:t></a:t>
            </a:r>
            <a:r>
              <a:rPr b="1" i="1" lang="en-US" sz="2400" spc="-1" strike="sngStrike" u="sng">
                <a:solidFill>
                  <a:srgbClr val="ffffff"/>
                </a:solidFill>
                <a:uFillTx/>
                <a:latin typeface="Calibri"/>
              </a:rPr>
              <a:t> </a:t>
            </a:r>
            <a:r>
              <a:rPr b="1" i="1" lang="en-US" sz="2400" spc="-1" strike="sngStrike" u="sng">
                <a:solidFill>
                  <a:srgbClr val="ffffff"/>
                </a:solidFill>
                <a:uFillTx/>
                <a:latin typeface="Calibri"/>
              </a:rPr>
              <a:t>become a member!</a:t>
            </a:r>
            <a:endParaRPr b="1" i="1" lang="en-US" sz="2400" spc="-1" strike="sngStrike" u="sng">
              <a:solidFill>
                <a:srgbClr val="ffffff"/>
              </a:solidFill>
              <a:uFillTx/>
              <a:latin typeface="Basic Sans"/>
            </a:endParaRPr>
          </a:p>
        </p:txBody>
      </p:sp>
      <p:sp>
        <p:nvSpPr>
          <p:cNvPr id="927"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B1FE9-A72C-4B7D-87D4-89DCB2550476}"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8"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will the membership fee used?</a:t>
            </a:r>
            <a:endParaRPr b="1" i="1" lang="en-US" sz="4400" spc="-1" strike="sngStrike" u="sng">
              <a:solidFill>
                <a:srgbClr val="ffffff"/>
              </a:solidFill>
              <a:uFillTx/>
              <a:latin typeface="Basic Sans"/>
            </a:endParaRPr>
          </a:p>
        </p:txBody>
      </p:sp>
      <p:sp>
        <p:nvSpPr>
          <p:cNvPr id="930"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No other income foreseen for the moment</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membership fees will mainly be used to cover</a:t>
            </a:r>
            <a:endParaRPr b="1" i="1" lang="en-US" sz="24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establishment costs (~1500€)</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administrative support for the official accounting</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some operational costs (stamps…)</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promotional expenses (after </a:t>
            </a:r>
            <a:r>
              <a:rPr b="1" i="1" lang="en-US" sz="2400" spc="-1" strike="sngStrike">
                <a:solidFill>
                  <a:srgbClr val="ffffff"/>
                </a:solidFill>
                <a:latin typeface="Calibri"/>
              </a:rPr>
              <a:t>SeaDataCloud</a:t>
            </a:r>
            <a:r>
              <a:rPr b="1" i="1" lang="en-US" sz="2400" spc="-1" strike="sngStrike">
                <a:solidFill>
                  <a:srgbClr val="ffffff"/>
                </a:solidFill>
                <a:latin typeface="Calibri"/>
              </a:rPr>
              <a:t>)</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a:t>
            </a:r>
            <a:endParaRPr b="1" i="1" lang="en-US" sz="2400" spc="-1" strike="sngStrike">
              <a:solidFill>
                <a:srgbClr val="ffffff"/>
              </a:solidFill>
              <a:latin typeface="Basic Sans"/>
            </a:endParaRPr>
          </a:p>
        </p:txBody>
      </p:sp>
      <p:sp>
        <p:nvSpPr>
          <p:cNvPr id="93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5348A-3EE9-4663-990E-AB043067A76A}"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to become a member?</a:t>
            </a:r>
            <a:endParaRPr b="1" i="1" lang="en-US" sz="4400" spc="-1" strike="sngStrike" u="sng">
              <a:solidFill>
                <a:srgbClr val="ffffff"/>
              </a:solidFill>
              <a:uFillTx/>
              <a:latin typeface="Basic Sans"/>
            </a:endParaRPr>
          </a:p>
        </p:txBody>
      </p:sp>
      <p:sp>
        <p:nvSpPr>
          <p:cNvPr id="934"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signed the “SeaDataNet Exploitation Agreement” at the end of the SeaDataNet 2 project will be automatically admitted as a Member upon notification of their written request for affiliation addressed to the Organization (sdn-aisbl-board@seadatanet.org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didn’t sign the “SeaDataNet Exploitation Agreement” must be admitted by the General Meeting.</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ly organizations can become member, no individuals.</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ull membership is granted once the annual membership fee is paid to the organization.</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3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52A7-CF40-4A2E-9DBF-57B7A2265460}"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ele FICHAUT, Ifremer Brest PDG-IMN-IDM-SISME</dc:creator>
  <dc:description/>
  <dc:language>en-US</dc:language>
  <cp:lastModifiedBy/>
  <cp:revision>0</cp:revision>
  <dc:subject/>
  <dc:title>Présentation PowerPoint</dc:title>
</cp:coreProperties>
</file>