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6EA653B-755D-40E1-9B33-F8ACAB78AB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9CBC802-5A97-4EF9-8DC7-B244BFE6808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25A6098E-F21F-4E57-9197-56E58B68C97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C0ABCD36-1EDD-43D1-A466-A12C8E34A0A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EC3B468F-A4C8-406E-B54B-1DA9000C613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B799A141-395C-4D89-9D0A-BB8200A085E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EBF27D61-3FF2-4425-81D6-8F2C14540A0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6B406A24-12F4-4911-B881-A90F61D8498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08FF8E9C-7F86-418C-9F01-454FD0C5676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FFB5F610-9425-4AE9-9A1D-63FA3D5A228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7B790AC6-46DF-4D99-BDE7-B22B92D769D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824B02-96BC-4FB4-A963-23E99C26B2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A3DD5F4-D18B-4BF8-B410-1A92E078023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D03D56-B75F-40A3-8260-09FFD6C30AB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BA861A-ABE5-4E43-B24E-E479E689A0C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A55A9C-B65A-4E7D-BCB9-6AE1A3A2EB7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833446-D23D-4B08-9167-24D0FE91DD5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178DF5-5DA2-4DE7-BD82-83DD97D28FB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21FF2C-CCDB-4717-A806-9397F66EEB1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9944FF-8ACA-46BC-AB6B-990D04F3AD3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A90251-4C49-49F5-BF15-FA3677EB1AC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8B63DB-D079-4568-ACF7-982AA1D9F42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8282AE-3346-4D64-B602-05AF370047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344645B-1EB1-40F0-81F9-4F1D56864CF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0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A60CD3-654E-4478-B8E2-8D0E721E2DC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D8E985F9-F1E4-4448-B007-70468DB3046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FEDDF9C8-C0E7-420F-81B1-09DF133765F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9240E542-DBAA-4438-A70A-B1AE0CCA7B3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BD07AC16-DDD1-4EF8-B866-4B4955218AF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DACADEE0-17B4-48DE-BAA6-B4FBCC18C22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D9511DD3-31C0-4E92-8DE8-D618EB562B8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E1F2BED1-E78A-4860-9CFF-731C69F860E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7BB4909E-B674-4A0B-8B22-C9E711CF1C6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230DC373-5511-40AD-85CC-1ACC5A68E9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8B0DB06-DED5-41B6-96FB-8144190B877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5B857A91-D700-4F15-96EB-A151AB3016F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5BC857DC-062B-40FE-B940-5EA3C695701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4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60DBE6B2-08C5-4F26-985E-6A8F35BBC22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BA91D28-0D3A-4EA6-9AAB-7A75FB1496C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32B6628-637F-4C4C-A000-55F5B12450E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E536675-F988-4E48-AFA8-F8159596983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5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52FBDBE-0859-4BFC-81AF-775BBEBE6CF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5DCEAC5-14B4-4F9A-8623-FB48D0F23E6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E13DB82-70EC-4A39-B0FC-7A9CE8D3CDC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E2CBEA2-82D2-4064-AD71-7424A47933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C0812F5-F043-4856-80B7-E0448C7E531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76DD8FB-FA62-4211-BCF6-24FA7843DA7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1049AC3-EE90-44D5-AE2E-38C56B311EF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75AFDEC-3666-4DEE-9548-ECE3F047297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31CD8FB-7430-4AA9-B541-494BBA492F3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8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C6380BA-120F-43E0-A4E5-79A8A7F0074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F25ABD51-36EF-4277-B5F3-FD3329CA48C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C74149E-51A6-4209-864A-B7D89200D96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16B5DE3-C832-4A61-8DC7-D29322D5E7A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8E4B0CC-E5D0-4DA5-80E2-18600218B9D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BB795C0-6611-4F6F-92ED-69AAFAF7E7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BD78505-CDCD-4C28-854C-A6158777C7F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D40834C-AE5F-4B94-A7A2-705424F5D5E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9C0AC83-9587-4A34-ACE7-41103A31598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F92AF6E-8098-4F8F-A338-377B3891339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8FE9165-17FD-4FC7-B3F1-A71D9F25286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C63EA30-2685-4B7B-97C9-8F5B26F6DD1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3FD75513-C9CB-47BD-8439-1DE5210EB47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3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C81E2DE1-B283-4671-8935-187D1B1BD0C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30A78D4-26C3-4895-85D8-FA856019E81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678E72A-77DF-4BFF-AB62-78A239DE57A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CAB1F64-CBE4-4D42-8A85-CBDB5DB7AE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5FE009-DBAA-4C9C-B33A-E02984BEAE9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4567B5A-4206-4416-926F-2848C2E0B43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9E9B355-2A4A-4014-95BD-B7BBF7D78F3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D87373D-AA0D-4747-B831-644F2B74C37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E35E6FF-59ED-4572-900C-DD453D10C73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A8F86EC-BA58-4150-BBCB-202CBA20349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AEB520C-A339-4ED8-A136-6FB3A4BBA38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228B92B-F344-4C74-9FD6-4906179877B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ADB62D0-9EC0-411C-BD25-92E3353EDCE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5409D49-F6FF-4592-8984-F3FC57B7069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545D28C6-1463-4E40-A4FD-6142F3A173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A52A7E-AAFB-4A90-B23A-9A485B85F2B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7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11D97999-0401-4AE1-91BF-E2AE952CFE2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9B8ED045-80F5-4205-92EE-129A53FD0ED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D952D26E-B1D0-4C94-AC38-87C5BBA4591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37BEDBE1-40F6-4444-A411-1205E7709C5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71353137-2458-4F7A-A2BF-0D07C802D19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D4FA47FB-DD5E-4AC6-8CE2-3FD03301FBA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E5C4B981-9D8B-485D-B1FC-F985B422C0B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2F96F195-74E5-4DFB-92C3-56B5E7E5F76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3A4F2D12-DAA9-465B-9088-D84DC55A421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AB8D9D8B-3D09-4353-B29D-13356F469D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5494D7-0749-4E0F-8784-06F20704778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F191379B-55EC-4928-A732-48C7C44B599F}"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5E74B2D-2976-427B-A2FE-7A91A5DE101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1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F7DEBA-0DDC-47DE-92C1-392BFF17C86D}"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870A67-A3DB-4B2C-829E-FD1DB8EE493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CC2B75-8E5E-442A-A12E-0CBA747B515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173B67-6EC7-48B9-A72B-FF528554954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33E7C9-4897-4523-B094-DCC2BA042B1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5F2B36-E5D7-42EA-8BD1-7D898902FAA4}"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3AAC60-DC51-495E-82A3-E2B77DF930A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C7B057-48BD-4FE9-8C5F-3B8B617A11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69BD7A-407D-40FB-9266-43C1B45D541E}"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83F2B5-C5A0-4F14-A332-AAAD373B03A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EB8BAA6-E563-4A54-972C-A95D9E52D10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E7A9855-565B-49E9-9F64-E7C0EFF0DEB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9F8C76ED-37D4-44E2-8887-9E300612425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325F6F88-BF39-4632-B359-12D8D369EC3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607E0E91-AB15-4431-B53C-0483BEA4A10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7FFC5858-FEDA-4BE0-85C9-D965D211107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F1048B3D-21C0-46EC-8C6D-D4A05C15E99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183C9764-0347-4D81-B94C-CF1E268A09B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1EE53252-0DB9-48F9-A978-FBC4F2260B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E2DFF08-3DB0-4837-9AC4-F04D9EE552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961860-A273-49FA-9217-D7AF429A7EF6}"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E2F38D06-8ECF-4E5B-A279-8D95373BC2D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E4295E1C-F4AD-4E98-9614-5FCE6E38B74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9F5378FE-086D-4DC7-843B-9843025FA1A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CCB462F2-5C2C-4A52-9D8D-0B47BE241BE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1CFE9F5A-1DBA-4CB4-B115-0A234B6F86F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ED89A2BC-3BEC-417A-A8FD-46C19F62F56B}"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3956C15-E6A2-482D-8A33-64AAEBC50594}"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9863782-03C4-424F-9EF4-4ED6C8DB0A5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0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5DC6479-3404-4145-BF6A-D0E7C5499C5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C4074C8-3795-42B5-AE52-F5F421A3D4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6DAD48-B31D-4BB7-A5D7-DEABDA7F18A4}"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BD9D3D7-56A7-40B0-A804-C2533C93938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C6E33B6-40B8-4450-9862-D46310CE104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084D8E2-6B78-4BE9-AE4E-E4C3A1E9460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8FAC00C-A717-45C4-88C1-1E23E639559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FFFDA93-6F7A-40F8-8F7C-451275F4013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74F9F84-20EC-4842-82F5-74011FC3BAD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EA9A7A1-5EDC-4CF9-B3F4-221F7254AC4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AB2F6B2C-4DD4-4B73-AEE2-5E931B1F7FE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64D7EA4C-E675-4F38-9A55-620F5807FC9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4F2DC57B-5459-4CB8-A037-22F8A4B442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975E41-86E2-422F-B549-E60E9F045FEF}"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C4843589-D2BE-4B8D-A236-86C05D41A98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196648F0-6820-4879-8A0A-8E99879F477D}"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57FCCC4C-D54A-4246-8E7C-9EABCC285F4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375A927-88F4-445E-94EF-B889D354A3A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F9E09E4F-4A66-4C3D-9F8D-97D40DE5139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8006972D-927C-46E6-B803-EC9D6121721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E47B7B62-7E5F-4D6F-99ED-E58076F04AB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654620DA-C735-4CD2-8CDF-FDAF0DBCABC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7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73B1275A-4FE2-4C24-9728-833D2AF72137}"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83181753-D2B6-4B73-8D62-5239731968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47FE08B-7BE7-47D4-89A1-ACF44CB9B652}"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4A2A7785-3374-47DE-B4E6-1424EDEEB63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CF41BF7-3320-4FB0-8076-1573FB939009}"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9521791-D86A-41BB-A7C9-E8D4A841218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AB165AD0-A727-40B1-AD58-2DA59803DB5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E2D301F-587A-4E7B-BC6A-2E997B1CB43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7DE4AD8-E78E-4D23-88E1-4E4448B6647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955E236-3AD1-4908-BB55-CE424AAE175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28AC8F5-F165-4A4F-91DC-AAAD2F3E0E7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FD402BB-7A18-424E-8AB8-69508BC2754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F6A0E268-073B-44A1-B59A-88751D2F54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7B1440B-556A-421C-9EE0-2B6E3E6CE408}"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1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07782D39-4D75-4ECE-86BE-83E49FDE877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7BA23D19-C1B3-46EC-8DEC-F6F874813D7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721FEEE8-282D-4288-AA18-F0611350A61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C0B5D454-B92A-4105-8FDB-9AAA5A9E164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2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893C2917-34D4-4559-8FCF-485BAD5CE1F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E7E2D903-EB04-493C-BCB9-AF3A99816A9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DA214134-6B6A-442C-9C71-68E66D39EE8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4DB03439-B3B3-4715-9DCD-8303CD3FA81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F7ABD021-0F55-4241-AC47-0793699D36D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AE85EDCD-1F0A-426A-BB21-E59F360CC6C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31FD9260-0018-4518-9269-22EC6130C66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D0029BF4-1822-416D-822F-0CD512567BF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5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1B5B9E54-63FB-479F-A572-F80984FF897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9652B23-EC01-4105-A8C3-DC9628CFC24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D93B32B-65AB-4CD9-939E-1BB95077876B}"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C35D160-E8B5-489F-8390-F111EF7521F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6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AD5915B-06E1-4B4C-B8EA-B4C8FAD038A5}"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0FAE8BE-234C-4C99-86BB-AFB1CC20B23D}"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00EB630-7FC3-4C52-A9E4-076FD3E380F6}"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C9EDBC-C8B9-425C-8B4C-D21D6FF8365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81D487-EB93-4F8C-8CF8-3A0750158B2B}"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571E669-8812-4870-8AC1-165FBDA42EAC}"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7B4DD74-62E4-4B4B-B68E-6CB80467F2D7}"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098DE95-A47F-4422-B87F-126F381112E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AB9167E-DED9-426C-92B8-8A39FC7E34A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A58E31E-B1D3-4DE2-86F9-DBA975392C0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6F18304-275B-44A8-BCE7-82DF75EB3E6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6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31CF951-B3E9-4AF7-9566-C363FF496C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F628507-95F1-459F-ADC7-81460F4C76C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94BE9C1-C04B-4DAC-96B9-9A1F2534276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0E0F681-7474-4E2F-B9F9-6BDA6CFAB5B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D49CEE3-F1B5-44D7-80AA-219D6B3EB2F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92E25B6-E449-4BDE-BEE8-19AC83D5549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D97C703-D7B3-461D-8FD5-2B83595E0C5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0A0D128-50EE-4404-91A4-3EADEBE58CD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65636AF-C23A-439F-A1DB-5A7772618F5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B834D75-D291-4329-83FB-3C2B1B029DD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FAEE2DD-F2A6-49EE-A128-F18E7FD220A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A37D5DD-88B8-48E2-8B7F-917746A296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F95402E-D69B-438F-8F17-01EB2494DC6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FFA1690-6087-493D-BA28-99A0869C36C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570154E-F3E9-4437-BD7C-60B43604635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F55BBCD-C499-410C-9BB1-C209AD66807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F58332C-654F-4645-B871-2A126EE01FF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C7C78CC-A065-4E83-9102-A85D3F66DDC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806CA49-5229-45B2-8377-D03C186C4EC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DC9C680-01C0-4E2D-9BF3-AF059860F5A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7469425-BCD0-40D6-8062-45E3FCD7342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AEA3517-5523-4870-96E3-F47357A5588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27F314C-9B8F-4F1E-83E5-CB40DA673A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3E9183A-D329-4E6A-AE45-A1E2D62031F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FBDE191-5DCF-4686-8394-A05B4606CFD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5369201-6A28-4A03-BCA6-36BBAAA8BF4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DC899E3-ADFD-4754-84D1-1371CF4C7EB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E3A947C-1008-489D-8494-D893B86A967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B4167EF-1476-4EBB-B2B8-0250C0640D5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4992A2D-BA7F-4B28-86D5-11BD5DFE5BD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3203545-7023-4816-BD41-CCCDBB18D8E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896B7D3-8303-4833-B684-B79A8238604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8926FA4-7357-48A4-9549-1B37B32B37C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F1F4DB6-53B4-4FA3-A1CC-1751B8F348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EA3000B-D638-4D08-8BA4-42D691F2316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A34AD25-8BA2-4BC0-A436-EFB600CC0BF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64F541A-79C2-4C17-B303-06535BA331F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2A5E3C5-4347-4BC2-8B81-E0E156B935D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CD10F3A-51AD-4F95-BA8B-49CAEA6F35C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3FD84CE-2ABF-4E9C-8042-12710AB3895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8BCD46D-98C6-46E2-8E13-9243938BE65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0EF02DB-4819-4084-AE13-411C60A6893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D954335-1FC0-4044-A346-ECC610AC4E4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4B153D4-EF31-4226-8E94-AABC67AC728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7D6346E-BED6-4C9C-9A08-DB40003EA8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D30D2D0-27B4-402C-8586-813BDE7B215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1FAF5F0-5B29-46AB-A5FE-908D219C48D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D99C405-683B-424D-824A-52E609A7322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79708DE-8DA4-4FA1-B263-DE5F722CF7D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DBC5205-903F-459A-8EED-4DFDA964E0F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C5C7C26-83A0-4D33-9E3F-BAB0A0D2D8D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440CAEA-2306-41DF-B33B-BBAE4D3ADF8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1F0585B-B292-4A34-88A6-BBFAC52A534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D31831FC-3952-48A1-A4EB-EDFBA0F4858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C791642A-3FCC-4037-86FB-4DD01A237DD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8DC9142C-7804-4996-9351-84A8506948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00808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 name="PlaceHolder 3"/>
          <p:cNvSpPr>
            <a:spLocks noGrp="1"/>
          </p:cNvSpPr>
          <p:nvPr>
            <p:ph type="sldNum" idx="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85BEF0-B36D-43A5-964C-21D8405238D9}"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4" name="PlaceHolder 4"/>
          <p:cNvSpPr>
            <a:spLocks noGrp="1"/>
          </p:cNvSpPr>
          <p:nvPr>
            <p:ph type="ftr" idx="2"/>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pic>
        <p:nvPicPr>
          <p:cNvPr id="5" name="Picture 10" descr="SeaDatacloud2017logo_low"/>
          <p:cNvPicPr/>
          <p:nvPr/>
        </p:nvPicPr>
        <p:blipFill>
          <a:blip r:embed="rId3"/>
          <a:stretch/>
        </p:blipFill>
        <p:spPr>
          <a:xfrm>
            <a:off x="611280" y="455760"/>
            <a:ext cx="13683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6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369" name="PlaceHolder 3"/>
          <p:cNvSpPr>
            <a:spLocks noGrp="1"/>
          </p:cNvSpPr>
          <p:nvPr>
            <p:ph type="ftr" idx="1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370" name="PlaceHolder 4"/>
          <p:cNvSpPr>
            <a:spLocks noGrp="1"/>
          </p:cNvSpPr>
          <p:nvPr>
            <p:ph type="sldNum" idx="1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AB113-7A18-4CCF-B154-B7081FF3AF17}"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08" name="Picture 10" descr="SeaDatacloud2017logo_low"/>
          <p:cNvPicPr/>
          <p:nvPr/>
        </p:nvPicPr>
        <p:blipFill>
          <a:blip r:embed="rId3"/>
          <a:stretch/>
        </p:blipFill>
        <p:spPr>
          <a:xfrm>
            <a:off x="611280" y="455760"/>
            <a:ext cx="1368360" cy="596880"/>
          </a:xfrm>
          <a:prstGeom prst="rect">
            <a:avLst/>
          </a:prstGeom>
          <a:ln w="0">
            <a:noFill/>
          </a:ln>
        </p:spPr>
      </p:pic>
      <p:sp>
        <p:nvSpPr>
          <p:cNvPr id="4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1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11" name="PlaceHolder 3"/>
          <p:cNvSpPr>
            <a:spLocks noGrp="1"/>
          </p:cNvSpPr>
          <p:nvPr>
            <p:ph type="sldNum" idx="1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C9765F-0734-4285-8A7D-1BFAD8364AFE}"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12" name="PlaceHolder 4"/>
          <p:cNvSpPr>
            <a:spLocks noGrp="1"/>
          </p:cNvSpPr>
          <p:nvPr>
            <p:ph type="ftr" idx="2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5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51" name="PlaceHolder 3"/>
          <p:cNvSpPr>
            <a:spLocks noGrp="1"/>
          </p:cNvSpPr>
          <p:nvPr>
            <p:ph type="ftr" idx="2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452" name="PlaceHolder 4"/>
          <p:cNvSpPr>
            <a:spLocks noGrp="1"/>
          </p:cNvSpPr>
          <p:nvPr>
            <p:ph type="sldNum" idx="2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BA09E7-363C-4B4E-8273-B45E6C9BEED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9"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90" name="Picture 10" descr="SeaDatacloud2017logo_low"/>
          <p:cNvPicPr/>
          <p:nvPr/>
        </p:nvPicPr>
        <p:blipFill>
          <a:blip r:embed="rId3"/>
          <a:stretch/>
        </p:blipFill>
        <p:spPr>
          <a:xfrm>
            <a:off x="611280" y="455760"/>
            <a:ext cx="1368360" cy="596880"/>
          </a:xfrm>
          <a:prstGeom prst="rect">
            <a:avLst/>
          </a:prstGeom>
          <a:ln w="0">
            <a:noFill/>
          </a:ln>
        </p:spPr>
      </p:pic>
      <p:sp>
        <p:nvSpPr>
          <p:cNvPr id="49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92"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93" name="PlaceHolder 3"/>
          <p:cNvSpPr>
            <a:spLocks noGrp="1"/>
          </p:cNvSpPr>
          <p:nvPr>
            <p:ph type="sldNum" idx="23"/>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CBE5FD-CBE6-4F50-822C-9CACB9A2EF2D}"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94" name="PlaceHolder 4"/>
          <p:cNvSpPr>
            <a:spLocks noGrp="1"/>
          </p:cNvSpPr>
          <p:nvPr>
            <p:ph type="ftr" idx="24"/>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32"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533" name="PlaceHolder 3"/>
          <p:cNvSpPr>
            <a:spLocks noGrp="1"/>
          </p:cNvSpPr>
          <p:nvPr>
            <p:ph type="ftr" idx="25"/>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534" name="PlaceHolder 4"/>
          <p:cNvSpPr>
            <a:spLocks noGrp="1"/>
          </p:cNvSpPr>
          <p:nvPr>
            <p:ph type="sldNum" idx="26"/>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308CAA-542F-417F-9FF6-83E8CF9DA6B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572" name="Picture 10" descr="SeaDatacloud2017logo_low"/>
          <p:cNvPicPr/>
          <p:nvPr/>
        </p:nvPicPr>
        <p:blipFill>
          <a:blip r:embed="rId3"/>
          <a:stretch/>
        </p:blipFill>
        <p:spPr>
          <a:xfrm>
            <a:off x="611280" y="455760"/>
            <a:ext cx="1368360" cy="596880"/>
          </a:xfrm>
          <a:prstGeom prst="rect">
            <a:avLst/>
          </a:prstGeom>
          <a:ln w="0">
            <a:noFill/>
          </a:ln>
        </p:spPr>
      </p:pic>
      <p:sp>
        <p:nvSpPr>
          <p:cNvPr id="57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7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575" name="PlaceHolder 3"/>
          <p:cNvSpPr>
            <a:spLocks noGrp="1"/>
          </p:cNvSpPr>
          <p:nvPr>
            <p:ph type="sldNum" idx="2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4F18E2-A122-4D26-B644-E71FF7959B3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576" name="PlaceHolder 4"/>
          <p:cNvSpPr>
            <a:spLocks noGrp="1"/>
          </p:cNvSpPr>
          <p:nvPr>
            <p:ph type="ftr" idx="2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1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15" name="PlaceHolder 3"/>
          <p:cNvSpPr>
            <a:spLocks noGrp="1"/>
          </p:cNvSpPr>
          <p:nvPr>
            <p:ph type="ftr" idx="2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16" name="PlaceHolder 4"/>
          <p:cNvSpPr>
            <a:spLocks noGrp="1"/>
          </p:cNvSpPr>
          <p:nvPr>
            <p:ph type="sldNum" idx="3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C2E6E-7697-4003-9563-77003A16B4BC}"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654" name="Picture 10" descr="SeaDatacloud2017logo_low"/>
          <p:cNvPicPr/>
          <p:nvPr/>
        </p:nvPicPr>
        <p:blipFill>
          <a:blip r:embed="rId3"/>
          <a:stretch/>
        </p:blipFill>
        <p:spPr>
          <a:xfrm>
            <a:off x="611280" y="455760"/>
            <a:ext cx="1368360" cy="596880"/>
          </a:xfrm>
          <a:prstGeom prst="rect">
            <a:avLst/>
          </a:prstGeom>
          <a:ln w="0">
            <a:noFill/>
          </a:ln>
        </p:spPr>
      </p:pic>
      <p:sp>
        <p:nvSpPr>
          <p:cNvPr id="65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5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657" name="PlaceHolder 3"/>
          <p:cNvSpPr>
            <a:spLocks noGrp="1"/>
          </p:cNvSpPr>
          <p:nvPr>
            <p:ph type="sldNum" idx="3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36FF34-CFBD-4266-8BD2-31E5C197196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658" name="PlaceHolder 4"/>
          <p:cNvSpPr>
            <a:spLocks noGrp="1"/>
          </p:cNvSpPr>
          <p:nvPr>
            <p:ph type="ftr" idx="3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9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97" name="PlaceHolder 3"/>
          <p:cNvSpPr>
            <a:spLocks noGrp="1"/>
          </p:cNvSpPr>
          <p:nvPr>
            <p:ph type="ftr" idx="3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98" name="PlaceHolder 4"/>
          <p:cNvSpPr>
            <a:spLocks noGrp="1"/>
          </p:cNvSpPr>
          <p:nvPr>
            <p:ph type="sldNum" idx="3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C1AB4-2EA2-4A53-A4F5-DBE6C8D55C0B}"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736" name="Picture 10" descr="SeaDatacloud2017logo_low"/>
          <p:cNvPicPr/>
          <p:nvPr/>
        </p:nvPicPr>
        <p:blipFill>
          <a:blip r:embed="rId3"/>
          <a:stretch/>
        </p:blipFill>
        <p:spPr>
          <a:xfrm>
            <a:off x="611280" y="455760"/>
            <a:ext cx="1368360" cy="596880"/>
          </a:xfrm>
          <a:prstGeom prst="rect">
            <a:avLst/>
          </a:prstGeom>
          <a:ln w="0">
            <a:noFill/>
          </a:ln>
        </p:spPr>
      </p:pic>
      <p:sp>
        <p:nvSpPr>
          <p:cNvPr id="7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3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739" name="PlaceHolder 3"/>
          <p:cNvSpPr>
            <a:spLocks noGrp="1"/>
          </p:cNvSpPr>
          <p:nvPr>
            <p:ph type="sldNum" idx="3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4CAF74-8495-479A-B207-9D739D01825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740" name="PlaceHolder 4"/>
          <p:cNvSpPr>
            <a:spLocks noGrp="1"/>
          </p:cNvSpPr>
          <p:nvPr>
            <p:ph type="ftr" idx="3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4" name="PlaceHolder 3"/>
          <p:cNvSpPr>
            <a:spLocks noGrp="1"/>
          </p:cNvSpPr>
          <p:nvPr>
            <p:ph type="ftr" idx="3"/>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
        <p:nvSpPr>
          <p:cNvPr id="45" name="PlaceHolder 4"/>
          <p:cNvSpPr>
            <a:spLocks noGrp="1"/>
          </p:cNvSpPr>
          <p:nvPr>
            <p:ph type="sldNum" idx="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D95458-40C0-4BBB-B9EA-2A610F12109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7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779" name="PlaceHolder 3"/>
          <p:cNvSpPr>
            <a:spLocks noGrp="1"/>
          </p:cNvSpPr>
          <p:nvPr>
            <p:ph type="ftr" idx="3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780" name="PlaceHolder 4"/>
          <p:cNvSpPr>
            <a:spLocks noGrp="1"/>
          </p:cNvSpPr>
          <p:nvPr>
            <p:ph type="sldNum" idx="3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E63C4-493C-4455-8974-9359625677A7}"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818" name="Picture 10" descr="SeaDatacloud2017logo_low"/>
          <p:cNvPicPr/>
          <p:nvPr/>
        </p:nvPicPr>
        <p:blipFill>
          <a:blip r:embed="rId3"/>
          <a:stretch/>
        </p:blipFill>
        <p:spPr>
          <a:xfrm>
            <a:off x="611280" y="455760"/>
            <a:ext cx="1368360" cy="596880"/>
          </a:xfrm>
          <a:prstGeom prst="rect">
            <a:avLst/>
          </a:prstGeom>
          <a:ln w="0">
            <a:noFill/>
          </a:ln>
        </p:spPr>
      </p:pic>
      <p:sp>
        <p:nvSpPr>
          <p:cNvPr id="81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2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21" name="PlaceHolder 3"/>
          <p:cNvSpPr>
            <a:spLocks noGrp="1"/>
          </p:cNvSpPr>
          <p:nvPr>
            <p:ph type="sldNum" idx="3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32E0D-2F5E-4BE5-A687-4861B0905800}"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822" name="PlaceHolder 4"/>
          <p:cNvSpPr>
            <a:spLocks noGrp="1"/>
          </p:cNvSpPr>
          <p:nvPr>
            <p:ph type="ftr" idx="4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6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861" name="PlaceHolder 3"/>
          <p:cNvSpPr>
            <a:spLocks noGrp="1"/>
          </p:cNvSpPr>
          <p:nvPr>
            <p:ph type="ftr" idx="4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862" name="PlaceHolder 4"/>
          <p:cNvSpPr>
            <a:spLocks noGrp="1"/>
          </p:cNvSpPr>
          <p:nvPr>
            <p:ph type="sldNum" idx="4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3C45D4-8BBF-4C54-92BA-1238EB9E169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 Box 7"/>
          <p:cNvSpPr/>
          <p:nvPr/>
        </p:nvSpPr>
        <p:spPr>
          <a:xfrm>
            <a:off x="4684680" y="6021360"/>
            <a:ext cx="3919680" cy="731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8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5" name="PlaceHolder 3"/>
          <p:cNvSpPr>
            <a:spLocks noGrp="1"/>
          </p:cNvSpPr>
          <p:nvPr>
            <p:ph type="ftr" idx="5"/>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2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124" name="PlaceHolder 3"/>
          <p:cNvSpPr>
            <a:spLocks noGrp="1"/>
          </p:cNvSpPr>
          <p:nvPr>
            <p:ph type="ftr" idx="6"/>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162" name="Picture 10" descr="SeaDatacloud2017logo_low"/>
          <p:cNvPicPr/>
          <p:nvPr/>
        </p:nvPicPr>
        <p:blipFill>
          <a:blip r:embed="rId3"/>
          <a:stretch/>
        </p:blipFill>
        <p:spPr>
          <a:xfrm>
            <a:off x="611280" y="455760"/>
            <a:ext cx="1368360" cy="596880"/>
          </a:xfrm>
          <a:prstGeom prst="rect">
            <a:avLst/>
          </a:prstGeom>
          <a:ln w="0">
            <a:noFill/>
          </a:ln>
        </p:spPr>
      </p:pic>
      <p:sp>
        <p:nvSpPr>
          <p:cNvPr id="16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6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165" name="PlaceHolder 3"/>
          <p:cNvSpPr>
            <a:spLocks noGrp="1"/>
          </p:cNvSpPr>
          <p:nvPr>
            <p:ph type="sldNum" idx="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901B7D-60DB-47D2-9FE1-54D913D834C8}"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166" name="PlaceHolder 4"/>
          <p:cNvSpPr>
            <a:spLocks noGrp="1"/>
          </p:cNvSpPr>
          <p:nvPr>
            <p:ph type="ftr" idx="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0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05" name="PlaceHolder 3"/>
          <p:cNvSpPr>
            <a:spLocks noGrp="1"/>
          </p:cNvSpPr>
          <p:nvPr>
            <p:ph type="ftr" idx="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06" name="PlaceHolder 4"/>
          <p:cNvSpPr>
            <a:spLocks noGrp="1"/>
          </p:cNvSpPr>
          <p:nvPr>
            <p:ph type="sldNum" idx="1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D75691-253D-4B63-B40F-9F11ECF80820}"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244" name="Picture 10" descr="SeaDatacloud2017logo_low"/>
          <p:cNvPicPr/>
          <p:nvPr/>
        </p:nvPicPr>
        <p:blipFill>
          <a:blip r:embed="rId3"/>
          <a:stretch/>
        </p:blipFill>
        <p:spPr>
          <a:xfrm>
            <a:off x="611280" y="455760"/>
            <a:ext cx="1368360" cy="596880"/>
          </a:xfrm>
          <a:prstGeom prst="rect">
            <a:avLst/>
          </a:prstGeom>
          <a:ln w="0">
            <a:noFill/>
          </a:ln>
        </p:spPr>
      </p:pic>
      <p:sp>
        <p:nvSpPr>
          <p:cNvPr id="24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4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47" name="PlaceHolder 3"/>
          <p:cNvSpPr>
            <a:spLocks noGrp="1"/>
          </p:cNvSpPr>
          <p:nvPr>
            <p:ph type="sldNum" idx="1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E2B30F-199F-4D52-AF5D-055484F29462}"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248" name="PlaceHolder 4"/>
          <p:cNvSpPr>
            <a:spLocks noGrp="1"/>
          </p:cNvSpPr>
          <p:nvPr>
            <p:ph type="ftr" idx="1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8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87" name="PlaceHolder 3"/>
          <p:cNvSpPr>
            <a:spLocks noGrp="1"/>
          </p:cNvSpPr>
          <p:nvPr>
            <p:ph type="ftr" idx="1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88" name="PlaceHolder 4"/>
          <p:cNvSpPr>
            <a:spLocks noGrp="1"/>
          </p:cNvSpPr>
          <p:nvPr>
            <p:ph type="sldNum" idx="1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F4325F-4293-4F92-BEB1-6BB4F545327A}"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326" name="Picture 10" descr="SeaDatacloud2017logo_low"/>
          <p:cNvPicPr/>
          <p:nvPr/>
        </p:nvPicPr>
        <p:blipFill>
          <a:blip r:embed="rId3"/>
          <a:stretch/>
        </p:blipFill>
        <p:spPr>
          <a:xfrm>
            <a:off x="611280" y="455760"/>
            <a:ext cx="1368360" cy="596880"/>
          </a:xfrm>
          <a:prstGeom prst="rect">
            <a:avLst/>
          </a:prstGeom>
          <a:ln w="0">
            <a:noFill/>
          </a:ln>
        </p:spPr>
      </p:pic>
      <p:sp>
        <p:nvSpPr>
          <p:cNvPr id="32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2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329" name="PlaceHolder 3"/>
          <p:cNvSpPr>
            <a:spLocks noGrp="1"/>
          </p:cNvSpPr>
          <p:nvPr>
            <p:ph type="sldNum" idx="1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B2204B-92C9-4FF1-9C7B-E1E8D99D5E3B}"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30" name="PlaceHolder 4"/>
          <p:cNvSpPr>
            <a:spLocks noGrp="1"/>
          </p:cNvSpPr>
          <p:nvPr>
            <p:ph type="ftr" idx="1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Rectangle 11"/>
          <p:cNvSpPr/>
          <p:nvPr/>
        </p:nvSpPr>
        <p:spPr>
          <a:xfrm>
            <a:off x="1403280" y="5808600"/>
            <a:ext cx="721692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0" name="PlaceHolder 1"/>
          <p:cNvSpPr>
            <a:spLocks noGrp="1"/>
          </p:cNvSpPr>
          <p:nvPr>
            <p:ph type="title"/>
          </p:nvPr>
        </p:nvSpPr>
        <p:spPr>
          <a:xfrm>
            <a:off x="2244240" y="3295440"/>
            <a:ext cx="4775400" cy="369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51a0"/>
                </a:solidFill>
                <a:latin typeface="Calibri Light"/>
              </a:rPr>
              <a:t>SeaDataNet AISBL</a:t>
            </a:r>
            <a:endParaRPr b="1" i="1" lang="en-US" sz="2400" spc="-1" strike="sngStrike" u="sng">
              <a:solidFill>
                <a:srgbClr val="ffffff"/>
              </a:solidFill>
              <a:uFillTx/>
              <a:latin typeface="Basic Sans"/>
            </a:endParaRPr>
          </a:p>
        </p:txBody>
      </p:sp>
      <p:sp>
        <p:nvSpPr>
          <p:cNvPr id="901" name="PlaceHolder 2"/>
          <p:cNvSpPr>
            <a:spLocks noGrp="1"/>
          </p:cNvSpPr>
          <p:nvPr>
            <p:ph type="subTitle"/>
          </p:nvPr>
        </p:nvSpPr>
        <p:spPr>
          <a:xfrm>
            <a:off x="2268000" y="4667040"/>
            <a:ext cx="4751640" cy="26172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551a0"/>
                </a:solidFill>
                <a:latin typeface="Calibri Light"/>
              </a:rPr>
              <a:t>Serge Scory, Chair</a:t>
            </a:r>
            <a:endParaRPr b="1" i="1" lang="en-US" sz="1700" spc="-1" strike="sngStrike" u="sng">
              <a:solidFill>
                <a:srgbClr val="ffffff"/>
              </a:solidFill>
              <a:uFillTx/>
              <a:latin typeface="Basic Sans"/>
            </a:endParaRPr>
          </a:p>
        </p:txBody>
      </p:sp>
      <p:pic>
        <p:nvPicPr>
          <p:cNvPr id="902" name="Picture 1" descr=""/>
          <p:cNvPicPr/>
          <p:nvPr/>
        </p:nvPicPr>
        <p:blipFill>
          <a:blip r:embed="rId2"/>
          <a:stretch/>
        </p:blipFill>
        <p:spPr>
          <a:xfrm>
            <a:off x="4932360" y="3213000"/>
            <a:ext cx="2651040" cy="12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tatus of the membership</a:t>
            </a:r>
            <a:endParaRPr b="1" i="1" lang="en-US" sz="4400" spc="-1" strike="sngStrike" u="sng">
              <a:solidFill>
                <a:srgbClr val="ffffff"/>
              </a:solidFill>
              <a:uFillTx/>
              <a:latin typeface="Basic Sans"/>
            </a:endParaRPr>
          </a:p>
        </p:txBody>
      </p:sp>
      <p:sp>
        <p:nvSpPr>
          <p:cNvPr id="938" name=""/>
          <p:cNvSpPr txBox="1"/>
          <p:nvPr/>
        </p:nvSpPr>
        <p:spPr>
          <a:xfrm>
            <a:off x="610920" y="1988640"/>
            <a:ext cx="453708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e full membe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ive organizations applied</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38 Potential “direct” members (Status June 2016)</a:t>
            </a:r>
            <a:endParaRPr b="1" i="1" lang="en-US" sz="2400" spc="-1" strike="sngStrike" u="sng">
              <a:solidFill>
                <a:srgbClr val="ffffff"/>
              </a:solidFill>
              <a:uFillTx/>
              <a:latin typeface="Basic Sans"/>
            </a:endParaRPr>
          </a:p>
        </p:txBody>
      </p:sp>
      <p:sp>
        <p:nvSpPr>
          <p:cNvPr id="93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5AC4-BC5B-485A-B3E8-DADE7D4C3C3B}"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41" name="TextBox 5"/>
          <p:cNvSpPr/>
          <p:nvPr/>
        </p:nvSpPr>
        <p:spPr>
          <a:xfrm>
            <a:off x="5219640" y="1484280"/>
            <a:ext cx="3816360" cy="5269320"/>
          </a:xfrm>
          <a:prstGeom prst="rect">
            <a:avLst/>
          </a:prstGeom>
          <a:solidFill>
            <a:srgbClr val="ffffff"/>
          </a:solid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To: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c/o Serge Scory (Chair)</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oyal Belgian Institute of Natural Sciences</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ue Vautier 29</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1000 Brussels (Belgium)</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i="1" lang="en-US" sz="1000" spc="-1" strike="sngStrike" u="sng">
                <a:solidFill>
                  <a:srgbClr val="ffffff"/>
                </a:solidFill>
                <a:uFillTx/>
                <a:latin typeface="Basic Sans"/>
              </a:rPr>
              <a:t>To the Board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In agreement with Art. 7 of the statutes of SeaDataNet aisbl, stating that the signatories of the "SeaDatanet Exploitation Agreement" will become a full member by explicitely notifying to the association their willingness to become a member; considering further that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signed this agreeement in due time, </a:t>
            </a:r>
            <a:r>
              <a:rPr b="1" i="1" lang="en-US" sz="1000" spc="-1" strike="sngStrike" u="sng">
                <a:solidFill>
                  <a:srgbClr val="ffffff"/>
                </a:solidFill>
                <a:uFillTx/>
                <a:latin typeface="Basic Sans"/>
              </a:rPr>
              <a:t>[your Institution name] </a:t>
            </a:r>
            <a:r>
              <a:rPr b="1" i="1" lang="en-US" sz="1000" spc="-1" strike="sngStrike" u="sng">
                <a:solidFill>
                  <a:srgbClr val="ffffff"/>
                </a:solidFill>
                <a:uFillTx/>
                <a:latin typeface="Basic Sans"/>
              </a:rPr>
              <a:t>herewith notifies SeaDataNet aisbl of its willingness to become a full member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acknowledges that its membership will only become effective once its financial contribution to the functioning of the association ("annual fee", currently equal to 250,-€) will be available on the bank account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Furthermore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mandates</a:t>
            </a:r>
            <a:r>
              <a:rPr b="1" i="1" lang="en-US" sz="1000" spc="-1" strike="sngStrike" u="sng">
                <a:solidFill>
                  <a:srgbClr val="ffffff"/>
                </a:solidFill>
                <a:uFillTx/>
                <a:latin typeface="Basic Sans"/>
              </a:rPr>
              <a:t> Dr/Mrs/M. XXX (+full address)</a:t>
            </a:r>
            <a:r>
              <a:rPr b="1" i="1" lang="en-US" sz="1000" spc="-1" strike="sngStrike" u="sng">
                <a:solidFill>
                  <a:srgbClr val="ffffff"/>
                </a:solidFill>
                <a:uFillTx/>
                <a:latin typeface="Basic Sans"/>
              </a:rPr>
              <a:t> as its representative to the General Assembly of SeaDataNet aisbl and the follow-up of the activities of the association.</a:t>
            </a:r>
            <a:br>
              <a:rPr sz="1000"/>
            </a:b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Signatory name, title; date; stamp</a:t>
            </a:r>
            <a:endParaRPr b="1" i="1" lang="en-US" sz="1000" spc="-1" strike="sngStrike" u="sng">
              <a:solidFill>
                <a:srgbClr val="ffffff"/>
              </a:solidFill>
              <a:uFillTx/>
              <a:latin typeface="Basic Sans"/>
            </a:endParaRPr>
          </a:p>
        </p:txBody>
      </p:sp>
      <p:sp>
        <p:nvSpPr>
          <p:cNvPr id="942" name="TextBox 6"/>
          <p:cNvSpPr/>
          <p:nvPr/>
        </p:nvSpPr>
        <p:spPr>
          <a:xfrm>
            <a:off x="1835280" y="3882960"/>
            <a:ext cx="3241440" cy="1189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ffffff"/>
                </a:solidFill>
                <a:uFillTx/>
                <a:latin typeface="Calibri"/>
              </a:rPr>
              <a:t>We’ll send an email soon to the signatories of the exploitation agreement with a template of an application letter.</a:t>
            </a:r>
            <a:endParaRPr b="1" i="1" lang="en-US" sz="18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4"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elgiu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LG</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Georg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SU-DN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VLI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German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BSH</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ulgar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O_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AW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roat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F</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ce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R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Cypru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C-UC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Denmar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Aarhus_Universit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srae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L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CE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tal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G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Esto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S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N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in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ENE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France</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H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NGV</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0C6F3-E6FC-4EE2-B296-A128548C7754}"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8"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atv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HE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IO-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alt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U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ontenegr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B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love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B_MBS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etherland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IO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pai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E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orwa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TM-CSI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PA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wede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MH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GW</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uni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NST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rtuga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HPT</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Turke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ETU</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oma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MR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E9FC-99B6-499C-89AB-EA2CB73FC8F4}"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ontact: sdn-aisbl-board@seadatanet.org</a:t>
            </a:r>
            <a:endParaRPr b="1" i="1" lang="en-US" sz="4400" spc="-1" strike="sngStrike" u="sng">
              <a:solidFill>
                <a:srgbClr val="ffffff"/>
              </a:solidFill>
              <a:uFillTx/>
              <a:latin typeface="Basic Sans"/>
            </a:endParaRPr>
          </a:p>
        </p:txBody>
      </p:sp>
      <p:pic>
        <p:nvPicPr>
          <p:cNvPr id="952" name="Content Placeholder 5" descr=""/>
          <p:cNvPicPr/>
          <p:nvPr/>
        </p:nvPicPr>
        <p:blipFill>
          <a:blip r:embed="rId2"/>
          <a:stretch/>
        </p:blipFill>
        <p:spPr>
          <a:xfrm>
            <a:off x="611280" y="2182680"/>
            <a:ext cx="8064360" cy="3932280"/>
          </a:xfrm>
          <a:prstGeom prst="rect">
            <a:avLst/>
          </a:prstGeom>
          <a:ln w="0">
            <a:noFill/>
          </a:ln>
        </p:spPr>
      </p:pic>
      <p:sp>
        <p:nvSpPr>
          <p:cNvPr id="95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4BDA5-9FA0-4B81-86A7-A3005001F99D}"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eaDataNet AISBL is established</a:t>
            </a:r>
            <a:endParaRPr b="1" i="1" lang="en-US" sz="4400" spc="-1" strike="sngStrike" u="sng">
              <a:solidFill>
                <a:srgbClr val="ffffff"/>
              </a:solidFill>
              <a:uFillTx/>
              <a:latin typeface="Basic Sans"/>
            </a:endParaRPr>
          </a:p>
        </p:txBody>
      </p:sp>
      <p:sp>
        <p:nvSpPr>
          <p:cNvPr id="904"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5345-76A6-4A99-BE97-77B19F81615D}"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05"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a:t>
            </a:r>
            <a:r>
              <a:rPr b="1" i="1" lang="en-US" sz="2000" spc="-1" strike="sngStrike" u="sng">
                <a:solidFill>
                  <a:srgbClr val="ffffff"/>
                </a:solidFill>
                <a:uFillTx/>
                <a:latin typeface="Calibri"/>
              </a:rPr>
              <a:t>AISBL”: Non-profit international organization under Belgian law</a:t>
            </a:r>
            <a:endParaRPr b="1" i="1" lang="en-US" sz="20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Several steps:</a:t>
            </a:r>
            <a:endParaRPr b="1" i="1" lang="en-US" sz="20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2 February 2019: Adoption of the statutes by the 2 founding members (IFREMER and RBINS) and first General Assembly</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3 April 2019: Signature of the Royal Decree</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09 May 2019: Publication in the Belgian official Gazette</a:t>
            </a:r>
            <a:endParaRPr b="1" i="1" lang="en-US" sz="1600" spc="-1" strike="sngStrike">
              <a:solidFill>
                <a:srgbClr val="ffffff"/>
              </a:solidFill>
              <a:latin typeface="Basic Sans"/>
            </a:endParaRPr>
          </a:p>
        </p:txBody>
      </p:sp>
      <p:pic>
        <p:nvPicPr>
          <p:cNvPr id="907" name="Picture 6" descr=""/>
          <p:cNvPicPr/>
          <p:nvPr/>
        </p:nvPicPr>
        <p:blipFill>
          <a:blip r:embed="rId2"/>
          <a:stretch/>
        </p:blipFill>
        <p:spPr>
          <a:xfrm>
            <a:off x="4284720" y="4149720"/>
            <a:ext cx="4281480" cy="2075040"/>
          </a:xfrm>
          <a:prstGeom prst="rect">
            <a:avLst/>
          </a:prstGeom>
          <a:ln w="0">
            <a:noFill/>
          </a:ln>
        </p:spPr>
      </p:pic>
      <p:pic>
        <p:nvPicPr>
          <p:cNvPr id="908" name="Picture 8" descr=""/>
          <p:cNvPicPr/>
          <p:nvPr/>
        </p:nvPicPr>
        <p:blipFill>
          <a:blip r:embed="rId3"/>
          <a:stretch/>
        </p:blipFill>
        <p:spPr>
          <a:xfrm>
            <a:off x="1476360" y="3933720"/>
            <a:ext cx="1913040" cy="198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0"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ccording to its </a:t>
            </a:r>
            <a:r>
              <a:rPr b="1" i="1" lang="en-US" sz="2400" spc="-1" strike="sngStrike" u="sng">
                <a:solidFill>
                  <a:srgbClr val="ffffff"/>
                </a:solidFill>
                <a:uFillTx/>
                <a:latin typeface="Calibri"/>
              </a:rPr>
              <a:t>statutes</a:t>
            </a:r>
            <a:r>
              <a:rPr b="1" i="1" lang="en-US" sz="2400" spc="-1" strike="sngStrike" u="sng">
                <a:solidFill>
                  <a:srgbClr val="ffffff"/>
                </a:solidFill>
                <a:uFillTx/>
                <a:latin typeface="Calibri"/>
              </a:rPr>
              <a:t> , </a:t>
            </a:r>
            <a:r>
              <a:rPr b="1" i="1" lang="en-US" sz="2400" spc="-1" strike="sngStrike" u="sng">
                <a:solidFill>
                  <a:srgbClr val="ffffff"/>
                </a:solidFill>
                <a:uFillTx/>
                <a:latin typeface="Calibri"/>
              </a:rPr>
              <a:t>the Organization, which does not seek financial gain, aims to work in the collective interest of its members to improve the quality and effectiveness in the management, the processing and the dissemination of oceanographic data at national, regional and global level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SeaDataNet is a light organization aiming mainly at promoting our common endeavours. It isn’t its purpose to take over, as it is now, the operational role of the various SeaDataNet partners</a:t>
            </a:r>
            <a:endParaRPr b="1" i="1" lang="en-US" sz="2400" spc="-1" strike="sngStrike" u="sng">
              <a:solidFill>
                <a:srgbClr val="ffffff"/>
              </a:solidFill>
              <a:uFillTx/>
              <a:latin typeface="Basic Sans"/>
            </a:endParaRPr>
          </a:p>
        </p:txBody>
      </p:sp>
      <p:sp>
        <p:nvSpPr>
          <p:cNvPr id="91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BC2E-3C43-4E17-BA10-63CB8F5348CF}"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4"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ore specifically the purpose of the Organization is:</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the SeaDataNet infrastructure, tools and services and the development of underpinning science and technology;</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Foster cooperation and coordination within its Members in the field of data management, processing and dissemination ;</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and coordinate the development of commonly available products and services; and</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Coordinate the contribution of the pan-European oceanographic data management community to the European Union initiatives for a better environmental status of the seas and oceans and for an improved marine knowledge in general.</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sngStrike" u="sng">
              <a:solidFill>
                <a:srgbClr val="ffffff"/>
              </a:solidFill>
              <a:uFillTx/>
              <a:latin typeface="Basic Sans"/>
            </a:endParaRPr>
          </a:p>
        </p:txBody>
      </p:sp>
      <p:sp>
        <p:nvSpPr>
          <p:cNvPr id="91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443F-7B2D-434D-BBB8-D4C56D5E33E5}"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First actions</a:t>
            </a:r>
            <a:endParaRPr b="1" i="1" lang="en-US" sz="4400" spc="-1" strike="sngStrike" u="sng">
              <a:solidFill>
                <a:srgbClr val="ffffff"/>
              </a:solidFill>
              <a:uFillTx/>
              <a:latin typeface="Basic Sans"/>
            </a:endParaRPr>
          </a:p>
        </p:txBody>
      </p:sp>
      <p:sp>
        <p:nvSpPr>
          <p:cNvPr id="918"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s of the first General Assembly:</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signation of the Members of the Board</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not to set up a general secretariat</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to set the annual membership fee to 250€.</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doption of the Rules of Procedure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 bank account has been opened and the situation of the AISBL wrt to the VAT has been clarified.</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registered office of SeaDataNet AISBL is located at RBINS (where EuroGOOS AISBL will soon move.)</a:t>
            </a:r>
            <a:endParaRPr b="1" i="1" lang="en-US" sz="2400" spc="-1" strike="sngStrike" u="sng">
              <a:solidFill>
                <a:srgbClr val="ffffff"/>
              </a:solidFill>
              <a:uFillTx/>
              <a:latin typeface="Basic Sans"/>
            </a:endParaRPr>
          </a:p>
        </p:txBody>
      </p:sp>
      <p:sp>
        <p:nvSpPr>
          <p:cNvPr id="91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1369-E1DD-4112-9D1E-7EEA7318A16E}"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urrent composition of the Board</a:t>
            </a:r>
            <a:endParaRPr b="1" i="1" lang="en-US" sz="4400" spc="-1" strike="sngStrike" u="sng">
              <a:solidFill>
                <a:srgbClr val="ffffff"/>
              </a:solidFill>
              <a:uFillTx/>
              <a:latin typeface="Basic Sans"/>
            </a:endParaRPr>
          </a:p>
        </p:txBody>
      </p:sp>
      <p:sp>
        <p:nvSpPr>
          <p:cNvPr id="922"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Serge Scory (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Michèle Fichaut (Vice-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lessandra Giorgetti</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thanasia Iona</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Lesley Rickard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Dick Schaap</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y act as individuals (but we made sure that they have strong links with institutions responsible for key-elements of the SeaDataNet infrastructure).</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andates run up to the General Assembly of 2022, re-eligible.</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2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0166-2974-4D47-98FD-5719239BA167}"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Why SeaDataNet AISBL?</a:t>
            </a:r>
            <a:endParaRPr b="1" i="1" lang="en-US" sz="4400" spc="-1" strike="sngStrike" u="sng">
              <a:solidFill>
                <a:srgbClr val="ffffff"/>
              </a:solidFill>
              <a:uFillTx/>
              <a:latin typeface="Basic Sans"/>
            </a:endParaRPr>
          </a:p>
        </p:txBody>
      </p:sp>
      <p:sp>
        <p:nvSpPr>
          <p:cNvPr id="92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UE Commission wanted for a long time to be able to talk to “SeaDataNet” through a unique entity, not via Beneficiaries of project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is is also the case for other “éhigh level” bodies (ENVRI-BEERi, ESFRI,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We need to show that we are not only a project-based initiative and that there is a string will to support the sustainability of the infrastructure, its services and the delivery of high quality marine data through this channel.</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stronger the Organization, the stronger the message </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Wingdings"/>
                <a:ea typeface="Wingdings"/>
              </a:rPr>
              <a:t></a:t>
            </a:r>
            <a:r>
              <a:rPr b="1" i="1" lang="en-US" sz="2400" spc="-1" strike="sngStrike" u="sng">
                <a:solidFill>
                  <a:srgbClr val="ffffff"/>
                </a:solidFill>
                <a:uFillTx/>
                <a:latin typeface="Calibri"/>
              </a:rPr>
              <a:t> </a:t>
            </a:r>
            <a:r>
              <a:rPr b="1" i="1" lang="en-US" sz="2400" spc="-1" strike="sngStrike" u="sng">
                <a:solidFill>
                  <a:srgbClr val="ffffff"/>
                </a:solidFill>
                <a:uFillTx/>
                <a:latin typeface="Calibri"/>
              </a:rPr>
              <a:t>become a member!</a:t>
            </a:r>
            <a:endParaRPr b="1" i="1" lang="en-US" sz="2400" spc="-1" strike="sngStrike" u="sng">
              <a:solidFill>
                <a:srgbClr val="ffffff"/>
              </a:solidFill>
              <a:uFillTx/>
              <a:latin typeface="Basic Sans"/>
            </a:endParaRPr>
          </a:p>
        </p:txBody>
      </p:sp>
      <p:sp>
        <p:nvSpPr>
          <p:cNvPr id="927"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8FED-8ED1-4D21-8D54-9142D515C99C}"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8"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will the membership fee used?</a:t>
            </a:r>
            <a:endParaRPr b="1" i="1" lang="en-US" sz="4400" spc="-1" strike="sngStrike" u="sng">
              <a:solidFill>
                <a:srgbClr val="ffffff"/>
              </a:solidFill>
              <a:uFillTx/>
              <a:latin typeface="Basic Sans"/>
            </a:endParaRPr>
          </a:p>
        </p:txBody>
      </p:sp>
      <p:sp>
        <p:nvSpPr>
          <p:cNvPr id="930"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No other income foreseen for the moment</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membership fees will mainly be used to cover</a:t>
            </a:r>
            <a:endParaRPr b="1" i="1" lang="en-US" sz="24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establishment costs (~1500€)</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administrative support for the official accounting</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some operational costs (stamps…)</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promotional expenses (after </a:t>
            </a:r>
            <a:r>
              <a:rPr b="1" i="1" lang="en-US" sz="2400" spc="-1" strike="sngStrike">
                <a:solidFill>
                  <a:srgbClr val="ffffff"/>
                </a:solidFill>
                <a:latin typeface="Calibri"/>
              </a:rPr>
              <a:t>SeaDataCloud</a:t>
            </a:r>
            <a:r>
              <a:rPr b="1" i="1" lang="en-US" sz="2400" spc="-1" strike="sngStrike">
                <a:solidFill>
                  <a:srgbClr val="ffffff"/>
                </a:solidFill>
                <a:latin typeface="Calibri"/>
              </a:rPr>
              <a:t>)</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a:t>
            </a:r>
            <a:endParaRPr b="1" i="1" lang="en-US" sz="2400" spc="-1" strike="sngStrike">
              <a:solidFill>
                <a:srgbClr val="ffffff"/>
              </a:solidFill>
              <a:latin typeface="Basic Sans"/>
            </a:endParaRPr>
          </a:p>
        </p:txBody>
      </p:sp>
      <p:sp>
        <p:nvSpPr>
          <p:cNvPr id="93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EF88-9C20-466C-AC24-B7155DB4ECBF}"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to become a member?</a:t>
            </a:r>
            <a:endParaRPr b="1" i="1" lang="en-US" sz="4400" spc="-1" strike="sngStrike" u="sng">
              <a:solidFill>
                <a:srgbClr val="ffffff"/>
              </a:solidFill>
              <a:uFillTx/>
              <a:latin typeface="Basic Sans"/>
            </a:endParaRPr>
          </a:p>
        </p:txBody>
      </p:sp>
      <p:sp>
        <p:nvSpPr>
          <p:cNvPr id="934"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signed the “SeaDataNet Exploitation Agreement” at the end of the SeaDataNet 2 project will be automatically admitted as a Member upon notification of their written request for affiliation addressed to the Organization (sdn-aisbl-board@seadatanet.org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didn’t sign the “SeaDataNet Exploitation Agreement” must be admitted by the General Meeting.</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ly organizations can become member, no individuals.</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ull membership is granted once the annual membership fee is paid to the organization.</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3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851A4-7413-4F52-BC31-53C50921864F}"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ele FICHAUT, Ifremer Brest PDG-IMN-IDM-SISME</dc:creator>
  <dc:description/>
  <dc:language>en-US</dc:language>
  <cp:lastModifiedBy/>
  <cp:revision>0</cp:revision>
  <dc:subject/>
  <dc:title>Présentation PowerPoint</dc:title>
</cp:coreProperties>
</file>