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6E9-446B-4419-914C-34556FBC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10AC-36EE-41B2-A95C-A9DE2992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AFC-3067-447A-BF3C-EBE9E0B9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0856-3DCA-4BDA-9F05-D7F4B2A6C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9A1D-117A-4DD7-B781-A74BF21C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231-4C6D-4C41-BD22-AD54093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3B9-10D2-449A-88AE-6D2C1F14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4A7-09C3-47AC-94A1-3D7B32EC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91A-37F0-4997-918E-62B2F053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FA3-1ACC-4433-A8E6-5D8FA4E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6186-1C25-40F3-A4B2-775346AB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4BB0-025E-4E52-9C46-2B6FB896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4C0C5-13DA-4240-A759-29C136FA6874}" type="slidenum">
              <a:rPr b="0" lang="da-D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smhi.se/en/services/open-data/hype-data-delivery-services-1.104448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hypeweb.smhi.se/explore-water/model-performances/model-performance-europe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oos.eurogoos.eu/observations/river-discharge-obs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hypeweb.smhi.se/explore-water/historical-data/europe-time-series" TargetMode="External"/><Relationship Id="rId2" Type="http://schemas.openxmlformats.org/officeDocument/2006/relationships/hyperlink" Target="http://hypeweb.smhi.se/explore-water/forecasts/1-10-day-forecast-europe/" TargetMode="External"/><Relationship Id="rId3" Type="http://schemas.openxmlformats.org/officeDocument/2006/relationships/hyperlink" Target="http://hypeweb.smhi.se/explore-water/forecasts/1-10-day-forecast-europe/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iver Project Aim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Make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real-time observation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river fluxes available to partner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Make high quality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historical data se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of observed fluxes and loads available to partners for hindcast studie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Assess the availability and applicability of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prognostic river 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data and make 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4. Develop </a:t>
            </a:r>
            <a:r>
              <a:rPr b="1" lang="da-DK" sz="2800" spc="-1" strike="noStrike">
                <a:solidFill>
                  <a:srgbClr val="000000"/>
                </a:solidFill>
                <a:latin typeface="Calibri"/>
              </a:rPr>
              <a:t>best practices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 applying river run-off data in coastal ocean foreca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ther parameters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water temperature : UNUSABLE</a:t>
            </a:r>
            <a:br>
              <a:rPr sz="3600"/>
            </a:b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Organic, inorganic, total N</a:t>
            </a:r>
            <a:br>
              <a:rPr sz="3600"/>
            </a:br>
            <a:r>
              <a:rPr b="0" lang="da-DK" sz="3600" spc="-1" strike="noStrike">
                <a:solidFill>
                  <a:srgbClr val="000000"/>
                </a:solidFill>
                <a:latin typeface="Calibri"/>
              </a:rPr>
              <a:t>Particulate, soluble, total P</a:t>
            </a:r>
            <a:br>
              <a:rPr sz="3600"/>
            </a:br>
            <a:br>
              <a:rPr sz="36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kilos/month, need proper scaling depending on bio-model befor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96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ocessed at DMI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ot latest e-hype3 versio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, 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Nutrient loads, 11 years, 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nual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alendar day climat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Water temp: unusabl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think we can hand this out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SMHI pricing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 of history, v3.0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 – and on-line again!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 have not checked if data has changed (v3.1? v3.2?)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ther services:</a:t>
            </a:r>
            <a:br>
              <a:rPr sz="2800"/>
            </a:b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smhi.se/en/services/open-data/hype-data-delivery-services-1.1044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Question: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How expensive may data get before it is to be regarded as inaccessible in project use, and in operational us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Is this nice-to-have, or need-to-h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pricing …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ince charging is for service, one could imagine a centralized solution to minimize cost.</a:t>
            </a:r>
            <a:br>
              <a:rPr sz="2800"/>
            </a:br>
            <a:br>
              <a:rPr sz="4000"/>
            </a:br>
            <a:r>
              <a:rPr b="0" i="1" lang="da-DK" sz="2800" spc="-1" strike="noStrike">
                <a:solidFill>
                  <a:srgbClr val="000000"/>
                </a:solidFill>
                <a:latin typeface="Calibri"/>
              </a:rPr>
              <a:t>Mercator / CMEMS will not purchase.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Each ROOS or even partner on its own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t least until another hydrological model appears on the horizon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79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 – license agreement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ermission to copy and distribute open data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This would include anything that has been freely available on-line, even if it isn’t any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elpdesk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ose to non-existent.</a:t>
            </a:r>
            <a:br>
              <a:rPr sz="2800"/>
            </a:br>
            <a:br>
              <a:rPr sz="28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 home page</a:t>
            </a:r>
            <a:br>
              <a:rPr sz="40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unctionality largely improv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565360"/>
            <a:ext cx="8820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SMHI E-hype3 validation at</a:t>
            </a:r>
            <a:br>
              <a:rPr sz="4000"/>
            </a:br>
            <a:br>
              <a:rPr sz="4000"/>
            </a:br>
            <a:r>
              <a:rPr b="0" lang="da-DK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hypeweb.smhi.se/explore-water/model-performances/model-performance-europe/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se are, as far as I can tell, long-term mean valu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535040" y="1268280"/>
            <a:ext cx="6072120" cy="49690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ny coastal segment with respect for itself it attributed an e-hype run-off estimate 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50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Recommendations for further effort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ter document real-time data acces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Advocate for some sort of agreement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between -SMHI and each ROOS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nsider if NRT data is worth the cost, or if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 will do the trick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courage non-commercial hydrological 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mode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The focus of this project has shifted from observations towards modelled run-off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Observations are used for model quality control, in delayed mode</a:t>
            </a:r>
            <a:br>
              <a:rPr sz="4000"/>
            </a:b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Completed, and managed by Delta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Best practices.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do?</a:t>
            </a:r>
            <a:br>
              <a:rPr sz="4000"/>
            </a:b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hat do people need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Questionnaire at the NOOS  River Run-off Project page.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lease take a read, and complete as you see releva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8/19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c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c000"/>
                </a:solidFill>
                <a:latin typeface="Calibri"/>
              </a:rPr>
              <a:t>3. Poll NOOS members on how river data is applied in ocean model, in order to define best practice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b050"/>
                </a:solidFill>
                <a:latin typeface="Calibri"/>
              </a:rPr>
              <a:t>4. Fix broken links to NRT observ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463480"/>
            <a:ext cx="882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Workplan 2019/20</a:t>
            </a:r>
            <a:br>
              <a:rPr sz="4000"/>
            </a:br>
            <a:br>
              <a:rPr sz="40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1. Clarify SMHIs pricing policy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2. Make E-hype3 climate products available to partners with SMHIs consent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3. Report on best practice poll</a:t>
            </a: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000000"/>
                </a:solidFill>
                <a:latin typeface="Calibri"/>
              </a:rPr>
              <a:t>4. Decide on what to do in NOOS about nutrient loads. Is that part of this proj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1 : NRT observation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Data access: discharge. Managed by Deltares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Norwegi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German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Dutch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 √ Belgian</a:t>
            </a:r>
            <a:br>
              <a:rPr sz="2800"/>
            </a:br>
            <a:r>
              <a:rPr b="0" lang="da-DK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oos.eurogoos.eu/observations/river-discharge-obs/_x000b_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Pages linked: river level / hydrology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England / Wales / N.Ire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cotland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we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606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2 : Historical observations of river fluxes and loads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tatus unknown. How much history?</a:t>
            </a:r>
            <a:br>
              <a:rPr sz="2800"/>
            </a:b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uld be summed up in a re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319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#3 : Prognostic/hydrological data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E-hype 3.x (Europe)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limatology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RE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Forecast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COMMERCIAL</a:t>
            </a:r>
            <a:br>
              <a:rPr sz="28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MHI charges ”not for data, but for servic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400" spc="-1" strike="noStrike">
                <a:solidFill>
                  <a:srgbClr val="000000"/>
                </a:solidFill>
                <a:latin typeface="Calibri"/>
              </a:rPr>
              <a:t>SMHI E-hype3 ur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434600"/>
            <a:ext cx="6400800" cy="29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historical, digi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hypeweb.smhi.se/explore-water/historical-data/europe-time-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Europe – forecast, graph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da-DK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ypeweb.smhi.se/explore-water/forecasts/1-10-day-forecast-europ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898989"/>
                </a:solidFill>
                <a:latin typeface="Calibri"/>
              </a:rPr>
              <a:t>Seasonal forecast, climate change for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4000" spc="-1" strike="noStrike">
                <a:solidFill>
                  <a:srgbClr val="000000"/>
                </a:solidFill>
                <a:latin typeface="Calibri"/>
              </a:rPr>
              <a:t>E-hype3 data, Europe. Processed at DMI.</a:t>
            </a:r>
            <a:br>
              <a:rPr sz="4000"/>
            </a:br>
            <a:br>
              <a:rPr sz="40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. Historical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run-off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0 years, 1981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loads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11 years,2000-2010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Series, annual and calendar day climatology.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. New historical / Interim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0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(1989-)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1-2016/1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3. On-line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Calibri"/>
              </a:rPr>
              <a:t>2016-presen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13:49:10Z</dcterms:created>
  <dc:creator>Jacob Woge Nielsen</dc:creator>
  <dc:description/>
  <dc:language>en-US</dc:language>
  <cp:lastModifiedBy>Jacob Woge Nielsen</cp:lastModifiedBy>
  <cp:lastPrinted>2019-10-09T14:38:03Z</cp:lastPrinted>
  <dcterms:modified xsi:type="dcterms:W3CDTF">2019-10-14T12:01:21Z</dcterms:modified>
  <cp:revision>101</cp:revision>
  <dc:subject/>
  <dc:title>River project</dc:title>
</cp:coreProperties>
</file>