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23FD-79EB-4C15-AD88-D2D3423A9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D88A-34B8-44A8-A7D1-992D1725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894D-08A1-4A8F-9006-1B7912E5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D701-A440-4C8F-AADF-754FD5BFB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7C1F-99E2-420B-B3D2-89FB4336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2E14-9034-42A0-A4DB-10436DD4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FA58-E1C9-410E-8957-DBEC1FE5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E922-F39B-401F-8C7A-8A98ED19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5DEE-F8D4-485C-A0D3-725EC202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2CDA-A693-4130-9529-3D8DEFDD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D1DB-E805-4386-BF84-B2AB5629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2615-35AF-4DD2-A68C-50CF4659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62D9-C803-4A08-9363-1AE102E30EAB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smhi.se/en/services/open-data/hype-data-delivery-services-1.104448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hypeweb.smhi.se/explore-water/model-performances/model-performance-europe/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oos.eurogoos.eu/observations/river-discharge-obs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hypeweb.smhi.se/explore-water/historical-data/europe-time-series" TargetMode="External"/><Relationship Id="rId2" Type="http://schemas.openxmlformats.org/officeDocument/2006/relationships/hyperlink" Target="http://hypeweb.smhi.se/explore-water/forecasts/1-10-day-forecast-europe/" TargetMode="External"/><Relationship Id="rId3" Type="http://schemas.openxmlformats.org/officeDocument/2006/relationships/hyperlink" Target="http://hypeweb.smhi.se/explore-water/forecasts/1-10-day-forecast-europe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River Project Aim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. Make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real-time observation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of river fluxes available to partner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. Make high quality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historical data set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of observed fluxes and loads available to partners for hindcast studie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. Assess the availability and applicability of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prognostic river run-off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data and make recommendations for further effort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4. Develop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best practices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or applying river run-off data in coastal ocean foreca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Other parameters</a:t>
            </a:r>
            <a:br>
              <a:rPr sz="3600"/>
            </a:b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water temperature : UNUSABLE</a:t>
            </a:r>
            <a:br>
              <a:rPr sz="3600"/>
            </a:b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Organic, inorganic, total N</a:t>
            </a: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Particulate, soluble, total P</a:t>
            </a:r>
            <a:br>
              <a:rPr sz="3600"/>
            </a:br>
            <a:br>
              <a:rPr sz="36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kilos/month, need proper scaling depending on bio-model befor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966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processed at DMI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Not latest e-hype3 version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Run-off, 30 years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Nutrient loads, 11 years, 2000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nnual climat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alendar day climat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Water temp: unusabl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 think we can hand this out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SMHI pricing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0 years of history, v3.0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ree – and on-line again!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 have not checked if data has changed (v3.1? v3.2?)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ther services:</a:t>
            </a:r>
            <a:br>
              <a:rPr sz="2800"/>
            </a:br>
            <a:br>
              <a:rPr sz="2800"/>
            </a:br>
            <a:r>
              <a:rPr b="0" lang="da-DK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smhi.se/en/services/open-data/hype-data-delivery-services-1.1044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Question: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How expensive may data get before it is to be regarded as inaccessible in project use, and in operational us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s this nice-to-have, or need-to-h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pricing …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ince charging is for service, one could imagine a centralized solution to minimize cost.</a:t>
            </a:r>
            <a:br>
              <a:rPr sz="2800"/>
            </a:br>
            <a:br>
              <a:rPr sz="4000"/>
            </a:br>
            <a:r>
              <a:rPr b="0" i="1" lang="da-DK" sz="2800" spc="-1" strike="noStrike">
                <a:solidFill>
                  <a:srgbClr val="000000"/>
                </a:solidFill>
                <a:latin typeface="Calibri"/>
              </a:rPr>
              <a:t>Mercator / CMEMS will not purchase.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Each ROOS or even partner on its own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t least until another hydrological model appears on the horizon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license agreement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ermission to copy and distribute open data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This would include anything that has been freely available on-line, even if it isn’t anym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 helpdesk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ose to non-existent.</a:t>
            </a:r>
            <a:br>
              <a:rPr sz="2800"/>
            </a:br>
            <a:br>
              <a:rPr sz="28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 home page</a:t>
            </a:r>
            <a:br>
              <a:rPr sz="40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unctionality largely improv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2565360"/>
            <a:ext cx="8820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SMHI E-hype3 validation at</a:t>
            </a:r>
            <a:br>
              <a:rPr sz="4000"/>
            </a:br>
            <a:br>
              <a:rPr sz="4000"/>
            </a:br>
            <a:r>
              <a:rPr b="0" lang="da-DK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hypeweb.smhi.se/explore-water/model-performances/model-performance-europe/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These are, as far as I can tell, long-term mean valu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535040" y="1268280"/>
            <a:ext cx="6072120" cy="4969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ny coastal segment with respect for itself it attributed an e-hype run-off estimate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5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Recommendations for further effort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Better document real-time data acces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dvocate for some sort of agreement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between -SMHI and each ROO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nsider if NRT data is worth the cost, or if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imatology will do the trick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Encourage non-commercial hydrological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mode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The focus of this project has shifted from observations towards modelled run-off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Observations are used for model quality control, in delayed mode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Completed, and managed by Delta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Best practices.</a:t>
            </a: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hat do people do?</a:t>
            </a: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hat do people need?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Questionnaire at the NOOS  River Run-off Project pag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lease take a read, and complete as you see relev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orkplan 2018/19</a:t>
            </a:r>
            <a:br>
              <a:rPr sz="4000"/>
            </a:br>
            <a:br>
              <a:rPr sz="4000"/>
            </a:br>
            <a:r>
              <a:rPr b="0" lang="da-DK" sz="3200" spc="-1" strike="noStrike">
                <a:solidFill>
                  <a:srgbClr val="c00000"/>
                </a:solidFill>
                <a:latin typeface="Calibri"/>
              </a:rPr>
              <a:t>1. Clarify SMHIs pricing policy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ffc000"/>
                </a:solidFill>
                <a:latin typeface="Calibri"/>
              </a:rPr>
              <a:t>2. Make E-hype3 climate products available to partners with SMHIs consent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ffc000"/>
                </a:solidFill>
                <a:latin typeface="Calibri"/>
              </a:rPr>
              <a:t>3. Poll NOOS members on how river data is applied in ocean model, in order to define best practice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b050"/>
                </a:solidFill>
                <a:latin typeface="Calibri"/>
              </a:rPr>
              <a:t>4. Fix broken links to NRT observ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orkplan 2019/20</a:t>
            </a:r>
            <a:br>
              <a:rPr sz="4000"/>
            </a:br>
            <a:br>
              <a:rPr sz="40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1. Clarify SMHIs pricing policy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2. Make E-hype3 climate products available to partners with SMHIs consent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3. Report on best practice poll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4. Decide on what to do in NOOS about nutrient loads. Is that part of this proje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1 : NRT observation of river fluxes and load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ta access: discharge. Managed by Deltares.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Norwegian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German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Dutch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Belgian</a:t>
            </a:r>
            <a:br>
              <a:rPr sz="2800"/>
            </a:br>
            <a:r>
              <a:rPr b="0" lang="da-DK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noos.eurogoos.eu/observations/river-discharge-obs/_x000b_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ages linked: river level / hydr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England / Wales / N.Ireland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cotland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we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2 : Historical observations of river fluxes and load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tatus unknown. How much history?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uld be summed up in a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319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3 : Prognostic/hydrological data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MHI E-hype 3.x (Europe)</a:t>
            </a:r>
            <a:br>
              <a:rPr sz="28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imatology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REE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orecast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MMERCIAL</a:t>
            </a:r>
            <a:br>
              <a:rPr sz="28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MHI charges ”not for data, but for servic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SMHI E-hype3 ur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434600"/>
            <a:ext cx="6400800" cy="29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Europe – historical, dig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hypeweb.smhi.se/explore-water/historical-data/europe-time-s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Europe – forecast, graph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ypeweb.smhi.se/explore-water/forecasts/1-10-day-forecast-europ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Seasonal forecast, climate change forec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, Europe. Processed at DMI.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. Historical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run-off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0 years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load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1 years,2000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eries, annual and calendar day climatology.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. New historical / Interim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(1980-)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(1989-)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011-2016/1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. On-line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016-prese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8T13:49:10Z</dcterms:created>
  <dc:creator>Jacob Woge Nielsen</dc:creator>
  <dc:description/>
  <dc:language>en-US</dc:language>
  <cp:lastModifiedBy>Jacob Woge Nielsen</cp:lastModifiedBy>
  <cp:lastPrinted>2019-10-09T14:38:03Z</cp:lastPrinted>
  <dcterms:modified xsi:type="dcterms:W3CDTF">2019-10-14T12:01:21Z</dcterms:modified>
  <cp:revision>101</cp:revision>
  <dc:subject/>
  <dc:title>River project</dc:title>
</cp:coreProperties>
</file>