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C5A-5756-4108-BB79-65539534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762-4036-49A2-9995-8B8A2030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8C1-DD91-47C1-AC8E-371168E2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878-FD0B-45A9-A6F2-CB1AB189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061F-461F-403B-BDFA-FEB4A318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D93-1E67-4036-8A9E-E17A0DFA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CE7-4C02-4CDC-B292-D3932147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DE1-76E5-46E0-8DCC-4EF01F2E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0087-5787-4C29-8614-E54F0580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429-4CC2-48E5-83AF-35FC1E65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8A6-23B4-440F-A4B0-898E89EE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34DB-502F-4682-9E93-3A2FAF28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5951-0B2C-4E6F-8E04-DD20500EB6F6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mhi.se/en/services/open-data/hype-data-delivery-services-1.10444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hypeweb.smhi.se/explore-water/model-performances/model-performance-europ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os.eurogoos.eu/observations/river-discharge-ob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ypeweb.smhi.se/explore-water/historical-data/europe-time-series" TargetMode="External"/><Relationship Id="rId2" Type="http://schemas.openxmlformats.org/officeDocument/2006/relationships/hyperlink" Target="http://hypeweb.smhi.se/explore-water/forecasts/1-10-day-forecast-europe/" TargetMode="External"/><Relationship Id="rId3" Type="http://schemas.openxmlformats.org/officeDocument/2006/relationships/hyperlink" Target="http://hypeweb.smhi.se/explore-water/forecasts/1-10-day-forecast-europe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iver Project Aim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Make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real-time observation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river fluxes available to partner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Make high quality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historical data se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observed fluxes and loads available to partners for hindcast studie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Assess the availability and applicability of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prognostic river 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data and make 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4. Develop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 applying river run-off data in coastal ocean for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ther parameters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water temperature : UNUSABLE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rganic, inorganic, total N</a:t>
            </a: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Particulate, soluble, total P</a:t>
            </a:r>
            <a:br>
              <a:rPr sz="3600"/>
            </a:br>
            <a:br>
              <a:rPr sz="36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ilos/month, need proper scaling depending on bio-model befo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ocessed at DMI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ot latest e-hype3 versio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, 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utrient loads, 11 years, 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nual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alendar day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Water temp: unusabl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think we can hand this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SMHI pricing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 of history, v3.0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 – and on-line again!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have not checked if data has changed (v3.1? v3.2?)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ther services:</a:t>
            </a:r>
            <a:br>
              <a:rPr sz="2800"/>
            </a:b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smhi.se/en/services/open-data/hype-data-delivery-services-1.104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Question: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ow expensive may data get before it is to be regarded as inaccessible in project use, and in operational us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s this nice-to-have, or need-to-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icing …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ince charging is for service, one could imagine a centralized solution to minimize cost.</a:t>
            </a:r>
            <a:br>
              <a:rPr sz="2800"/>
            </a:br>
            <a:br>
              <a:rPr sz="4000"/>
            </a:b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Mercator / CMEMS will not purchase.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Each ROOS or even partner on its ow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t least until another hydrological model appears on the horizon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license agreement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ermission to copy and distribute open data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his would include anything that has been freely available on-line, even if it isn’t any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elpdesk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ose to non-existent.</a:t>
            </a:r>
            <a:br>
              <a:rPr sz="2800"/>
            </a:br>
            <a:br>
              <a:rPr sz="28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ome page</a:t>
            </a:r>
            <a:br>
              <a:rPr sz="40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unctionality largely impro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82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SMHI E-hype3 validation at</a:t>
            </a:r>
            <a:br>
              <a:rPr sz="4000"/>
            </a:br>
            <a:br>
              <a:rPr sz="4000"/>
            </a:br>
            <a:r>
              <a:rPr b="0" lang="da-DK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hypeweb.smhi.se/explore-water/model-performances/model-performance-europe/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se are, as far as I can tell, long-term mean valu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5040" y="1268280"/>
            <a:ext cx="607212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y coastal segment with respect for itself it attributed an e-hype run-off estimat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ter document real-time data acces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dvocate for some sort of agreement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ween -SMHI and each ROO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nsider if NRT data is worth the cost, or if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 will do the trick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courage non-commercial hydrological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 focus of this project has shifted from observations towards modelled run-off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Observations are used for model quality control, in delayed mode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Completed, and managed by Delt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Best practices.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do?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need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Questionnaire at the NOOS  River Run-off Project pag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lease take a read, and complete as you see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8/19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c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3. Poll NOOS members on how river data is applied in ocean model, in order to define best practice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b050"/>
                </a:solidFill>
                <a:latin typeface="Calibri"/>
              </a:rPr>
              <a:t>4. Fix broken links to NRT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9/20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3. Report on best practice poll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4. Decide on what to do in NOOS about nutrient loads. Is that part of this pro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1 : NRT observation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ta access: discharge. Managed by Deltares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Norwegi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Germ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Dutch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Belgian</a:t>
            </a: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os.eurogoos.eu/observations/river-discharge-obs/_x000b_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ages linked: river level / hydr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gland / Wales / N.Ire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2 : Historical observations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tatus unknown. How much history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uld be summed up in a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3 : Prognostic/hydrological data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E-hype 3.x (Europe)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ecas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MMERCIAL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charges ”not for data, but for servi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SMHI E-hype3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34600"/>
            <a:ext cx="64008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historical,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ypeweb.smhi.se/explore-water/historical-data/europe-tim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forecast, graph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ypeweb.smhi.se/explore-water/forecasts/1-10-day-forecast-europ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Seasonal forecast, climate change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, Europe. Processed at DMI.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Historical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oad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1 years,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eries, annual and calendar day climatology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New historical / Interim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0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9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1-2016/1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On-lin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6-pres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3:49:10Z</dcterms:created>
  <dc:creator>Jacob Woge Nielsen</dc:creator>
  <dc:description/>
  <dc:language>en-US</dc:language>
  <cp:lastModifiedBy>Jacob Woge Nielsen</cp:lastModifiedBy>
  <cp:lastPrinted>2019-10-09T14:38:03Z</cp:lastPrinted>
  <dcterms:modified xsi:type="dcterms:W3CDTF">2019-10-14T12:01:21Z</dcterms:modified>
  <cp:revision>101</cp:revision>
  <dc:subject/>
  <dc:title>River project</dc:title>
</cp:coreProperties>
</file>