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10691813" cy="7559675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0B52-CD1E-4210-8CC1-EF0C6AA17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7B62-950E-4BA1-A2BE-F07A792EB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C409-1014-408A-B303-98EF40C21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63CB-3A44-41E2-BD90-A582440D8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E31A-9F8F-45C2-988E-B8DE42A9C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ED14-6CB4-4115-824E-F455C1DF8A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1511-E3AA-42AE-8DA5-070CE31994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60FF-2910-4F0C-9C50-CF1EE946E9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54DB-E13C-4DF7-A30D-8AEA495D17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DE64-7D8B-4D40-9BF5-C8904D49D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3A58-A38D-4422-B973-B9AD9C02EA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6638-A6BF-4048-9F86-1F7E135032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189C-E005-470F-8D53-F3124BB2E6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CCD4-1882-420F-8C51-F59523AC0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9038-74D0-46A6-88BF-D5A988F158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FE9B-36E0-470B-8BD7-CBB6A61587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9386-AAA0-4EF7-ADAA-0176953317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69BD-DB6E-4FF1-9C3A-23569FBDB4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A88-25D6-4EB4-B8AF-A5930E64F5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C1C-BCC0-436F-BA7F-B2055EEDEC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C53-1BD2-42DF-A8A0-A512F0FBE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6A68-63C3-4C34-B4D8-84200D8C05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ED7-CAC1-430B-9DD3-AB2D5F9F00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867-B8EF-4A4F-9686-C7CF1AD9A6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5DA-B5D3-47DA-9F87-E0015EE594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C9A-0401-4174-AF87-9A25A36440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E35-EBE1-42E0-8ACE-62AEE013B6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ACE-4372-4EC1-8A5B-16348D258F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3A9-94DD-4B46-8935-66C21E01B1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D70-0CF6-431E-BD7F-568ADA84E5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017-0489-443B-A265-965ADB4609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00A63-1044-41CF-B728-DFA0C6659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E525-AD10-4E80-A2AA-897169CDE3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53604-DEC7-42C3-B90F-2F492BE92FB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D3778-A612-41D8-915B-D51407EB4B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F57EC-17C6-47CD-BF5C-1D36DBFFA0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8B972-6C95-47C2-AFA0-C24E8E3C34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C058E-54BA-45FE-9E66-E25394187A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D0589-F3B2-4A70-87F9-6F2800D1C7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52D59-4F48-4B8C-96A3-D53ABFE903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E1DE-8064-410D-8735-149FBFC3408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D642A-7CD0-40E9-9857-521799C466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D03CF-8AAB-441B-B4BE-DDE314C18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43080" y="394920"/>
            <a:ext cx="676728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1DB0-8C32-4AB6-9C5D-5A02491718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9840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53720" y="148392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308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9840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353720" y="4169160"/>
            <a:ext cx="290952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F1160-FE7A-409F-9AE8-EFB6AC451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095B-A1B6-4004-BFDD-402295A38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73040" y="416916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5F40-143E-4971-AB4A-39F9467E4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4308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73040" y="1483920"/>
            <a:ext cx="440928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43080" y="4169160"/>
            <a:ext cx="9036000" cy="245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2D13-E736-419A-92EE-8EC603D3A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C5D237-6222-45EC-98B5-7EE86DC65336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450720" y="0"/>
            <a:ext cx="10242720" cy="29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4"/>
          <p:cNvSpPr/>
          <p:nvPr/>
        </p:nvSpPr>
        <p:spPr>
          <a:xfrm flipH="1">
            <a:off x="378000" y="774720"/>
            <a:ext cx="1031544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595440" y="720720"/>
            <a:ext cx="3958920" cy="10800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-1440" y="-14400"/>
            <a:ext cx="10693080" cy="6300720"/>
            <a:chOff x="-1440" y="-14400"/>
            <a:chExt cx="10693080" cy="6300720"/>
          </a:xfrm>
        </p:grpSpPr>
        <p:pic>
          <p:nvPicPr>
            <p:cNvPr id="48" name="Picture 17" descr=""/>
            <p:cNvPicPr/>
            <p:nvPr/>
          </p:nvPicPr>
          <p:blipFill>
            <a:blip r:embed="rId2"/>
            <a:stretch/>
          </p:blipFill>
          <p:spPr>
            <a:xfrm>
              <a:off x="-1440" y="2900160"/>
              <a:ext cx="10693080" cy="338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" name="Object 18"/>
            <p:cNvGraphicFramePr/>
            <p:nvPr/>
          </p:nvGraphicFramePr>
          <p:xfrm>
            <a:off x="-1440" y="-14400"/>
            <a:ext cx="450360" cy="630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440" y="-14400"/>
                      <a:ext cx="450360" cy="630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1" name="Picture 11" descr="HZG_RGB_72dpi_mitZusatz in E_80mm"/>
          <p:cNvPicPr/>
          <p:nvPr/>
        </p:nvPicPr>
        <p:blipFill>
          <a:blip r:embed="rId5"/>
          <a:stretch/>
        </p:blipFill>
        <p:spPr>
          <a:xfrm>
            <a:off x="7866000" y="6627960"/>
            <a:ext cx="237672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9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feld 9"/>
          <p:cNvSpPr/>
          <p:nvPr/>
        </p:nvSpPr>
        <p:spPr>
          <a:xfrm>
            <a:off x="7178760" y="729936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CEASELESS Meeting Kopenhagen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3B3B75-881F-4C36-8578-F57FDCC6BD17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36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9"/>
          <p:cNvSpPr/>
          <p:nvPr/>
        </p:nvSpPr>
        <p:spPr>
          <a:xfrm>
            <a:off x="7151760" y="728820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3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1A40758-D585-4DCF-A306-B42F7734EF6B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HZG_RGB_72dpi_mitZusatz in E_80mm"/>
          <p:cNvPicPr/>
          <p:nvPr/>
        </p:nvPicPr>
        <p:blipFill>
          <a:blip r:embed="rId2"/>
          <a:stretch/>
        </p:blipFill>
        <p:spPr>
          <a:xfrm>
            <a:off x="8226360" y="390600"/>
            <a:ext cx="2089080" cy="536400"/>
          </a:xfrm>
          <a:prstGeom prst="rect">
            <a:avLst/>
          </a:prstGeom>
          <a:ln w="0">
            <a:noFill/>
          </a:ln>
        </p:spPr>
      </p:pic>
      <p:sp>
        <p:nvSpPr>
          <p:cNvPr id="181" name="Line 20"/>
          <p:cNvSpPr/>
          <p:nvPr/>
        </p:nvSpPr>
        <p:spPr>
          <a:xfrm flipH="1">
            <a:off x="1782360" y="1098720"/>
            <a:ext cx="849636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414000" y="1098720"/>
            <a:ext cx="755640" cy="0"/>
          </a:xfrm>
          <a:prstGeom prst="line">
            <a:avLst/>
          </a:prstGeom>
          <a:ln w="3240">
            <a:solidFill>
              <a:srgbClr val="0098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1243080" y="1044720"/>
            <a:ext cx="3959280" cy="107640"/>
          </a:xfrm>
          <a:prstGeom prst="rect">
            <a:avLst/>
          </a:prstGeom>
          <a:solidFill>
            <a:srgbClr val="0098d4"/>
          </a:solidFill>
          <a:ln w="936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450720" y="7308720"/>
            <a:ext cx="9863280" cy="0"/>
          </a:xfrm>
          <a:prstGeom prst="line">
            <a:avLst/>
          </a:prstGeom>
          <a:ln w="3240">
            <a:solidFill>
              <a:srgbClr val="00a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9"/>
          <p:cNvSpPr/>
          <p:nvPr/>
        </p:nvSpPr>
        <p:spPr>
          <a:xfrm>
            <a:off x="7970040" y="727380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NOOS 201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43080" y="1483920"/>
            <a:ext cx="90360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44460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44748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93880" indent="-447840">
              <a:lnSpc>
                <a:spcPct val="120000"/>
              </a:lnSpc>
              <a:buClr>
                <a:srgbClr val="000000"/>
              </a:buClr>
              <a:buFont typeface="Wingdings 3" charset="2"/>
              <a:buChar char=""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4"/>
          </p:nvPr>
        </p:nvSpPr>
        <p:spPr>
          <a:xfrm>
            <a:off x="952308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E448AE6-D176-4114-B56B-02797287E17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ASELESS Special Iss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48EF9DF-292A-4731-8354-3D31579D0FF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schulzj\AppData\Local\Temp\bhezvcoy.ugh.png"/>
          <p:cNvPicPr/>
          <p:nvPr/>
        </p:nvPicPr>
        <p:blipFill>
          <a:blip r:embed="rId1"/>
          <a:srcRect l="0" t="0" r="5183" b="0"/>
          <a:stretch/>
        </p:blipFill>
        <p:spPr>
          <a:xfrm>
            <a:off x="17640" y="1589040"/>
            <a:ext cx="10513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564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ystematic err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BCDCD76-8832-48CE-AB23-8C49065A8B4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Users\schulzj\AppData\Local\Temp\qupuetyy.0q1.png"/>
          <p:cNvPicPr/>
          <p:nvPr/>
        </p:nvPicPr>
        <p:blipFill>
          <a:blip r:embed="rId1"/>
          <a:stretch/>
        </p:blipFill>
        <p:spPr>
          <a:xfrm>
            <a:off x="90360" y="1193760"/>
            <a:ext cx="9068040" cy="6114960"/>
          </a:xfrm>
          <a:prstGeom prst="rect">
            <a:avLst/>
          </a:prstGeom>
          <a:ln w="0">
            <a:noFill/>
          </a:ln>
        </p:spPr>
      </p:pic>
      <p:sp>
        <p:nvSpPr>
          <p:cNvPr id="309" name="Textfeld 1"/>
          <p:cNvSpPr/>
          <p:nvPr/>
        </p:nvSpPr>
        <p:spPr>
          <a:xfrm>
            <a:off x="9158400" y="248436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feld 5"/>
          <p:cNvSpPr/>
          <p:nvPr/>
        </p:nvSpPr>
        <p:spPr>
          <a:xfrm>
            <a:off x="9158400" y="529272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2"/>
          <p:cNvSpPr/>
          <p:nvPr/>
        </p:nvSpPr>
        <p:spPr>
          <a:xfrm>
            <a:off x="4989600" y="3492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7"/>
          <p:cNvSpPr/>
          <p:nvPr/>
        </p:nvSpPr>
        <p:spPr>
          <a:xfrm>
            <a:off x="4989600" y="6486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feld 3"/>
          <p:cNvSpPr/>
          <p:nvPr/>
        </p:nvSpPr>
        <p:spPr>
          <a:xfrm>
            <a:off x="1886040" y="6518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"/>
          <p:cNvSpPr/>
          <p:nvPr/>
        </p:nvSpPr>
        <p:spPr>
          <a:xfrm>
            <a:off x="1821960" y="34923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0"/>
          <p:cNvSpPr/>
          <p:nvPr/>
        </p:nvSpPr>
        <p:spPr>
          <a:xfrm>
            <a:off x="7583400" y="3564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1"/>
          <p:cNvSpPr/>
          <p:nvPr/>
        </p:nvSpPr>
        <p:spPr>
          <a:xfrm>
            <a:off x="7583400" y="65595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systema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2E2422E-7F3B-4D6D-8A0C-A646410E8FD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Users\schulzj\AppData\Local\Temp\32eyj5kf.blh.png"/>
          <p:cNvPicPr/>
          <p:nvPr/>
        </p:nvPicPr>
        <p:blipFill>
          <a:blip r:embed="rId1"/>
          <a:stretch/>
        </p:blipFill>
        <p:spPr>
          <a:xfrm>
            <a:off x="816120" y="1847880"/>
            <a:ext cx="6360840" cy="11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C:\Users\schulzj\AppData\Local\Temp\lqjrzqbf.rmo.png"/>
          <p:cNvPicPr/>
          <p:nvPr/>
        </p:nvPicPr>
        <p:blipFill>
          <a:blip r:embed="rId2"/>
          <a:stretch/>
        </p:blipFill>
        <p:spPr>
          <a:xfrm>
            <a:off x="566640" y="2806560"/>
            <a:ext cx="6440760" cy="935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C:\Users\schulzj\AppData\Local\Temp\exmeefwd.er5.png"/>
          <p:cNvPicPr/>
          <p:nvPr/>
        </p:nvPicPr>
        <p:blipFill>
          <a:blip r:embed="rId3"/>
          <a:stretch/>
        </p:blipFill>
        <p:spPr>
          <a:xfrm>
            <a:off x="927000" y="3708360"/>
            <a:ext cx="5499360" cy="90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schulzj\AppData\Local\Temp\bmb1db2m.mjl.png"/>
          <p:cNvPicPr/>
          <p:nvPr/>
        </p:nvPicPr>
        <p:blipFill>
          <a:blip r:embed="rId4"/>
          <a:stretch/>
        </p:blipFill>
        <p:spPr>
          <a:xfrm>
            <a:off x="566640" y="4560840"/>
            <a:ext cx="5346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ochastic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817E7F8-D90C-409B-871A-499B6F40949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schulzj\AppData\Local\Temp\4bi1vhne.ujz.png"/>
          <p:cNvPicPr/>
          <p:nvPr/>
        </p:nvPicPr>
        <p:blipFill>
          <a:blip r:embed="rId1"/>
          <a:srcRect l="0" t="-360" r="0" b="1533"/>
          <a:stretch/>
        </p:blipFill>
        <p:spPr>
          <a:xfrm>
            <a:off x="306360" y="1209600"/>
            <a:ext cx="9001080" cy="6083280"/>
          </a:xfrm>
          <a:prstGeom prst="rect">
            <a:avLst/>
          </a:prstGeom>
          <a:ln w="0">
            <a:noFill/>
          </a:ln>
        </p:spPr>
      </p:pic>
      <p:sp>
        <p:nvSpPr>
          <p:cNvPr id="326" name="Textfeld 2"/>
          <p:cNvSpPr/>
          <p:nvPr/>
        </p:nvSpPr>
        <p:spPr>
          <a:xfrm>
            <a:off x="4897440" y="35640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feld 6"/>
          <p:cNvSpPr/>
          <p:nvPr/>
        </p:nvSpPr>
        <p:spPr>
          <a:xfrm>
            <a:off x="486720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A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feld 7"/>
          <p:cNvSpPr/>
          <p:nvPr/>
        </p:nvSpPr>
        <p:spPr>
          <a:xfrm>
            <a:off x="7794720" y="359712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8"/>
          <p:cNvSpPr/>
          <p:nvPr/>
        </p:nvSpPr>
        <p:spPr>
          <a:xfrm>
            <a:off x="7794720" y="65232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Sit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9"/>
          <p:cNvSpPr/>
          <p:nvPr/>
        </p:nvSpPr>
        <p:spPr>
          <a:xfrm>
            <a:off x="1890720" y="363060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feld 10"/>
          <p:cNvSpPr/>
          <p:nvPr/>
        </p:nvSpPr>
        <p:spPr>
          <a:xfrm>
            <a:off x="1954080" y="662796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3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feld 3"/>
          <p:cNvSpPr/>
          <p:nvPr/>
        </p:nvSpPr>
        <p:spPr>
          <a:xfrm>
            <a:off x="9331560" y="2556000"/>
            <a:ext cx="11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feld 12"/>
          <p:cNvSpPr/>
          <p:nvPr/>
        </p:nvSpPr>
        <p:spPr>
          <a:xfrm>
            <a:off x="9171360" y="5076720"/>
            <a:ext cx="15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Rel. estimatio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 for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tochastic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an stochas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4BC9FC0-38DC-495D-BE09-B8FC9ABE7BA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Users\schulzj\AppData\Local\Temp\ri2ittjg.1kb.png"/>
          <p:cNvPicPr/>
          <p:nvPr/>
        </p:nvPicPr>
        <p:blipFill>
          <a:blip r:embed="rId1"/>
          <a:stretch/>
        </p:blipFill>
        <p:spPr>
          <a:xfrm>
            <a:off x="682560" y="1836720"/>
            <a:ext cx="7543800" cy="98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C:\Users\schulzj\AppData\Local\Temp\22pic020.3lq.png"/>
          <p:cNvPicPr/>
          <p:nvPr/>
        </p:nvPicPr>
        <p:blipFill>
          <a:blip r:embed="rId2"/>
          <a:stretch/>
        </p:blipFill>
        <p:spPr>
          <a:xfrm>
            <a:off x="306360" y="3189240"/>
            <a:ext cx="7975800" cy="1022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schulzj\AppData\Local\Temp\pfr2ghj3.nmz.png"/>
          <p:cNvPicPr/>
          <p:nvPr/>
        </p:nvPicPr>
        <p:blipFill>
          <a:blip r:embed="rId3"/>
          <a:stretch/>
        </p:blipFill>
        <p:spPr>
          <a:xfrm>
            <a:off x="768240" y="4429080"/>
            <a:ext cx="789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036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er order „Truth“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5E61D44-B486-4529-BEA6-13B4A2696F1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C:\Users\schulzj\AppData\Local\Temp\mqysxpii.1jz.png"/>
          <p:cNvPicPr/>
          <p:nvPr/>
        </p:nvPicPr>
        <p:blipFill>
          <a:blip r:embed="rId1"/>
          <a:stretch/>
        </p:blipFill>
        <p:spPr>
          <a:xfrm>
            <a:off x="233280" y="1492200"/>
            <a:ext cx="103078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1D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C59FE14-7D77-4528-8984-DAA82F24B9F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schulzj\AppData\Local\Temp\uhggmbbw.2zx.png"/>
          <p:cNvPicPr/>
          <p:nvPr/>
        </p:nvPicPr>
        <p:blipFill>
          <a:blip r:embed="rId1"/>
          <a:stretch/>
        </p:blipFill>
        <p:spPr>
          <a:xfrm>
            <a:off x="617400" y="5580000"/>
            <a:ext cx="3908520" cy="1065240"/>
          </a:xfrm>
          <a:prstGeom prst="rect">
            <a:avLst/>
          </a:prstGeom>
          <a:ln w="0">
            <a:noFill/>
          </a:ln>
        </p:spPr>
      </p:pic>
      <p:sp>
        <p:nvSpPr>
          <p:cNvPr id="345" name="Pfeil nach rechts 4"/>
          <p:cNvSpPr/>
          <p:nvPr/>
        </p:nvSpPr>
        <p:spPr>
          <a:xfrm>
            <a:off x="4689360" y="5896080"/>
            <a:ext cx="1081080" cy="4334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5"/>
          <p:cNvSpPr/>
          <p:nvPr/>
        </p:nvSpPr>
        <p:spPr>
          <a:xfrm>
            <a:off x="5994360" y="5646600"/>
            <a:ext cx="406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rror correlation length of the model of 55 k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uppieren 2"/>
          <p:cNvGrpSpPr/>
          <p:nvPr/>
        </p:nvGrpSpPr>
        <p:grpSpPr>
          <a:xfrm>
            <a:off x="1662120" y="1789200"/>
            <a:ext cx="5727600" cy="3273480"/>
            <a:chOff x="1662120" y="1789200"/>
            <a:chExt cx="5727600" cy="3273480"/>
          </a:xfrm>
        </p:grpSpPr>
        <p:pic>
          <p:nvPicPr>
            <p:cNvPr id="348" name="Picture 2" descr="C:\Users\schulzj\AppData\Local\Temp\fl2jklbi.2eh.png"/>
            <p:cNvPicPr/>
            <p:nvPr/>
          </p:nvPicPr>
          <p:blipFill>
            <a:blip r:embed="rId2"/>
            <a:srcRect l="0" t="0" r="34056" b="0"/>
            <a:stretch/>
          </p:blipFill>
          <p:spPr>
            <a:xfrm>
              <a:off x="1662120" y="1789200"/>
              <a:ext cx="5400720" cy="305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hteck 1"/>
            <p:cNvSpPr/>
            <p:nvPr/>
          </p:nvSpPr>
          <p:spPr>
            <a:xfrm>
              <a:off x="6813720" y="2903400"/>
              <a:ext cx="5760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9280" y="252000"/>
            <a:ext cx="67676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ECE0093-4F3B-47D6-BFD3-C434EA867DC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feld 4"/>
          <p:cNvSpPr/>
          <p:nvPr/>
        </p:nvSpPr>
        <p:spPr>
          <a:xfrm>
            <a:off x="128520" y="1692360"/>
            <a:ext cx="10471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d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d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S3A altimeter wave height biased hig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situ wave data have smallest stochastic erro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More data needed to make results more robus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1"/>
          <p:cNvSpPr/>
          <p:nvPr/>
        </p:nvSpPr>
        <p:spPr>
          <a:xfrm>
            <a:off x="34920" y="1116000"/>
            <a:ext cx="105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Contribution to error analysis of coastal data se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0F8F3D3-5598-44B6-9438-885C2577977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schulzj\AppData\Local\Temp\worzznc1.r1o.png"/>
          <p:cNvPicPr/>
          <p:nvPr/>
        </p:nvPicPr>
        <p:blipFill>
          <a:blip r:embed="rId1"/>
          <a:stretch/>
        </p:blipFill>
        <p:spPr>
          <a:xfrm>
            <a:off x="1530360" y="1212840"/>
            <a:ext cx="4824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328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-collo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0C206A4-2F1B-4C8B-87A7-5164BFCF1A4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Users\schulzj\AppData\Local\Temp\5rl021mr.nzl.png"/>
          <p:cNvPicPr/>
          <p:nvPr/>
        </p:nvPicPr>
        <p:blipFill>
          <a:blip r:embed="rId1"/>
          <a:stretch/>
        </p:blipFill>
        <p:spPr>
          <a:xfrm>
            <a:off x="522360" y="2197080"/>
            <a:ext cx="9186840" cy="2354400"/>
          </a:xfrm>
          <a:prstGeom prst="rect">
            <a:avLst/>
          </a:prstGeom>
          <a:ln w="0">
            <a:noFill/>
          </a:ln>
        </p:spPr>
      </p:pic>
      <p:cxnSp>
        <p:nvCxnSpPr>
          <p:cNvPr id="360" name="Gerade Verbindung mit Pfeil 4"/>
          <p:cNvCxnSpPr/>
          <p:nvPr/>
        </p:nvCxnSpPr>
        <p:spPr>
          <a:xfrm flipV="1">
            <a:off x="5346360" y="3636720"/>
            <a:ext cx="1080" cy="2154960"/>
          </a:xfrm>
          <a:prstGeom prst="straightConnector1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Textfeld 6"/>
          <p:cNvSpPr/>
          <p:nvPr/>
        </p:nvSpPr>
        <p:spPr>
          <a:xfrm>
            <a:off x="3772080" y="5991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ruth“ t is a vector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ean calibration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E1008C4-A882-4155-A1CC-57B1BBC1819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C:\Users\schulzj\AppData\Local\Temp\exmeefwd.er5.png"/>
          <p:cNvPicPr/>
          <p:nvPr/>
        </p:nvPicPr>
        <p:blipFill>
          <a:blip r:embed="rId1"/>
          <a:stretch/>
        </p:blipFill>
        <p:spPr>
          <a:xfrm>
            <a:off x="450720" y="2268360"/>
            <a:ext cx="6570720" cy="107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schulzj\AppData\Local\Temp\bmb1db2m.mjl.png"/>
          <p:cNvPicPr/>
          <p:nvPr/>
        </p:nvPicPr>
        <p:blipFill>
          <a:blip r:embed="rId2"/>
          <a:stretch/>
        </p:blipFill>
        <p:spPr>
          <a:xfrm>
            <a:off x="720720" y="3637080"/>
            <a:ext cx="64292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liennummernplatzhalter 1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ED92109-8AAD-402B-B76C-BD25FF5F7D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2"/>
          <p:cNvSpPr/>
          <p:nvPr/>
        </p:nvSpPr>
        <p:spPr>
          <a:xfrm>
            <a:off x="615240" y="177840"/>
            <a:ext cx="44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General Problem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3"/>
          <p:cNvSpPr/>
          <p:nvPr/>
        </p:nvSpPr>
        <p:spPr>
          <a:xfrm>
            <a:off x="1073160" y="2774880"/>
            <a:ext cx="3743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x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y   =  t +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"/>
          <p:cNvSpPr/>
          <p:nvPr/>
        </p:nvSpPr>
        <p:spPr>
          <a:xfrm>
            <a:off x="1197360" y="5243400"/>
            <a:ext cx="61747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∇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= &lt;(x-y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 =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&lt;(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de-DE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5"/>
          <p:cNvSpPr/>
          <p:nvPr/>
        </p:nvSpPr>
        <p:spPr>
          <a:xfrm>
            <a:off x="506880" y="1459080"/>
            <a:ext cx="925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Two data sets x,y for the same physical parameter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with „truth“ 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6"/>
          <p:cNvSpPr/>
          <p:nvPr/>
        </p:nvSpPr>
        <p:spPr>
          <a:xfrm>
            <a:off x="486000" y="405936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tatistics on difference (errors uncorrelated)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7"/>
          <p:cNvSpPr/>
          <p:nvPr/>
        </p:nvSpPr>
        <p:spPr>
          <a:xfrm>
            <a:off x="490320" y="6134040"/>
            <a:ext cx="90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It is not possible to estimate the errors for x and y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separately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5A7A3D7-3B34-4844-AA63-BD25EB2CB08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C:\Users\schulzj\AppData\Local\Temp\2pq5ruvj.osz.png"/>
          <p:cNvPicPr/>
          <p:nvPr/>
        </p:nvPicPr>
        <p:blipFill>
          <a:blip r:embed="rId1"/>
          <a:stretch/>
        </p:blipFill>
        <p:spPr>
          <a:xfrm>
            <a:off x="-15840" y="2190600"/>
            <a:ext cx="1072512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691FF75-0488-4A77-9595-168C1A1A874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C:\Users\schulzj\AppData\Local\Temp\j25n1amo.g23.png"/>
          <p:cNvPicPr/>
          <p:nvPr/>
        </p:nvPicPr>
        <p:blipFill>
          <a:blip r:embed="rId1"/>
          <a:stretch/>
        </p:blipFill>
        <p:spPr>
          <a:xfrm>
            <a:off x="339840" y="1393920"/>
            <a:ext cx="9582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A638FAF-D440-4C45-AF5D-7622FCD8497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Users\schulzj\AppData\Local\Temp\qzhyqq3f.ekn.png"/>
          <p:cNvPicPr/>
          <p:nvPr/>
        </p:nvPicPr>
        <p:blipFill>
          <a:blip r:embed="rId1"/>
          <a:stretch/>
        </p:blipFill>
        <p:spPr>
          <a:xfrm>
            <a:off x="1386000" y="1189080"/>
            <a:ext cx="633708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 so far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2D79E7-7CA6-458A-B009-79E4DE08B87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3"/>
          <p:cNvSpPr/>
          <p:nvPr/>
        </p:nvSpPr>
        <p:spPr>
          <a:xfrm>
            <a:off x="942840" y="1565280"/>
            <a:ext cx="583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x =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t +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de-DE" sz="3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6566400" y="216540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ithout calibr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7"/>
          <p:cNvSpPr/>
          <p:nvPr/>
        </p:nvSpPr>
        <p:spPr>
          <a:xfrm>
            <a:off x="600120" y="1324080"/>
            <a:ext cx="9515520" cy="2189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8"/>
          <p:cNvSpPr/>
          <p:nvPr/>
        </p:nvSpPr>
        <p:spPr>
          <a:xfrm>
            <a:off x="94320" y="6805440"/>
            <a:ext cx="98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f: Janssen et al., 2007,  Stoffelen et al., 1998, Caires and Sterl, 2008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9"/>
          <p:cNvSpPr/>
          <p:nvPr/>
        </p:nvSpPr>
        <p:spPr>
          <a:xfrm>
            <a:off x="4479840" y="3267000"/>
            <a:ext cx="60516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b0f0"/>
                </a:solidFill>
                <a:latin typeface="Arial"/>
              </a:rPr>
              <a:t>The „truth“ t is a single number 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"/>
          <p:cNvSpPr/>
          <p:nvPr/>
        </p:nvSpPr>
        <p:spPr>
          <a:xfrm>
            <a:off x="23760" y="5869080"/>
            <a:ext cx="1066968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ta set of collocated x,y,z  =&gt;  estimate error paramet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1"/>
          <p:cNvSpPr/>
          <p:nvPr/>
        </p:nvSpPr>
        <p:spPr>
          <a:xfrm>
            <a:off x="3395520" y="164448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eference Data Se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2"/>
          <p:cNvSpPr/>
          <p:nvPr/>
        </p:nvSpPr>
        <p:spPr>
          <a:xfrm>
            <a:off x="1108080" y="4143240"/>
            <a:ext cx="54421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   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tochas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,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 λ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,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z 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: systematic err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6360" y="32400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EC7F1D-76E7-443E-A8BF-0DD9218B2B1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3"/>
          <p:cNvSpPr/>
          <p:nvPr/>
        </p:nvSpPr>
        <p:spPr>
          <a:xfrm>
            <a:off x="90360" y="2484360"/>
            <a:ext cx="1044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Introduce „truth“  vector 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coastal gradien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Observations never perfectly collocated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Estimate uncertainties of error paramet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Deal with small sample sizes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- Assessment of new system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266760"/>
            <a:ext cx="676764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tension of „truth“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7FD222B-33F7-469D-9112-E59FFEBA088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erader Verbinder 4"/>
          <p:cNvSpPr/>
          <p:nvPr/>
        </p:nvSpPr>
        <p:spPr>
          <a:xfrm>
            <a:off x="738360" y="2548080"/>
            <a:ext cx="2232000" cy="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feld 5"/>
          <p:cNvSpPr/>
          <p:nvPr/>
        </p:nvSpPr>
        <p:spPr>
          <a:xfrm>
            <a:off x="809640" y="1893960"/>
            <a:ext cx="433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6"/>
          <p:cNvSpPr/>
          <p:nvPr/>
        </p:nvSpPr>
        <p:spPr>
          <a:xfrm>
            <a:off x="1314360" y="254808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7"/>
          <p:cNvSpPr/>
          <p:nvPr/>
        </p:nvSpPr>
        <p:spPr>
          <a:xfrm>
            <a:off x="1782360" y="20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Gerade Verbindung mit Pfeil 11"/>
          <p:cNvCxnSpPr/>
          <p:nvPr/>
        </p:nvCxnSpPr>
        <p:spPr>
          <a:xfrm>
            <a:off x="738000" y="3708000"/>
            <a:ext cx="34563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Gerade Verbindung mit Pfeil 13"/>
          <p:cNvCxnSpPr/>
          <p:nvPr/>
        </p:nvCxnSpPr>
        <p:spPr>
          <a:xfrm flipV="1">
            <a:off x="738000" y="1874160"/>
            <a:ext cx="22680" cy="18262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Textfeld 15"/>
          <p:cNvSpPr/>
          <p:nvPr/>
        </p:nvSpPr>
        <p:spPr>
          <a:xfrm>
            <a:off x="3507480" y="3801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16"/>
          <p:cNvSpPr/>
          <p:nvPr/>
        </p:nvSpPr>
        <p:spPr>
          <a:xfrm>
            <a:off x="135720" y="231624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=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r Verbinder 17"/>
          <p:cNvSpPr/>
          <p:nvPr/>
        </p:nvSpPr>
        <p:spPr>
          <a:xfrm>
            <a:off x="6499080" y="5292720"/>
            <a:ext cx="201636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18"/>
          <p:cNvSpPr/>
          <p:nvPr/>
        </p:nvSpPr>
        <p:spPr>
          <a:xfrm>
            <a:off x="6570720" y="4846680"/>
            <a:ext cx="43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19"/>
          <p:cNvSpPr/>
          <p:nvPr/>
        </p:nvSpPr>
        <p:spPr>
          <a:xfrm>
            <a:off x="7075440" y="5500800"/>
            <a:ext cx="43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feld 20"/>
          <p:cNvSpPr/>
          <p:nvPr/>
        </p:nvSpPr>
        <p:spPr>
          <a:xfrm>
            <a:off x="7542720" y="4995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Gerade Verbindung mit Pfeil 21"/>
          <p:cNvCxnSpPr/>
          <p:nvPr/>
        </p:nvCxnSpPr>
        <p:spPr>
          <a:xfrm>
            <a:off x="6499080" y="6660720"/>
            <a:ext cx="345672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Gerade Verbindung mit Pfeil 22"/>
          <p:cNvCxnSpPr/>
          <p:nvPr/>
        </p:nvCxnSpPr>
        <p:spPr>
          <a:xfrm flipV="1">
            <a:off x="6499080" y="482688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Textfeld 23"/>
          <p:cNvSpPr/>
          <p:nvPr/>
        </p:nvSpPr>
        <p:spPr>
          <a:xfrm>
            <a:off x="9272520" y="6754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24"/>
          <p:cNvSpPr/>
          <p:nvPr/>
        </p:nvSpPr>
        <p:spPr>
          <a:xfrm>
            <a:off x="8532000" y="5202360"/>
            <a:ext cx="16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29"/>
          <p:cNvSpPr/>
          <p:nvPr/>
        </p:nvSpPr>
        <p:spPr>
          <a:xfrm>
            <a:off x="379800" y="169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30"/>
          <p:cNvSpPr/>
          <p:nvPr/>
        </p:nvSpPr>
        <p:spPr>
          <a:xfrm>
            <a:off x="4719960" y="14302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+, *, o :  data sourc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feld 1" descr=""/>
          <p:cNvPicPr/>
          <p:nvPr/>
        </p:nvPicPr>
        <p:blipFill>
          <a:blip r:embed="rId1"/>
          <a:stretch/>
        </p:blipFill>
        <p:spPr>
          <a:xfrm>
            <a:off x="8369280" y="4108320"/>
            <a:ext cx="1908360" cy="901800"/>
          </a:xfrm>
          <a:prstGeom prst="rect">
            <a:avLst/>
          </a:prstGeom>
          <a:ln w="0">
            <a:noFill/>
          </a:ln>
        </p:spPr>
      </p:pic>
      <p:sp>
        <p:nvSpPr>
          <p:cNvPr id="269" name="Textfeld 2"/>
          <p:cNvSpPr/>
          <p:nvPr/>
        </p:nvSpPr>
        <p:spPr>
          <a:xfrm>
            <a:off x="236520" y="5522760"/>
            <a:ext cx="49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an be interpreted as Taylor expansion terms of „truth“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hteck 17"/>
          <p:cNvSpPr/>
          <p:nvPr/>
        </p:nvSpPr>
        <p:spPr>
          <a:xfrm>
            <a:off x="5923080" y="2165400"/>
            <a:ext cx="4626000" cy="37940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ossible Configur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A763C52-B23E-422E-937B-B3CA85BECE7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C:\Users\schulzj\AppData\Local\Temp\mryllxht.chm.png"/>
          <p:cNvPicPr/>
          <p:nvPr/>
        </p:nvPicPr>
        <p:blipFill>
          <a:blip r:embed="rId1"/>
          <a:stretch/>
        </p:blipFill>
        <p:spPr>
          <a:xfrm>
            <a:off x="324000" y="2602080"/>
            <a:ext cx="41544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5"/>
          <p:cNvGrpSpPr/>
          <p:nvPr/>
        </p:nvGrpSpPr>
        <p:grpSpPr>
          <a:xfrm>
            <a:off x="139680" y="4314960"/>
            <a:ext cx="5543640" cy="2590560"/>
            <a:chOff x="139680" y="4314960"/>
            <a:chExt cx="5543640" cy="2590560"/>
          </a:xfrm>
        </p:grpSpPr>
        <p:pic>
          <p:nvPicPr>
            <p:cNvPr id="275" name="Picture 2" descr="C:\Users\schulzj\AppData\Local\Temp\3vgq1wse.fzy.png"/>
            <p:cNvPicPr/>
            <p:nvPr/>
          </p:nvPicPr>
          <p:blipFill>
            <a:blip r:embed="rId2"/>
            <a:stretch/>
          </p:blipFill>
          <p:spPr>
            <a:xfrm>
              <a:off x="139680" y="4314960"/>
              <a:ext cx="55436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feld 3"/>
            <p:cNvSpPr/>
            <p:nvPr/>
          </p:nvSpPr>
          <p:spPr>
            <a:xfrm>
              <a:off x="3090960" y="5416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Gerader Verbinder 7"/>
          <p:cNvSpPr/>
          <p:nvPr/>
        </p:nvSpPr>
        <p:spPr>
          <a:xfrm>
            <a:off x="6629400" y="3860640"/>
            <a:ext cx="2016000" cy="668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8"/>
          <p:cNvSpPr/>
          <p:nvPr/>
        </p:nvSpPr>
        <p:spPr>
          <a:xfrm>
            <a:off x="6702480" y="34146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9"/>
          <p:cNvSpPr/>
          <p:nvPr/>
        </p:nvSpPr>
        <p:spPr>
          <a:xfrm>
            <a:off x="7418520" y="4299120"/>
            <a:ext cx="43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feld 10"/>
          <p:cNvSpPr/>
          <p:nvPr/>
        </p:nvSpPr>
        <p:spPr>
          <a:xfrm>
            <a:off x="8367120" y="41022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Gerade Verbindung mit Pfeil 11"/>
          <p:cNvCxnSpPr/>
          <p:nvPr/>
        </p:nvCxnSpPr>
        <p:spPr>
          <a:xfrm>
            <a:off x="6629400" y="5229000"/>
            <a:ext cx="3458160" cy="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Gerade Verbindung mit Pfeil 12"/>
          <p:cNvCxnSpPr/>
          <p:nvPr/>
        </p:nvCxnSpPr>
        <p:spPr>
          <a:xfrm flipV="1">
            <a:off x="6629400" y="3394800"/>
            <a:ext cx="23040" cy="18248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Textfeld 13"/>
          <p:cNvSpPr/>
          <p:nvPr/>
        </p:nvSpPr>
        <p:spPr>
          <a:xfrm>
            <a:off x="9398160" y="5322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pace x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14"/>
          <p:cNvSpPr/>
          <p:nvPr/>
        </p:nvSpPr>
        <p:spPr>
          <a:xfrm>
            <a:off x="8682120" y="3149640"/>
            <a:ext cx="163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y =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+ x t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feld 6"/>
          <p:cNvSpPr/>
          <p:nvPr/>
        </p:nvSpPr>
        <p:spPr>
          <a:xfrm>
            <a:off x="6782400" y="406872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feld 16"/>
          <p:cNvSpPr/>
          <p:nvPr/>
        </p:nvSpPr>
        <p:spPr>
          <a:xfrm>
            <a:off x="7997400" y="3784680"/>
            <a:ext cx="5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15"/>
          <p:cNvSpPr/>
          <p:nvPr/>
        </p:nvSpPr>
        <p:spPr>
          <a:xfrm>
            <a:off x="6235920" y="3308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18"/>
          <p:cNvSpPr/>
          <p:nvPr/>
        </p:nvSpPr>
        <p:spPr>
          <a:xfrm>
            <a:off x="6303240" y="22748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D Cas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feld 1"/>
          <p:cNvSpPr/>
          <p:nvPr/>
        </p:nvSpPr>
        <p:spPr>
          <a:xfrm>
            <a:off x="221040" y="1627200"/>
            <a:ext cx="538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umber of variances and covarianc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e can estimat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22360" y="25200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ror bars for estimated err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FE3A7A-AABE-47C0-9359-96FAFE05C27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514440" y="2197080"/>
            <a:ext cx="475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Estimated covariance matrix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of input data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feld 4"/>
          <p:cNvSpPr/>
          <p:nvPr/>
        </p:nvSpPr>
        <p:spPr>
          <a:xfrm>
            <a:off x="5699160" y="2411280"/>
            <a:ext cx="3803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umber of collocation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feld 5"/>
          <p:cNvSpPr/>
          <p:nvPr/>
        </p:nvSpPr>
        <p:spPr>
          <a:xfrm>
            <a:off x="2682720" y="5221440"/>
            <a:ext cx="5977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tochastic error variances and covarian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ror bars for systematic calibration err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Gerade Verbindung mit Pfeil 7"/>
          <p:cNvCxnSpPr/>
          <p:nvPr/>
        </p:nvCxnSpPr>
        <p:spPr>
          <a:xfrm>
            <a:off x="3904920" y="3150720"/>
            <a:ext cx="1654920" cy="185508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Gerade Verbindung mit Pfeil 8"/>
          <p:cNvCxnSpPr>
            <a:stCxn id="293" idx="2"/>
          </p:cNvCxnSpPr>
          <p:nvPr/>
        </p:nvCxnSpPr>
        <p:spPr>
          <a:xfrm flipH="1">
            <a:off x="5678280" y="2935440"/>
            <a:ext cx="1923120" cy="2070720"/>
          </a:xfrm>
          <a:prstGeom prst="straightConnector1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25640" y="29808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riple Collo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782720A-A44C-4CB8-B4E0-C660B38887F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Grafik 3" descr=""/>
          <p:cNvPicPr/>
          <p:nvPr/>
        </p:nvPicPr>
        <p:blipFill>
          <a:blip r:embed="rId1"/>
          <a:stretch/>
        </p:blipFill>
        <p:spPr>
          <a:xfrm>
            <a:off x="522360" y="1176480"/>
            <a:ext cx="5046480" cy="613224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1"/>
          <p:cNvSpPr/>
          <p:nvPr/>
        </p:nvSpPr>
        <p:spPr>
          <a:xfrm>
            <a:off x="5962680" y="359568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ata Sets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M run with ERA5 meteo forc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NTINEL-3a RDSAR altimeter data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TS buoy data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6031080" y="1638360"/>
            <a:ext cx="42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nalysed Perio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pril 2016 – August 2017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C:\Users\schulzj\AppData\Local\Temp\j25n1amo.g23.png"/>
          <p:cNvPicPr/>
          <p:nvPr/>
        </p:nvPicPr>
        <p:blipFill>
          <a:blip r:embed="rId2"/>
          <a:srcRect l="3464" t="0" r="50646" b="17229"/>
          <a:stretch/>
        </p:blipFill>
        <p:spPr>
          <a:xfrm>
            <a:off x="160200" y="1185840"/>
            <a:ext cx="550872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43080" y="394920"/>
            <a:ext cx="676728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liennummernplatzhalter 2"/>
          <p:cNvSpPr/>
          <p:nvPr/>
        </p:nvSpPr>
        <p:spPr>
          <a:xfrm>
            <a:off x="9523440" y="6918480"/>
            <a:ext cx="7556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10F448-3595-48D7-B53E-D17D8C2E582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C:\Users\schulzj\AppData\Local\Temp\1d2yzcxw.jly.png"/>
          <p:cNvPicPr/>
          <p:nvPr/>
        </p:nvPicPr>
        <p:blipFill>
          <a:blip r:embed="rId1"/>
          <a:stretch/>
        </p:blipFill>
        <p:spPr>
          <a:xfrm>
            <a:off x="0" y="1598760"/>
            <a:ext cx="10531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8:55:07Z</dcterms:created>
  <dc:creator>Dzaak</dc:creator>
  <dc:description>Template: 2010-10-14</dc:description>
  <dc:language>en-US</dc:language>
  <cp:lastModifiedBy>Schulz-Stellenfleth,  Johannes</cp:lastModifiedBy>
  <dcterms:modified xsi:type="dcterms:W3CDTF">2018-11-19T14:24:34Z</dcterms:modified>
  <cp:revision>639</cp:revision>
  <dc:subject/>
  <dc:title>Occasion</dc:title>
</cp:coreProperties>
</file>