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0691813" cy="7559675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2CEF-8AA5-45CE-B354-0F70FBF31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C7CD-B7D8-4F72-AB15-28953FE6D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4F90-D80B-41E4-BAB4-C7FC3E29F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C9F0-0128-4320-9050-F44BC62C0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B936-3C3D-4F39-9D68-84FBACEF0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352A-B0D6-45C0-91FC-795CE687BF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E436F-6BDE-4243-8DAD-59EE4F5FBF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24A7-C36A-4BD3-A404-B8A35F549B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33BF-D74B-4F5D-9D02-C30DC02C6B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5EC3-079C-4944-A204-491DD65B25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F731-E590-45DA-B159-EF103EB471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3923-7F09-4FC2-8F41-4F8D170361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9CFA-EDF3-489D-9EE5-7863FC4D18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2451-6654-4346-AA21-50A59CC15D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AA8D-E841-489B-AC48-1E4DEE6CA6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82BD-0AA7-4D9F-AEB7-3EC410A539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221A-26A5-410D-AF9B-57CE863104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7411-9849-4A77-A2C0-8BA75660DF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66C-3E71-4CF0-A98C-2DA4A639F4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656-A817-416C-B754-0CD78976B6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E2F-4F06-49C7-91E1-4C1F737BE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107B-3572-4997-A20A-832EA45BBF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323-F927-4F65-9864-57D807B1FD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CC6-4218-41D2-B6B7-374CAF0334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4E4-8FB6-4065-B28A-15D8DBB396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E3D-382C-48D7-8B77-D9E4809EEF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F61-62D1-4E31-8BAC-63AF538ECF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42D-29CE-457D-9173-4A61094A85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9B4-CC75-4C0D-B362-48E71EF4BA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707-7B63-4773-80F8-15F176C141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C6E-EA9D-4150-AABB-1D1C149D03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4503C-C087-4667-B624-19F7DA18B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A0D7-C263-4632-94F1-67AD4545D54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D919F-18DA-401B-BF34-BF0604426B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01997-2194-4806-9F43-0750875F331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6C028-750D-4698-96C9-69240AFD08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DCD6B-5651-44ED-BE18-4B15870C785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136A3-ADE7-48A5-9F8D-180DF7CEC0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A73CE-5E18-4B94-899F-1378C8C6BD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093F5-5765-4DD9-B23C-A5EA832A97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D0F19-943A-4C96-A12B-1EFBA05CCBB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D5CC3-D8C8-4B1F-842A-AD3AF98259D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DD577-3624-4C00-8ED9-6A05DA551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8B01-C40B-4446-976C-A566633032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16D73-244C-4613-AD03-ABB7BCB3D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6665-6E53-4AE3-A0AF-DEA873F0D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2F40-7592-4448-94A3-A1A10C7FB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F0A4-BE5E-49D5-A103-5B5CF7425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F6F219E-B2BB-4C0F-9647-EEB155C641D2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450720" y="0"/>
            <a:ext cx="10242720" cy="29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4"/>
          <p:cNvSpPr/>
          <p:nvPr/>
        </p:nvSpPr>
        <p:spPr>
          <a:xfrm flipH="1">
            <a:off x="378000" y="774720"/>
            <a:ext cx="1031544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595440" y="720720"/>
            <a:ext cx="3958920" cy="10800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-1440" y="-14400"/>
            <a:ext cx="10693080" cy="6300720"/>
            <a:chOff x="-1440" y="-14400"/>
            <a:chExt cx="10693080" cy="6300720"/>
          </a:xfrm>
        </p:grpSpPr>
        <p:pic>
          <p:nvPicPr>
            <p:cNvPr id="48" name="Picture 17" descr=""/>
            <p:cNvPicPr/>
            <p:nvPr/>
          </p:nvPicPr>
          <p:blipFill>
            <a:blip r:embed="rId2"/>
            <a:stretch/>
          </p:blipFill>
          <p:spPr>
            <a:xfrm>
              <a:off x="-1440" y="2900160"/>
              <a:ext cx="10693080" cy="338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Object 18"/>
            <p:cNvGraphicFramePr/>
            <p:nvPr/>
          </p:nvGraphicFramePr>
          <p:xfrm>
            <a:off x="-1440" y="-14400"/>
            <a:ext cx="450360" cy="63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440" y="-14400"/>
                      <a:ext cx="450360" cy="63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" name="Picture 11" descr="HZG_RGB_72dpi_mitZusatz in E_80mm"/>
          <p:cNvPicPr/>
          <p:nvPr/>
        </p:nvPicPr>
        <p:blipFill>
          <a:blip r:embed="rId5"/>
          <a:stretch/>
        </p:blipFill>
        <p:spPr>
          <a:xfrm>
            <a:off x="7866000" y="6627960"/>
            <a:ext cx="237672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9"/>
          <p:cNvSpPr/>
          <p:nvPr/>
        </p:nvSpPr>
        <p:spPr>
          <a:xfrm>
            <a:off x="7178760" y="729936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EASELESS Meeting Kopenhagen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F239C4C-AC2E-43FD-BC46-31B53D12B161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9"/>
          <p:cNvSpPr/>
          <p:nvPr/>
        </p:nvSpPr>
        <p:spPr>
          <a:xfrm>
            <a:off x="7151760" y="728820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3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3D9A436-C349-4509-B9DE-40B699091A0B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8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9"/>
          <p:cNvSpPr/>
          <p:nvPr/>
        </p:nvSpPr>
        <p:spPr>
          <a:xfrm>
            <a:off x="7970040" y="72738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4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EC538AA-6AED-4C49-B5B9-7250C6F8EDDF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ASELESS Special 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90BB565-C6D9-4A54-BD26-146A83B0374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schulzj\AppData\Local\Temp\bhezvcoy.ugh.png"/>
          <p:cNvPicPr/>
          <p:nvPr/>
        </p:nvPicPr>
        <p:blipFill>
          <a:blip r:embed="rId1"/>
          <a:srcRect l="0" t="0" r="5183" b="0"/>
          <a:stretch/>
        </p:blipFill>
        <p:spPr>
          <a:xfrm>
            <a:off x="17640" y="1589040"/>
            <a:ext cx="10513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564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ystematic err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2D46E16-695F-4585-B931-22DC81E05C0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schulzj\AppData\Local\Temp\qupuetyy.0q1.png"/>
          <p:cNvPicPr/>
          <p:nvPr/>
        </p:nvPicPr>
        <p:blipFill>
          <a:blip r:embed="rId1"/>
          <a:stretch/>
        </p:blipFill>
        <p:spPr>
          <a:xfrm>
            <a:off x="90360" y="1193760"/>
            <a:ext cx="9068040" cy="611496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1"/>
          <p:cNvSpPr/>
          <p:nvPr/>
        </p:nvSpPr>
        <p:spPr>
          <a:xfrm>
            <a:off x="9158400" y="24843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5"/>
          <p:cNvSpPr/>
          <p:nvPr/>
        </p:nvSpPr>
        <p:spPr>
          <a:xfrm>
            <a:off x="9158400" y="529272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2"/>
          <p:cNvSpPr/>
          <p:nvPr/>
        </p:nvSpPr>
        <p:spPr>
          <a:xfrm>
            <a:off x="4989600" y="349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7"/>
          <p:cNvSpPr/>
          <p:nvPr/>
        </p:nvSpPr>
        <p:spPr>
          <a:xfrm>
            <a:off x="4989600" y="6486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feld 3"/>
          <p:cNvSpPr/>
          <p:nvPr/>
        </p:nvSpPr>
        <p:spPr>
          <a:xfrm>
            <a:off x="1886040" y="6518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feld 9"/>
          <p:cNvSpPr/>
          <p:nvPr/>
        </p:nvSpPr>
        <p:spPr>
          <a:xfrm>
            <a:off x="1821960" y="3492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0"/>
          <p:cNvSpPr/>
          <p:nvPr/>
        </p:nvSpPr>
        <p:spPr>
          <a:xfrm>
            <a:off x="7583400" y="3564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1"/>
          <p:cNvSpPr/>
          <p:nvPr/>
        </p:nvSpPr>
        <p:spPr>
          <a:xfrm>
            <a:off x="7583400" y="65595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systema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AF96068-FACE-4051-B4A2-D26CE1F82BF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schulzj\AppData\Local\Temp\32eyj5kf.blh.png"/>
          <p:cNvPicPr/>
          <p:nvPr/>
        </p:nvPicPr>
        <p:blipFill>
          <a:blip r:embed="rId1"/>
          <a:stretch/>
        </p:blipFill>
        <p:spPr>
          <a:xfrm>
            <a:off x="816120" y="1847880"/>
            <a:ext cx="6360840" cy="1111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C:\Users\schulzj\AppData\Local\Temp\lqjrzqbf.rmo.png"/>
          <p:cNvPicPr/>
          <p:nvPr/>
        </p:nvPicPr>
        <p:blipFill>
          <a:blip r:embed="rId2"/>
          <a:stretch/>
        </p:blipFill>
        <p:spPr>
          <a:xfrm>
            <a:off x="566640" y="2806560"/>
            <a:ext cx="6440760" cy="9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Users\schulzj\AppData\Local\Temp\exmeefwd.er5.png"/>
          <p:cNvPicPr/>
          <p:nvPr/>
        </p:nvPicPr>
        <p:blipFill>
          <a:blip r:embed="rId3"/>
          <a:stretch/>
        </p:blipFill>
        <p:spPr>
          <a:xfrm>
            <a:off x="927000" y="3708360"/>
            <a:ext cx="5499360" cy="90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schulzj\AppData\Local\Temp\bmb1db2m.mjl.png"/>
          <p:cNvPicPr/>
          <p:nvPr/>
        </p:nvPicPr>
        <p:blipFill>
          <a:blip r:embed="rId4"/>
          <a:stretch/>
        </p:blipFill>
        <p:spPr>
          <a:xfrm>
            <a:off x="566640" y="4560840"/>
            <a:ext cx="5346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ochas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6941B03-5DBB-4E7F-8D5D-646CA51175F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schulzj\AppData\Local\Temp\4bi1vhne.ujz.png"/>
          <p:cNvPicPr/>
          <p:nvPr/>
        </p:nvPicPr>
        <p:blipFill>
          <a:blip r:embed="rId1"/>
          <a:srcRect l="0" t="-360" r="0" b="1533"/>
          <a:stretch/>
        </p:blipFill>
        <p:spPr>
          <a:xfrm>
            <a:off x="306360" y="1209600"/>
            <a:ext cx="9001080" cy="608328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2"/>
          <p:cNvSpPr/>
          <p:nvPr/>
        </p:nvSpPr>
        <p:spPr>
          <a:xfrm>
            <a:off x="4897440" y="35640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feld 6"/>
          <p:cNvSpPr/>
          <p:nvPr/>
        </p:nvSpPr>
        <p:spPr>
          <a:xfrm>
            <a:off x="486720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feld 7"/>
          <p:cNvSpPr/>
          <p:nvPr/>
        </p:nvSpPr>
        <p:spPr>
          <a:xfrm>
            <a:off x="7794720" y="35971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8"/>
          <p:cNvSpPr/>
          <p:nvPr/>
        </p:nvSpPr>
        <p:spPr>
          <a:xfrm>
            <a:off x="7794720" y="65232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9"/>
          <p:cNvSpPr/>
          <p:nvPr/>
        </p:nvSpPr>
        <p:spPr>
          <a:xfrm>
            <a:off x="1890720" y="36306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feld 10"/>
          <p:cNvSpPr/>
          <p:nvPr/>
        </p:nvSpPr>
        <p:spPr>
          <a:xfrm>
            <a:off x="195408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feld 3"/>
          <p:cNvSpPr/>
          <p:nvPr/>
        </p:nvSpPr>
        <p:spPr>
          <a:xfrm>
            <a:off x="9331560" y="255600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feld 12"/>
          <p:cNvSpPr/>
          <p:nvPr/>
        </p:nvSpPr>
        <p:spPr>
          <a:xfrm>
            <a:off x="9171360" y="5076720"/>
            <a:ext cx="15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el. estimati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 for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an stochas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E4DA57B-2369-49D6-88E6-7FF441431F8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schulzj\AppData\Local\Temp\ri2ittjg.1kb.png"/>
          <p:cNvPicPr/>
          <p:nvPr/>
        </p:nvPicPr>
        <p:blipFill>
          <a:blip r:embed="rId1"/>
          <a:stretch/>
        </p:blipFill>
        <p:spPr>
          <a:xfrm>
            <a:off x="682560" y="1836720"/>
            <a:ext cx="7543800" cy="98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schulzj\AppData\Local\Temp\22pic020.3lq.png"/>
          <p:cNvPicPr/>
          <p:nvPr/>
        </p:nvPicPr>
        <p:blipFill>
          <a:blip r:embed="rId2"/>
          <a:stretch/>
        </p:blipFill>
        <p:spPr>
          <a:xfrm>
            <a:off x="306360" y="3189240"/>
            <a:ext cx="7975800" cy="1022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schulzj\AppData\Local\Temp\pfr2ghj3.nmz.png"/>
          <p:cNvPicPr/>
          <p:nvPr/>
        </p:nvPicPr>
        <p:blipFill>
          <a:blip r:embed="rId3"/>
          <a:stretch/>
        </p:blipFill>
        <p:spPr>
          <a:xfrm>
            <a:off x="768240" y="4429080"/>
            <a:ext cx="789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036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er order „Truth“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7970A70-6313-44AF-8470-2CD1AFBFACC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C:\Users\schulzj\AppData\Local\Temp\mqysxpii.1jz.png"/>
          <p:cNvPicPr/>
          <p:nvPr/>
        </p:nvPicPr>
        <p:blipFill>
          <a:blip r:embed="rId1"/>
          <a:stretch/>
        </p:blipFill>
        <p:spPr>
          <a:xfrm>
            <a:off x="233280" y="1492200"/>
            <a:ext cx="10307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ults for 1D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034B449-B076-43B0-B80B-C1496EAF3EA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schulzj\AppData\Local\Temp\uhggmbbw.2zx.png"/>
          <p:cNvPicPr/>
          <p:nvPr/>
        </p:nvPicPr>
        <p:blipFill>
          <a:blip r:embed="rId1"/>
          <a:stretch/>
        </p:blipFill>
        <p:spPr>
          <a:xfrm>
            <a:off x="617400" y="5580000"/>
            <a:ext cx="3908520" cy="1065240"/>
          </a:xfrm>
          <a:prstGeom prst="rect">
            <a:avLst/>
          </a:prstGeom>
          <a:ln w="0">
            <a:noFill/>
          </a:ln>
        </p:spPr>
      </p:pic>
      <p:sp>
        <p:nvSpPr>
          <p:cNvPr id="345" name="Pfeil nach rechts 4"/>
          <p:cNvSpPr/>
          <p:nvPr/>
        </p:nvSpPr>
        <p:spPr>
          <a:xfrm>
            <a:off x="4689360" y="5896080"/>
            <a:ext cx="1081080" cy="4334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5"/>
          <p:cNvSpPr/>
          <p:nvPr/>
        </p:nvSpPr>
        <p:spPr>
          <a:xfrm>
            <a:off x="5994360" y="5646600"/>
            <a:ext cx="406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ror correlation length of the model of 55 k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pieren 2"/>
          <p:cNvGrpSpPr/>
          <p:nvPr/>
        </p:nvGrpSpPr>
        <p:grpSpPr>
          <a:xfrm>
            <a:off x="1662120" y="1789200"/>
            <a:ext cx="5727600" cy="3273480"/>
            <a:chOff x="1662120" y="1789200"/>
            <a:chExt cx="5727600" cy="3273480"/>
          </a:xfrm>
        </p:grpSpPr>
        <p:pic>
          <p:nvPicPr>
            <p:cNvPr id="348" name="Picture 2" descr="C:\Users\schulzj\AppData\Local\Temp\fl2jklbi.2eh.png"/>
            <p:cNvPicPr/>
            <p:nvPr/>
          </p:nvPicPr>
          <p:blipFill>
            <a:blip r:embed="rId2"/>
            <a:srcRect l="0" t="0" r="34056" b="0"/>
            <a:stretch/>
          </p:blipFill>
          <p:spPr>
            <a:xfrm>
              <a:off x="1662120" y="1789200"/>
              <a:ext cx="5400720" cy="30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hteck 1"/>
            <p:cNvSpPr/>
            <p:nvPr/>
          </p:nvSpPr>
          <p:spPr>
            <a:xfrm>
              <a:off x="6813720" y="2903400"/>
              <a:ext cx="5760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928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95263A8-2B0F-4BE8-AA42-6C6963A8C4E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feld 4"/>
          <p:cNvSpPr/>
          <p:nvPr/>
        </p:nvSpPr>
        <p:spPr>
          <a:xfrm>
            <a:off x="128520" y="1692360"/>
            <a:ext cx="10471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d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d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S3A altimeter wave height biased hig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situ wave data have smallest stochastic erro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ore data needed to make results more robus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feld 1"/>
          <p:cNvSpPr/>
          <p:nvPr/>
        </p:nvSpPr>
        <p:spPr>
          <a:xfrm>
            <a:off x="34920" y="1116000"/>
            <a:ext cx="105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Contribution to error analysis of coastal data se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7CE9473-EB96-4778-8118-F552ADE6FF9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Users\schulzj\AppData\Local\Temp\worzznc1.r1o.png"/>
          <p:cNvPicPr/>
          <p:nvPr/>
        </p:nvPicPr>
        <p:blipFill>
          <a:blip r:embed="rId1"/>
          <a:stretch/>
        </p:blipFill>
        <p:spPr>
          <a:xfrm>
            <a:off x="1530360" y="1212840"/>
            <a:ext cx="4824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-collo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695339F-D275-44AF-98A2-2DDD3009CB3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Users\schulzj\AppData\Local\Temp\5rl021mr.nzl.png"/>
          <p:cNvPicPr/>
          <p:nvPr/>
        </p:nvPicPr>
        <p:blipFill>
          <a:blip r:embed="rId1"/>
          <a:stretch/>
        </p:blipFill>
        <p:spPr>
          <a:xfrm>
            <a:off x="522360" y="2197080"/>
            <a:ext cx="9186840" cy="2354400"/>
          </a:xfrm>
          <a:prstGeom prst="rect">
            <a:avLst/>
          </a:prstGeom>
          <a:ln w="0">
            <a:noFill/>
          </a:ln>
        </p:spPr>
      </p:pic>
      <p:cxnSp>
        <p:nvCxnSpPr>
          <p:cNvPr id="360" name="Gerade Verbindung mit Pfeil 4"/>
          <p:cNvCxnSpPr/>
          <p:nvPr/>
        </p:nvCxnSpPr>
        <p:spPr>
          <a:xfrm flipV="1">
            <a:off x="5346360" y="3636720"/>
            <a:ext cx="1080" cy="2154960"/>
          </a:xfrm>
          <a:prstGeom prst="straightConnector1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feld 6"/>
          <p:cNvSpPr/>
          <p:nvPr/>
        </p:nvSpPr>
        <p:spPr>
          <a:xfrm>
            <a:off x="3772080" y="5991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uth“ t is a vector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calibration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AC107AC-E842-4C38-9B59-84C9EF2970F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C:\Users\schulzj\AppData\Local\Temp\exmeefwd.er5.png"/>
          <p:cNvPicPr/>
          <p:nvPr/>
        </p:nvPicPr>
        <p:blipFill>
          <a:blip r:embed="rId1"/>
          <a:stretch/>
        </p:blipFill>
        <p:spPr>
          <a:xfrm>
            <a:off x="450720" y="2268360"/>
            <a:ext cx="6570720" cy="107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schulzj\AppData\Local\Temp\bmb1db2m.mjl.png"/>
          <p:cNvPicPr/>
          <p:nvPr/>
        </p:nvPicPr>
        <p:blipFill>
          <a:blip r:embed="rId2"/>
          <a:stretch/>
        </p:blipFill>
        <p:spPr>
          <a:xfrm>
            <a:off x="720720" y="3637080"/>
            <a:ext cx="6429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liennummernplatzhalter 1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6586EB9-2E89-452F-90E7-9E56A06E8B2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2"/>
          <p:cNvSpPr/>
          <p:nvPr/>
        </p:nvSpPr>
        <p:spPr>
          <a:xfrm>
            <a:off x="615240" y="17784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General Problem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3"/>
          <p:cNvSpPr/>
          <p:nvPr/>
        </p:nvSpPr>
        <p:spPr>
          <a:xfrm>
            <a:off x="1073160" y="2774880"/>
            <a:ext cx="3743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x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y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4"/>
          <p:cNvSpPr/>
          <p:nvPr/>
        </p:nvSpPr>
        <p:spPr>
          <a:xfrm>
            <a:off x="1197360" y="5243400"/>
            <a:ext cx="6174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∇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= &lt;(x-y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 =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5"/>
          <p:cNvSpPr/>
          <p:nvPr/>
        </p:nvSpPr>
        <p:spPr>
          <a:xfrm>
            <a:off x="506880" y="1459080"/>
            <a:ext cx="92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wo data sets x,y for the same physical parameter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ith „truth“ 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6"/>
          <p:cNvSpPr/>
          <p:nvPr/>
        </p:nvSpPr>
        <p:spPr>
          <a:xfrm>
            <a:off x="486000" y="4059360"/>
            <a:ext cx="81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tatistics on difference (errors uncorrelated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7"/>
          <p:cNvSpPr/>
          <p:nvPr/>
        </p:nvSpPr>
        <p:spPr>
          <a:xfrm>
            <a:off x="490320" y="6134040"/>
            <a:ext cx="90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t is not possible to estimate the errors for x and y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eparatel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B8C386F-5AAC-4FED-869C-2022A3C3A76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C:\Users\schulzj\AppData\Local\Temp\2pq5ruvj.osz.png"/>
          <p:cNvPicPr/>
          <p:nvPr/>
        </p:nvPicPr>
        <p:blipFill>
          <a:blip r:embed="rId1"/>
          <a:stretch/>
        </p:blipFill>
        <p:spPr>
          <a:xfrm>
            <a:off x="-15840" y="2190600"/>
            <a:ext cx="1072512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762F26C-93CC-48EC-82F1-0161E2B96B4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:\Users\schulzj\AppData\Local\Temp\j25n1amo.g23.png"/>
          <p:cNvPicPr/>
          <p:nvPr/>
        </p:nvPicPr>
        <p:blipFill>
          <a:blip r:embed="rId1"/>
          <a:stretch/>
        </p:blipFill>
        <p:spPr>
          <a:xfrm>
            <a:off x="339840" y="1393920"/>
            <a:ext cx="9582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42AC78A-7AF2-4D1C-8BB9-D7134EFE4C9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Users\schulzj\AppData\Local\Temp\qzhyqq3f.ekn.png"/>
          <p:cNvPicPr/>
          <p:nvPr/>
        </p:nvPicPr>
        <p:blipFill>
          <a:blip r:embed="rId1"/>
          <a:stretch/>
        </p:blipFill>
        <p:spPr>
          <a:xfrm>
            <a:off x="1386000" y="1189080"/>
            <a:ext cx="63370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 so far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C9A5B77-D59A-4FE0-8A9E-91B5F7726DF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3"/>
          <p:cNvSpPr/>
          <p:nvPr/>
        </p:nvSpPr>
        <p:spPr>
          <a:xfrm>
            <a:off x="942840" y="1565280"/>
            <a:ext cx="5832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x =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5"/>
          <p:cNvSpPr/>
          <p:nvPr/>
        </p:nvSpPr>
        <p:spPr>
          <a:xfrm>
            <a:off x="6566400" y="21654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7"/>
          <p:cNvSpPr/>
          <p:nvPr/>
        </p:nvSpPr>
        <p:spPr>
          <a:xfrm>
            <a:off x="600120" y="1324080"/>
            <a:ext cx="9515520" cy="2189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8"/>
          <p:cNvSpPr/>
          <p:nvPr/>
        </p:nvSpPr>
        <p:spPr>
          <a:xfrm>
            <a:off x="94320" y="6805440"/>
            <a:ext cx="98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f: Janssen et al., 2007,  Stoffelen et al., 1998, Caires and Sterl, 2008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9"/>
          <p:cNvSpPr/>
          <p:nvPr/>
        </p:nvSpPr>
        <p:spPr>
          <a:xfrm>
            <a:off x="4479840" y="3267000"/>
            <a:ext cx="605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b0f0"/>
                </a:solidFill>
                <a:latin typeface="Arial"/>
              </a:rPr>
              <a:t>The „truth“ t is a single number 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"/>
          <p:cNvSpPr/>
          <p:nvPr/>
        </p:nvSpPr>
        <p:spPr>
          <a:xfrm>
            <a:off x="23760" y="5869080"/>
            <a:ext cx="106696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ata set of collocated x,y,z  =&gt;  estimate error paramet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"/>
          <p:cNvSpPr/>
          <p:nvPr/>
        </p:nvSpPr>
        <p:spPr>
          <a:xfrm>
            <a:off x="3395520" y="1644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ference Data S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2"/>
          <p:cNvSpPr/>
          <p:nvPr/>
        </p:nvSpPr>
        <p:spPr>
          <a:xfrm>
            <a:off x="1108080" y="4143240"/>
            <a:ext cx="54421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   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tochas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,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ystema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636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5072FF9-9480-421E-83C2-7D174BB4D61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3"/>
          <p:cNvSpPr/>
          <p:nvPr/>
        </p:nvSpPr>
        <p:spPr>
          <a:xfrm>
            <a:off x="90360" y="2484360"/>
            <a:ext cx="1044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Observations never perfectly collocate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Assessment of new system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26676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tension of „truth“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B6F16DF-6251-41FB-A9BD-5E98637DF54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r Verbinder 4"/>
          <p:cNvSpPr/>
          <p:nvPr/>
        </p:nvSpPr>
        <p:spPr>
          <a:xfrm>
            <a:off x="738360" y="2548080"/>
            <a:ext cx="223200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feld 5"/>
          <p:cNvSpPr/>
          <p:nvPr/>
        </p:nvSpPr>
        <p:spPr>
          <a:xfrm>
            <a:off x="809640" y="1893960"/>
            <a:ext cx="43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6"/>
          <p:cNvSpPr/>
          <p:nvPr/>
        </p:nvSpPr>
        <p:spPr>
          <a:xfrm>
            <a:off x="1314360" y="254808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7"/>
          <p:cNvSpPr/>
          <p:nvPr/>
        </p:nvSpPr>
        <p:spPr>
          <a:xfrm>
            <a:off x="1782360" y="204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Gerade Verbindung mit Pfeil 11"/>
          <p:cNvCxnSpPr/>
          <p:nvPr/>
        </p:nvCxnSpPr>
        <p:spPr>
          <a:xfrm>
            <a:off x="738000" y="3708000"/>
            <a:ext cx="34563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Gerade Verbindung mit Pfeil 13"/>
          <p:cNvCxnSpPr/>
          <p:nvPr/>
        </p:nvCxnSpPr>
        <p:spPr>
          <a:xfrm flipV="1">
            <a:off x="738000" y="1874160"/>
            <a:ext cx="22680" cy="18262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Textfeld 15"/>
          <p:cNvSpPr/>
          <p:nvPr/>
        </p:nvSpPr>
        <p:spPr>
          <a:xfrm>
            <a:off x="3507480" y="3801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16"/>
          <p:cNvSpPr/>
          <p:nvPr/>
        </p:nvSpPr>
        <p:spPr>
          <a:xfrm>
            <a:off x="135720" y="23162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=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r Verbinder 17"/>
          <p:cNvSpPr/>
          <p:nvPr/>
        </p:nvSpPr>
        <p:spPr>
          <a:xfrm>
            <a:off x="6499080" y="5292720"/>
            <a:ext cx="201636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18"/>
          <p:cNvSpPr/>
          <p:nvPr/>
        </p:nvSpPr>
        <p:spPr>
          <a:xfrm>
            <a:off x="6570720" y="4846680"/>
            <a:ext cx="43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feld 19"/>
          <p:cNvSpPr/>
          <p:nvPr/>
        </p:nvSpPr>
        <p:spPr>
          <a:xfrm>
            <a:off x="7075440" y="550080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feld 20"/>
          <p:cNvSpPr/>
          <p:nvPr/>
        </p:nvSpPr>
        <p:spPr>
          <a:xfrm>
            <a:off x="7542720" y="499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Gerade Verbindung mit Pfeil 21"/>
          <p:cNvCxnSpPr/>
          <p:nvPr/>
        </p:nvCxnSpPr>
        <p:spPr>
          <a:xfrm>
            <a:off x="6499080" y="6660720"/>
            <a:ext cx="345672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Gerade Verbindung mit Pfeil 22"/>
          <p:cNvCxnSpPr/>
          <p:nvPr/>
        </p:nvCxnSpPr>
        <p:spPr>
          <a:xfrm flipV="1">
            <a:off x="6499080" y="482688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Textfeld 23"/>
          <p:cNvSpPr/>
          <p:nvPr/>
        </p:nvSpPr>
        <p:spPr>
          <a:xfrm>
            <a:off x="9272520" y="6754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feld 24"/>
          <p:cNvSpPr/>
          <p:nvPr/>
        </p:nvSpPr>
        <p:spPr>
          <a:xfrm>
            <a:off x="8532000" y="5202360"/>
            <a:ext cx="16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29"/>
          <p:cNvSpPr/>
          <p:nvPr/>
        </p:nvSpPr>
        <p:spPr>
          <a:xfrm>
            <a:off x="379800" y="169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30"/>
          <p:cNvSpPr/>
          <p:nvPr/>
        </p:nvSpPr>
        <p:spPr>
          <a:xfrm>
            <a:off x="4719960" y="143028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+, *, o :  data sourc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feld 1" descr=""/>
          <p:cNvPicPr/>
          <p:nvPr/>
        </p:nvPicPr>
        <p:blipFill>
          <a:blip r:embed="rId1"/>
          <a:stretch/>
        </p:blipFill>
        <p:spPr>
          <a:xfrm>
            <a:off x="8369280" y="4108320"/>
            <a:ext cx="1908360" cy="901800"/>
          </a:xfrm>
          <a:prstGeom prst="rect">
            <a:avLst/>
          </a:prstGeom>
          <a:ln w="0">
            <a:noFill/>
          </a:ln>
        </p:spPr>
      </p:pic>
      <p:sp>
        <p:nvSpPr>
          <p:cNvPr id="269" name="Textfeld 2"/>
          <p:cNvSpPr/>
          <p:nvPr/>
        </p:nvSpPr>
        <p:spPr>
          <a:xfrm>
            <a:off x="236520" y="5522760"/>
            <a:ext cx="49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an be interpreted as Taylor expansion terms of „truth“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hteck 17"/>
          <p:cNvSpPr/>
          <p:nvPr/>
        </p:nvSpPr>
        <p:spPr>
          <a:xfrm>
            <a:off x="5923080" y="2165400"/>
            <a:ext cx="4626000" cy="379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ossible Configur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4431782-7051-42EE-A1C3-91D4011B24D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Users\schulzj\AppData\Local\Temp\mryllxht.chm.png"/>
          <p:cNvPicPr/>
          <p:nvPr/>
        </p:nvPicPr>
        <p:blipFill>
          <a:blip r:embed="rId1"/>
          <a:stretch/>
        </p:blipFill>
        <p:spPr>
          <a:xfrm>
            <a:off x="324000" y="2602080"/>
            <a:ext cx="41544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uppieren 5"/>
          <p:cNvGrpSpPr/>
          <p:nvPr/>
        </p:nvGrpSpPr>
        <p:grpSpPr>
          <a:xfrm>
            <a:off x="139680" y="4314960"/>
            <a:ext cx="5543640" cy="2590560"/>
            <a:chOff x="139680" y="4314960"/>
            <a:chExt cx="5543640" cy="2590560"/>
          </a:xfrm>
        </p:grpSpPr>
        <p:pic>
          <p:nvPicPr>
            <p:cNvPr id="275" name="Picture 2" descr="C:\Users\schulzj\AppData\Local\Temp\3vgq1wse.fzy.png"/>
            <p:cNvPicPr/>
            <p:nvPr/>
          </p:nvPicPr>
          <p:blipFill>
            <a:blip r:embed="rId2"/>
            <a:stretch/>
          </p:blipFill>
          <p:spPr>
            <a:xfrm>
              <a:off x="139680" y="4314960"/>
              <a:ext cx="55436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feld 3"/>
            <p:cNvSpPr/>
            <p:nvPr/>
          </p:nvSpPr>
          <p:spPr>
            <a:xfrm>
              <a:off x="3090960" y="5416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Gerader Verbinder 7"/>
          <p:cNvSpPr/>
          <p:nvPr/>
        </p:nvSpPr>
        <p:spPr>
          <a:xfrm>
            <a:off x="6629400" y="3860640"/>
            <a:ext cx="201600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8"/>
          <p:cNvSpPr/>
          <p:nvPr/>
        </p:nvSpPr>
        <p:spPr>
          <a:xfrm>
            <a:off x="6702480" y="34146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9"/>
          <p:cNvSpPr/>
          <p:nvPr/>
        </p:nvSpPr>
        <p:spPr>
          <a:xfrm>
            <a:off x="7418520" y="4299120"/>
            <a:ext cx="43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feld 10"/>
          <p:cNvSpPr/>
          <p:nvPr/>
        </p:nvSpPr>
        <p:spPr>
          <a:xfrm>
            <a:off x="8367120" y="4102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Gerade Verbindung mit Pfeil 11"/>
          <p:cNvCxnSpPr/>
          <p:nvPr/>
        </p:nvCxnSpPr>
        <p:spPr>
          <a:xfrm>
            <a:off x="6629400" y="5229000"/>
            <a:ext cx="34581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Gerade Verbindung mit Pfeil 12"/>
          <p:cNvCxnSpPr/>
          <p:nvPr/>
        </p:nvCxnSpPr>
        <p:spPr>
          <a:xfrm flipV="1">
            <a:off x="6629400" y="339480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feld 13"/>
          <p:cNvSpPr/>
          <p:nvPr/>
        </p:nvSpPr>
        <p:spPr>
          <a:xfrm>
            <a:off x="9398160" y="53229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x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14"/>
          <p:cNvSpPr/>
          <p:nvPr/>
        </p:nvSpPr>
        <p:spPr>
          <a:xfrm>
            <a:off x="8682120" y="3149640"/>
            <a:ext cx="163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x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feld 6"/>
          <p:cNvSpPr/>
          <p:nvPr/>
        </p:nvSpPr>
        <p:spPr>
          <a:xfrm>
            <a:off x="6782400" y="406872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feld 16"/>
          <p:cNvSpPr/>
          <p:nvPr/>
        </p:nvSpPr>
        <p:spPr>
          <a:xfrm>
            <a:off x="7997400" y="378468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15"/>
          <p:cNvSpPr/>
          <p:nvPr/>
        </p:nvSpPr>
        <p:spPr>
          <a:xfrm>
            <a:off x="6235920" y="330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18"/>
          <p:cNvSpPr/>
          <p:nvPr/>
        </p:nvSpPr>
        <p:spPr>
          <a:xfrm>
            <a:off x="6303240" y="2274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D Ca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feld 1"/>
          <p:cNvSpPr/>
          <p:nvPr/>
        </p:nvSpPr>
        <p:spPr>
          <a:xfrm>
            <a:off x="221040" y="1627200"/>
            <a:ext cx="53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mber of variances and covarianc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e can estimat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ror bars for estimated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C9CA9F9-7E85-4368-98C1-E711881B0BD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3"/>
          <p:cNvSpPr/>
          <p:nvPr/>
        </p:nvSpPr>
        <p:spPr>
          <a:xfrm>
            <a:off x="514440" y="2197080"/>
            <a:ext cx="4752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stimated covariance matrix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of input dat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feld 4"/>
          <p:cNvSpPr/>
          <p:nvPr/>
        </p:nvSpPr>
        <p:spPr>
          <a:xfrm>
            <a:off x="5699160" y="2411280"/>
            <a:ext cx="3803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mber of collo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2682720" y="5221440"/>
            <a:ext cx="5977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tochastic error variances and covarian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ystematic calibration err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Gerade Verbindung mit Pfeil 7"/>
          <p:cNvCxnSpPr/>
          <p:nvPr/>
        </p:nvCxnSpPr>
        <p:spPr>
          <a:xfrm>
            <a:off x="3904920" y="3150720"/>
            <a:ext cx="1654920" cy="185508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Gerade Verbindung mit Pfeil 8"/>
          <p:cNvCxnSpPr>
            <a:stCxn id="293" idx="2"/>
          </p:cNvCxnSpPr>
          <p:nvPr/>
        </p:nvCxnSpPr>
        <p:spPr>
          <a:xfrm flipH="1">
            <a:off x="5678280" y="2935440"/>
            <a:ext cx="1923120" cy="207072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25640" y="29808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10DBA03-7E9D-446B-9AA4-AC1B2559FD1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Grafik 3" descr=""/>
          <p:cNvPicPr/>
          <p:nvPr/>
        </p:nvPicPr>
        <p:blipFill>
          <a:blip r:embed="rId1"/>
          <a:stretch/>
        </p:blipFill>
        <p:spPr>
          <a:xfrm>
            <a:off x="522360" y="1176480"/>
            <a:ext cx="5046480" cy="613224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1"/>
          <p:cNvSpPr/>
          <p:nvPr/>
        </p:nvSpPr>
        <p:spPr>
          <a:xfrm>
            <a:off x="5962680" y="359568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M run with ERA5 meteo forc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NTINEL-3a RDSAR altimeter dat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TS buoy dat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6031080" y="1638360"/>
            <a:ext cx="42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nalysed Perio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pril 2016 – August 2017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Users\schulzj\AppData\Local\Temp\j25n1amo.g23.png"/>
          <p:cNvPicPr/>
          <p:nvPr/>
        </p:nvPicPr>
        <p:blipFill>
          <a:blip r:embed="rId2"/>
          <a:srcRect l="3464" t="0" r="50646" b="17229"/>
          <a:stretch/>
        </p:blipFill>
        <p:spPr>
          <a:xfrm>
            <a:off x="160200" y="1185840"/>
            <a:ext cx="55087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9BE2A30-D42F-4BA0-BAA5-A8CA77BF31F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Users\schulzj\AppData\Local\Temp\1d2yzcxw.jly.png"/>
          <p:cNvPicPr/>
          <p:nvPr/>
        </p:nvPicPr>
        <p:blipFill>
          <a:blip r:embed="rId1"/>
          <a:stretch/>
        </p:blipFill>
        <p:spPr>
          <a:xfrm>
            <a:off x="0" y="1598760"/>
            <a:ext cx="10531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8:55:07Z</dcterms:created>
  <dc:creator>Dzaak</dc:creator>
  <dc:description>Template: 2010-10-14</dc:description>
  <dc:language>en-US</dc:language>
  <cp:lastModifiedBy>Schulz-Stellenfleth,  Johannes</cp:lastModifiedBy>
  <dcterms:modified xsi:type="dcterms:W3CDTF">2018-11-19T14:24:34Z</dcterms:modified>
  <cp:revision>639</cp:revision>
  <dc:subject/>
  <dc:title>Occasion</dc:title>
</cp:coreProperties>
</file>