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10691813" cy="7559675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BB45-62AA-44F6-A3F1-722D1D66A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BC53-C3DE-480E-A5D8-A1C3D067F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C3D5-F829-468E-B14E-1C69A358C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E6E9-A1AA-484E-BDFF-CB2B73ABB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55D7-40F7-4F42-8ECF-16DC3E60D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C795-001A-4297-AC75-EE63595586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3171-85CF-4511-8E6C-BDE45F7839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78F3-9E97-4EBB-B279-966448C9AD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3FB4-B366-4665-A62A-204FC9DF2F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F0E9-A313-4665-9C06-40BC0860A9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FF97-D06F-4DC8-9456-B0587B80A2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146D-A12E-4040-AF70-ACD48AC2FC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A5AA-2292-4D46-B5BE-233B2066D0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D162C-A7BE-4948-8BA1-B12BD308AE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0DC4-24E5-4A78-8867-6857DFD16B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D3E0-FCA3-4A3C-9C13-3118161CC4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DBC1-4393-4DA4-BA2F-718A1549E4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D964-0049-47C7-8469-0244BEBE54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E43-960A-4DAA-8AB4-00D3F538A0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018-2E32-4F15-BC64-8D5E703D1A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3B8-DF24-40CA-8E23-E73D4843C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3ADD-84E8-4E43-A823-DFB430193D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512-CD6B-4416-91F5-92DAD2F702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8D7-A61E-47D0-82E0-DD2E962BA9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84C-4BDD-4DA3-B87A-F7DAD1AB60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CCB-68A8-4AE4-9C35-7203182ACF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F8F-3DF7-48B9-BF9A-06669F5529C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B11-2F39-4F37-BC92-D039E1DBF3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FF7-CB08-402F-937E-38E2063E0A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8CD-855F-4B33-9F93-4C72C22D27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98E-4723-40EA-BBCE-4A285E3B7DF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D6B35-7B1B-4C82-B41B-F272C0FD4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593E-0537-49B1-8227-95B5D132F2A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6349E-10DF-401D-AE76-557222B82C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62231-45CD-4A20-9D44-A09D9E2BFB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97E91-DAB3-4407-81C8-EAE5CEA1FE7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C619C-26BA-4115-B2E9-D14CDE6B3FD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35D20-B0F0-4C94-BB08-377F63EA6AD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A93F0-CB18-4D49-9098-1898DAF2B64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C47CA-8A81-4CA3-AEA8-636568FA9F6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AF6F1-50CF-4F5D-9E09-0BD80B0882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0B5D6-0FDE-43EB-A0A9-D8C3A57DE7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17C0C-8F40-4F49-A999-D8A025979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B45A-1D3F-4402-ADCD-422F8763E2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B1F1D-33C4-484C-A102-92A1D4FAB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071D-0E50-4794-8055-BAD2689FB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C87E-4857-47E6-9334-1EDC3D25D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769B-E9FC-4097-BE9A-F4CD1AE2F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0271969-7C1D-4D09-B717-4E98FD3494AF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450720" y="0"/>
            <a:ext cx="10242720" cy="29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4"/>
          <p:cNvSpPr/>
          <p:nvPr/>
        </p:nvSpPr>
        <p:spPr>
          <a:xfrm flipH="1">
            <a:off x="378000" y="774720"/>
            <a:ext cx="1031544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595440" y="720720"/>
            <a:ext cx="3958920" cy="10800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-1440" y="-14400"/>
            <a:ext cx="10693080" cy="6300720"/>
            <a:chOff x="-1440" y="-14400"/>
            <a:chExt cx="10693080" cy="6300720"/>
          </a:xfrm>
        </p:grpSpPr>
        <p:pic>
          <p:nvPicPr>
            <p:cNvPr id="48" name="Picture 17" descr=""/>
            <p:cNvPicPr/>
            <p:nvPr/>
          </p:nvPicPr>
          <p:blipFill>
            <a:blip r:embed="rId2"/>
            <a:stretch/>
          </p:blipFill>
          <p:spPr>
            <a:xfrm>
              <a:off x="-1440" y="2900160"/>
              <a:ext cx="10693080" cy="3386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" name="Object 18"/>
            <p:cNvGraphicFramePr/>
            <p:nvPr/>
          </p:nvGraphicFramePr>
          <p:xfrm>
            <a:off x="-1440" y="-14400"/>
            <a:ext cx="450360" cy="630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1440" y="-14400"/>
                      <a:ext cx="450360" cy="630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" name="Picture 11" descr="HZG_RGB_72dpi_mitZusatz in E_80mm"/>
          <p:cNvPicPr/>
          <p:nvPr/>
        </p:nvPicPr>
        <p:blipFill>
          <a:blip r:embed="rId5"/>
          <a:stretch/>
        </p:blipFill>
        <p:spPr>
          <a:xfrm>
            <a:off x="7866000" y="6627960"/>
            <a:ext cx="237672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9"/>
          <p:cNvSpPr/>
          <p:nvPr/>
        </p:nvSpPr>
        <p:spPr>
          <a:xfrm>
            <a:off x="7178760" y="729936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CEASELESS Meeting Kopenhagen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141D981-2CB9-4A5B-93C8-87C6FF7FCC34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36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9"/>
          <p:cNvSpPr/>
          <p:nvPr/>
        </p:nvSpPr>
        <p:spPr>
          <a:xfrm>
            <a:off x="7151760" y="728820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3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65FF6B0-C415-4055-951E-C54A6D5B8539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8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9"/>
          <p:cNvSpPr/>
          <p:nvPr/>
        </p:nvSpPr>
        <p:spPr>
          <a:xfrm>
            <a:off x="7970040" y="727380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4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8E97CD6-14BB-4FEF-9439-62FB4567F25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EASELESS Special Is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E76C641-DC73-40C4-BB51-1BB53CB68DA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schulzj\AppData\Local\Temp\bhezvcoy.ugh.png"/>
          <p:cNvPicPr/>
          <p:nvPr/>
        </p:nvPicPr>
        <p:blipFill>
          <a:blip r:embed="rId1"/>
          <a:srcRect l="0" t="0" r="5183" b="0"/>
          <a:stretch/>
        </p:blipFill>
        <p:spPr>
          <a:xfrm>
            <a:off x="17640" y="1589040"/>
            <a:ext cx="10513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564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ystematic err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A5EABB6-6A4E-4C15-B4FF-16AA136DD2B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schulzj\AppData\Local\Temp\qupuetyy.0q1.png"/>
          <p:cNvPicPr/>
          <p:nvPr/>
        </p:nvPicPr>
        <p:blipFill>
          <a:blip r:embed="rId1"/>
          <a:stretch/>
        </p:blipFill>
        <p:spPr>
          <a:xfrm>
            <a:off x="90360" y="1193760"/>
            <a:ext cx="9068040" cy="6114960"/>
          </a:xfrm>
          <a:prstGeom prst="rect">
            <a:avLst/>
          </a:prstGeom>
          <a:ln w="0">
            <a:noFill/>
          </a:ln>
        </p:spPr>
      </p:pic>
      <p:sp>
        <p:nvSpPr>
          <p:cNvPr id="309" name="Textfeld 1"/>
          <p:cNvSpPr/>
          <p:nvPr/>
        </p:nvSpPr>
        <p:spPr>
          <a:xfrm>
            <a:off x="9158400" y="248436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feld 5"/>
          <p:cNvSpPr/>
          <p:nvPr/>
        </p:nvSpPr>
        <p:spPr>
          <a:xfrm>
            <a:off x="9158400" y="529272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2"/>
          <p:cNvSpPr/>
          <p:nvPr/>
        </p:nvSpPr>
        <p:spPr>
          <a:xfrm>
            <a:off x="4989600" y="3492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7"/>
          <p:cNvSpPr/>
          <p:nvPr/>
        </p:nvSpPr>
        <p:spPr>
          <a:xfrm>
            <a:off x="4989600" y="6486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feld 3"/>
          <p:cNvSpPr/>
          <p:nvPr/>
        </p:nvSpPr>
        <p:spPr>
          <a:xfrm>
            <a:off x="1886040" y="6518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feld 9"/>
          <p:cNvSpPr/>
          <p:nvPr/>
        </p:nvSpPr>
        <p:spPr>
          <a:xfrm>
            <a:off x="1821960" y="34923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0"/>
          <p:cNvSpPr/>
          <p:nvPr/>
        </p:nvSpPr>
        <p:spPr>
          <a:xfrm>
            <a:off x="7583400" y="3564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1"/>
          <p:cNvSpPr/>
          <p:nvPr/>
        </p:nvSpPr>
        <p:spPr>
          <a:xfrm>
            <a:off x="7583400" y="65595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systema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897236B-10B6-4310-BEE8-A9DDA19B65D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schulzj\AppData\Local\Temp\32eyj5kf.blh.png"/>
          <p:cNvPicPr/>
          <p:nvPr/>
        </p:nvPicPr>
        <p:blipFill>
          <a:blip r:embed="rId1"/>
          <a:stretch/>
        </p:blipFill>
        <p:spPr>
          <a:xfrm>
            <a:off x="816120" y="1847880"/>
            <a:ext cx="6360840" cy="1111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C:\Users\schulzj\AppData\Local\Temp\lqjrzqbf.rmo.png"/>
          <p:cNvPicPr/>
          <p:nvPr/>
        </p:nvPicPr>
        <p:blipFill>
          <a:blip r:embed="rId2"/>
          <a:stretch/>
        </p:blipFill>
        <p:spPr>
          <a:xfrm>
            <a:off x="566640" y="2806560"/>
            <a:ext cx="6440760" cy="935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:\Users\schulzj\AppData\Local\Temp\exmeefwd.er5.png"/>
          <p:cNvPicPr/>
          <p:nvPr/>
        </p:nvPicPr>
        <p:blipFill>
          <a:blip r:embed="rId3"/>
          <a:stretch/>
        </p:blipFill>
        <p:spPr>
          <a:xfrm>
            <a:off x="927000" y="3708360"/>
            <a:ext cx="5499360" cy="90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Users\schulzj\AppData\Local\Temp\bmb1db2m.mjl.png"/>
          <p:cNvPicPr/>
          <p:nvPr/>
        </p:nvPicPr>
        <p:blipFill>
          <a:blip r:embed="rId4"/>
          <a:stretch/>
        </p:blipFill>
        <p:spPr>
          <a:xfrm>
            <a:off x="566640" y="4560840"/>
            <a:ext cx="53467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ochas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6BFF2A7-9602-47BC-9DE3-7B627053D96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schulzj\AppData\Local\Temp\4bi1vhne.ujz.png"/>
          <p:cNvPicPr/>
          <p:nvPr/>
        </p:nvPicPr>
        <p:blipFill>
          <a:blip r:embed="rId1"/>
          <a:srcRect l="0" t="-360" r="0" b="1533"/>
          <a:stretch/>
        </p:blipFill>
        <p:spPr>
          <a:xfrm>
            <a:off x="306360" y="1209600"/>
            <a:ext cx="9001080" cy="608328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2"/>
          <p:cNvSpPr/>
          <p:nvPr/>
        </p:nvSpPr>
        <p:spPr>
          <a:xfrm>
            <a:off x="4897440" y="35640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feld 6"/>
          <p:cNvSpPr/>
          <p:nvPr/>
        </p:nvSpPr>
        <p:spPr>
          <a:xfrm>
            <a:off x="486720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feld 7"/>
          <p:cNvSpPr/>
          <p:nvPr/>
        </p:nvSpPr>
        <p:spPr>
          <a:xfrm>
            <a:off x="7794720" y="359712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8"/>
          <p:cNvSpPr/>
          <p:nvPr/>
        </p:nvSpPr>
        <p:spPr>
          <a:xfrm>
            <a:off x="7794720" y="65232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9"/>
          <p:cNvSpPr/>
          <p:nvPr/>
        </p:nvSpPr>
        <p:spPr>
          <a:xfrm>
            <a:off x="1890720" y="36306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feld 10"/>
          <p:cNvSpPr/>
          <p:nvPr/>
        </p:nvSpPr>
        <p:spPr>
          <a:xfrm>
            <a:off x="195408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feld 3"/>
          <p:cNvSpPr/>
          <p:nvPr/>
        </p:nvSpPr>
        <p:spPr>
          <a:xfrm>
            <a:off x="9331560" y="255600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feld 12"/>
          <p:cNvSpPr/>
          <p:nvPr/>
        </p:nvSpPr>
        <p:spPr>
          <a:xfrm>
            <a:off x="9171360" y="5076720"/>
            <a:ext cx="152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Rel. estimatio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 for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an stochastic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18FDFC2-1DE5-4C0B-A927-FE5B387B399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Users\schulzj\AppData\Local\Temp\ri2ittjg.1kb.png"/>
          <p:cNvPicPr/>
          <p:nvPr/>
        </p:nvPicPr>
        <p:blipFill>
          <a:blip r:embed="rId1"/>
          <a:stretch/>
        </p:blipFill>
        <p:spPr>
          <a:xfrm>
            <a:off x="682560" y="1836720"/>
            <a:ext cx="7543800" cy="98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schulzj\AppData\Local\Temp\22pic020.3lq.png"/>
          <p:cNvPicPr/>
          <p:nvPr/>
        </p:nvPicPr>
        <p:blipFill>
          <a:blip r:embed="rId2"/>
          <a:stretch/>
        </p:blipFill>
        <p:spPr>
          <a:xfrm>
            <a:off x="306360" y="3189240"/>
            <a:ext cx="7975800" cy="1022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C:\Users\schulzj\AppData\Local\Temp\pfr2ghj3.nmz.png"/>
          <p:cNvPicPr/>
          <p:nvPr/>
        </p:nvPicPr>
        <p:blipFill>
          <a:blip r:embed="rId3"/>
          <a:stretch/>
        </p:blipFill>
        <p:spPr>
          <a:xfrm>
            <a:off x="768240" y="4429080"/>
            <a:ext cx="789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036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er order „Truth“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FEAC4E7-9420-4974-B34D-4F5AF632548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C:\Users\schulzj\AppData\Local\Temp\mqysxpii.1jz.png"/>
          <p:cNvPicPr/>
          <p:nvPr/>
        </p:nvPicPr>
        <p:blipFill>
          <a:blip r:embed="rId1"/>
          <a:stretch/>
        </p:blipFill>
        <p:spPr>
          <a:xfrm>
            <a:off x="233280" y="1492200"/>
            <a:ext cx="103078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sults for 1D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8788613-5AD6-41EF-942B-14FCDC9BD81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schulzj\AppData\Local\Temp\uhggmbbw.2zx.png"/>
          <p:cNvPicPr/>
          <p:nvPr/>
        </p:nvPicPr>
        <p:blipFill>
          <a:blip r:embed="rId1"/>
          <a:stretch/>
        </p:blipFill>
        <p:spPr>
          <a:xfrm>
            <a:off x="617400" y="5580000"/>
            <a:ext cx="3908520" cy="1065240"/>
          </a:xfrm>
          <a:prstGeom prst="rect">
            <a:avLst/>
          </a:prstGeom>
          <a:ln w="0">
            <a:noFill/>
          </a:ln>
        </p:spPr>
      </p:pic>
      <p:sp>
        <p:nvSpPr>
          <p:cNvPr id="345" name="Pfeil nach rechts 4"/>
          <p:cNvSpPr/>
          <p:nvPr/>
        </p:nvSpPr>
        <p:spPr>
          <a:xfrm>
            <a:off x="4689360" y="5896080"/>
            <a:ext cx="1081080" cy="4334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feld 5"/>
          <p:cNvSpPr/>
          <p:nvPr/>
        </p:nvSpPr>
        <p:spPr>
          <a:xfrm>
            <a:off x="5994360" y="5646600"/>
            <a:ext cx="406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ror correlation length of the model of 55 k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uppieren 2"/>
          <p:cNvGrpSpPr/>
          <p:nvPr/>
        </p:nvGrpSpPr>
        <p:grpSpPr>
          <a:xfrm>
            <a:off x="1662120" y="1789200"/>
            <a:ext cx="5727600" cy="3273480"/>
            <a:chOff x="1662120" y="1789200"/>
            <a:chExt cx="5727600" cy="3273480"/>
          </a:xfrm>
        </p:grpSpPr>
        <p:pic>
          <p:nvPicPr>
            <p:cNvPr id="348" name="Picture 2" descr="C:\Users\schulzj\AppData\Local\Temp\fl2jklbi.2eh.png"/>
            <p:cNvPicPr/>
            <p:nvPr/>
          </p:nvPicPr>
          <p:blipFill>
            <a:blip r:embed="rId2"/>
            <a:srcRect l="0" t="0" r="34056" b="0"/>
            <a:stretch/>
          </p:blipFill>
          <p:spPr>
            <a:xfrm>
              <a:off x="1662120" y="1789200"/>
              <a:ext cx="5400720" cy="30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hteck 1"/>
            <p:cNvSpPr/>
            <p:nvPr/>
          </p:nvSpPr>
          <p:spPr>
            <a:xfrm>
              <a:off x="6813720" y="2903400"/>
              <a:ext cx="5760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928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E29EEFD-52A6-4A1F-8137-C0F766AC349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feld 4"/>
          <p:cNvSpPr/>
          <p:nvPr/>
        </p:nvSpPr>
        <p:spPr>
          <a:xfrm>
            <a:off x="128520" y="1692360"/>
            <a:ext cx="10471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d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d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S3A altimeter wave height biased high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situ wave data have smallest stochastic erro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More data needed to make results more robus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feld 1"/>
          <p:cNvSpPr/>
          <p:nvPr/>
        </p:nvSpPr>
        <p:spPr>
          <a:xfrm>
            <a:off x="34920" y="1116000"/>
            <a:ext cx="105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Contribution to error analysis of coastal data se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3DD17E8-0E0A-487A-AC77-078ED7C2F62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Users\schulzj\AppData\Local\Temp\worzznc1.r1o.png"/>
          <p:cNvPicPr/>
          <p:nvPr/>
        </p:nvPicPr>
        <p:blipFill>
          <a:blip r:embed="rId1"/>
          <a:stretch/>
        </p:blipFill>
        <p:spPr>
          <a:xfrm>
            <a:off x="1530360" y="1212840"/>
            <a:ext cx="4824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-collo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867356C-F485-4802-98DD-F045B2BB38E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C:\Users\schulzj\AppData\Local\Temp\5rl021mr.nzl.png"/>
          <p:cNvPicPr/>
          <p:nvPr/>
        </p:nvPicPr>
        <p:blipFill>
          <a:blip r:embed="rId1"/>
          <a:stretch/>
        </p:blipFill>
        <p:spPr>
          <a:xfrm>
            <a:off x="522360" y="2197080"/>
            <a:ext cx="9186840" cy="2354400"/>
          </a:xfrm>
          <a:prstGeom prst="rect">
            <a:avLst/>
          </a:prstGeom>
          <a:ln w="0">
            <a:noFill/>
          </a:ln>
        </p:spPr>
      </p:pic>
      <p:cxnSp>
        <p:nvCxnSpPr>
          <p:cNvPr id="360" name="Gerade Verbindung mit Pfeil 4"/>
          <p:cNvCxnSpPr/>
          <p:nvPr/>
        </p:nvCxnSpPr>
        <p:spPr>
          <a:xfrm flipV="1">
            <a:off x="5346360" y="3636720"/>
            <a:ext cx="1080" cy="2154960"/>
          </a:xfrm>
          <a:prstGeom prst="straightConnector1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Textfeld 6"/>
          <p:cNvSpPr/>
          <p:nvPr/>
        </p:nvSpPr>
        <p:spPr>
          <a:xfrm>
            <a:off x="3772080" y="5991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ruth“ t is a vector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calibration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BC301DF-619D-4766-BEB6-FC864C016D5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C:\Users\schulzj\AppData\Local\Temp\exmeefwd.er5.png"/>
          <p:cNvPicPr/>
          <p:nvPr/>
        </p:nvPicPr>
        <p:blipFill>
          <a:blip r:embed="rId1"/>
          <a:stretch/>
        </p:blipFill>
        <p:spPr>
          <a:xfrm>
            <a:off x="450720" y="2268360"/>
            <a:ext cx="6570720" cy="1079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schulzj\AppData\Local\Temp\bmb1db2m.mjl.png"/>
          <p:cNvPicPr/>
          <p:nvPr/>
        </p:nvPicPr>
        <p:blipFill>
          <a:blip r:embed="rId2"/>
          <a:stretch/>
        </p:blipFill>
        <p:spPr>
          <a:xfrm>
            <a:off x="720720" y="3637080"/>
            <a:ext cx="6429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liennummernplatzhalter 1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D26ED93-F677-4507-9517-25A29EFB7F2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feld 2"/>
          <p:cNvSpPr/>
          <p:nvPr/>
        </p:nvSpPr>
        <p:spPr>
          <a:xfrm>
            <a:off x="615240" y="177840"/>
            <a:ext cx="44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General Problem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feld 3"/>
          <p:cNvSpPr/>
          <p:nvPr/>
        </p:nvSpPr>
        <p:spPr>
          <a:xfrm>
            <a:off x="1073160" y="2774880"/>
            <a:ext cx="3743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x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y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feld 4"/>
          <p:cNvSpPr/>
          <p:nvPr/>
        </p:nvSpPr>
        <p:spPr>
          <a:xfrm>
            <a:off x="1197360" y="5243400"/>
            <a:ext cx="6174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∇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= &lt;(x-y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 =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5"/>
          <p:cNvSpPr/>
          <p:nvPr/>
        </p:nvSpPr>
        <p:spPr>
          <a:xfrm>
            <a:off x="506880" y="1459080"/>
            <a:ext cx="92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wo data sets x,y for the same physical parameter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ith „truth“ 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6"/>
          <p:cNvSpPr/>
          <p:nvPr/>
        </p:nvSpPr>
        <p:spPr>
          <a:xfrm>
            <a:off x="486000" y="4059360"/>
            <a:ext cx="81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tatistics on difference (errors uncorrelated)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7"/>
          <p:cNvSpPr/>
          <p:nvPr/>
        </p:nvSpPr>
        <p:spPr>
          <a:xfrm>
            <a:off x="490320" y="6134040"/>
            <a:ext cx="90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t is not possible to estimate the errors for x and y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eparatel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0395E5C-0B61-44FD-81D1-22648F268CF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C:\Users\schulzj\AppData\Local\Temp\2pq5ruvj.osz.png"/>
          <p:cNvPicPr/>
          <p:nvPr/>
        </p:nvPicPr>
        <p:blipFill>
          <a:blip r:embed="rId1"/>
          <a:stretch/>
        </p:blipFill>
        <p:spPr>
          <a:xfrm>
            <a:off x="-15840" y="2190600"/>
            <a:ext cx="1072512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FCF1D76-4E7E-427F-9638-A5CFE364C71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C:\Users\schulzj\AppData\Local\Temp\j25n1amo.g23.png"/>
          <p:cNvPicPr/>
          <p:nvPr/>
        </p:nvPicPr>
        <p:blipFill>
          <a:blip r:embed="rId1"/>
          <a:stretch/>
        </p:blipFill>
        <p:spPr>
          <a:xfrm>
            <a:off x="339840" y="1393920"/>
            <a:ext cx="95821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AE70F35-7707-42F1-9978-F28D1C9928F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Users\schulzj\AppData\Local\Temp\qzhyqq3f.ekn.png"/>
          <p:cNvPicPr/>
          <p:nvPr/>
        </p:nvPicPr>
        <p:blipFill>
          <a:blip r:embed="rId1"/>
          <a:stretch/>
        </p:blipFill>
        <p:spPr>
          <a:xfrm>
            <a:off x="1386000" y="1189080"/>
            <a:ext cx="633708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 so far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BAA990F-3552-4B7A-8C52-FC3AB791742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3"/>
          <p:cNvSpPr/>
          <p:nvPr/>
        </p:nvSpPr>
        <p:spPr>
          <a:xfrm>
            <a:off x="942840" y="1565280"/>
            <a:ext cx="5832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x =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5"/>
          <p:cNvSpPr/>
          <p:nvPr/>
        </p:nvSpPr>
        <p:spPr>
          <a:xfrm>
            <a:off x="6566400" y="21654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ithout calibr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7"/>
          <p:cNvSpPr/>
          <p:nvPr/>
        </p:nvSpPr>
        <p:spPr>
          <a:xfrm>
            <a:off x="600120" y="1324080"/>
            <a:ext cx="9515520" cy="21891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8"/>
          <p:cNvSpPr/>
          <p:nvPr/>
        </p:nvSpPr>
        <p:spPr>
          <a:xfrm>
            <a:off x="94320" y="6805440"/>
            <a:ext cx="98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f: Janssen et al., 2007,  Stoffelen et al., 1998, Caires and Sterl, 2008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9"/>
          <p:cNvSpPr/>
          <p:nvPr/>
        </p:nvSpPr>
        <p:spPr>
          <a:xfrm>
            <a:off x="4479840" y="3267000"/>
            <a:ext cx="60516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b0f0"/>
                </a:solidFill>
                <a:latin typeface="Arial"/>
              </a:rPr>
              <a:t>The „truth“ t is a single number 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"/>
          <p:cNvSpPr/>
          <p:nvPr/>
        </p:nvSpPr>
        <p:spPr>
          <a:xfrm>
            <a:off x="23760" y="5869080"/>
            <a:ext cx="1066968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Data set of collocated x,y,z  =&gt;  estimate error paramet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1"/>
          <p:cNvSpPr/>
          <p:nvPr/>
        </p:nvSpPr>
        <p:spPr>
          <a:xfrm>
            <a:off x="3395520" y="164448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eference Data S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2"/>
          <p:cNvSpPr/>
          <p:nvPr/>
        </p:nvSpPr>
        <p:spPr>
          <a:xfrm>
            <a:off x="1108080" y="4143240"/>
            <a:ext cx="54421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   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tochas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,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ystema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636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3DF6194-E548-41EE-9D1F-B974638FED7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3"/>
          <p:cNvSpPr/>
          <p:nvPr/>
        </p:nvSpPr>
        <p:spPr>
          <a:xfrm>
            <a:off x="90360" y="2484360"/>
            <a:ext cx="1044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Observations never perfectly collocated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Assessment of new system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26676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tension of „truth“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23B18D9-C3DB-4FA5-96D9-E437FC74825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erader Verbinder 4"/>
          <p:cNvSpPr/>
          <p:nvPr/>
        </p:nvSpPr>
        <p:spPr>
          <a:xfrm>
            <a:off x="738360" y="2548080"/>
            <a:ext cx="223200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feld 5"/>
          <p:cNvSpPr/>
          <p:nvPr/>
        </p:nvSpPr>
        <p:spPr>
          <a:xfrm>
            <a:off x="809640" y="1893960"/>
            <a:ext cx="43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6"/>
          <p:cNvSpPr/>
          <p:nvPr/>
        </p:nvSpPr>
        <p:spPr>
          <a:xfrm>
            <a:off x="1314360" y="254808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7"/>
          <p:cNvSpPr/>
          <p:nvPr/>
        </p:nvSpPr>
        <p:spPr>
          <a:xfrm>
            <a:off x="1782360" y="204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Gerade Verbindung mit Pfeil 11"/>
          <p:cNvCxnSpPr/>
          <p:nvPr/>
        </p:nvCxnSpPr>
        <p:spPr>
          <a:xfrm>
            <a:off x="738000" y="3708000"/>
            <a:ext cx="34563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Gerade Verbindung mit Pfeil 13"/>
          <p:cNvCxnSpPr/>
          <p:nvPr/>
        </p:nvCxnSpPr>
        <p:spPr>
          <a:xfrm flipV="1">
            <a:off x="738000" y="1874160"/>
            <a:ext cx="22680" cy="18262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Textfeld 15"/>
          <p:cNvSpPr/>
          <p:nvPr/>
        </p:nvSpPr>
        <p:spPr>
          <a:xfrm>
            <a:off x="3507480" y="3801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16"/>
          <p:cNvSpPr/>
          <p:nvPr/>
        </p:nvSpPr>
        <p:spPr>
          <a:xfrm>
            <a:off x="135720" y="231624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=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r Verbinder 17"/>
          <p:cNvSpPr/>
          <p:nvPr/>
        </p:nvSpPr>
        <p:spPr>
          <a:xfrm>
            <a:off x="6499080" y="5292720"/>
            <a:ext cx="201636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18"/>
          <p:cNvSpPr/>
          <p:nvPr/>
        </p:nvSpPr>
        <p:spPr>
          <a:xfrm>
            <a:off x="6570720" y="4846680"/>
            <a:ext cx="431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feld 19"/>
          <p:cNvSpPr/>
          <p:nvPr/>
        </p:nvSpPr>
        <p:spPr>
          <a:xfrm>
            <a:off x="7075440" y="550080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feld 20"/>
          <p:cNvSpPr/>
          <p:nvPr/>
        </p:nvSpPr>
        <p:spPr>
          <a:xfrm>
            <a:off x="7542720" y="499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Gerade Verbindung mit Pfeil 21"/>
          <p:cNvCxnSpPr/>
          <p:nvPr/>
        </p:nvCxnSpPr>
        <p:spPr>
          <a:xfrm>
            <a:off x="6499080" y="6660720"/>
            <a:ext cx="345672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Gerade Verbindung mit Pfeil 22"/>
          <p:cNvCxnSpPr/>
          <p:nvPr/>
        </p:nvCxnSpPr>
        <p:spPr>
          <a:xfrm flipV="1">
            <a:off x="6499080" y="482688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Textfeld 23"/>
          <p:cNvSpPr/>
          <p:nvPr/>
        </p:nvSpPr>
        <p:spPr>
          <a:xfrm>
            <a:off x="9272520" y="6754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feld 24"/>
          <p:cNvSpPr/>
          <p:nvPr/>
        </p:nvSpPr>
        <p:spPr>
          <a:xfrm>
            <a:off x="8532000" y="5202360"/>
            <a:ext cx="16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feld 29"/>
          <p:cNvSpPr/>
          <p:nvPr/>
        </p:nvSpPr>
        <p:spPr>
          <a:xfrm>
            <a:off x="379800" y="169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feld 30"/>
          <p:cNvSpPr/>
          <p:nvPr/>
        </p:nvSpPr>
        <p:spPr>
          <a:xfrm>
            <a:off x="4719960" y="1430280"/>
            <a:ext cx="36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+, *, o :  data sourc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feld 1" descr=""/>
          <p:cNvPicPr/>
          <p:nvPr/>
        </p:nvPicPr>
        <p:blipFill>
          <a:blip r:embed="rId1"/>
          <a:stretch/>
        </p:blipFill>
        <p:spPr>
          <a:xfrm>
            <a:off x="8369280" y="4108320"/>
            <a:ext cx="1908360" cy="901800"/>
          </a:xfrm>
          <a:prstGeom prst="rect">
            <a:avLst/>
          </a:prstGeom>
          <a:ln w="0">
            <a:noFill/>
          </a:ln>
        </p:spPr>
      </p:pic>
      <p:sp>
        <p:nvSpPr>
          <p:cNvPr id="269" name="Textfeld 2"/>
          <p:cNvSpPr/>
          <p:nvPr/>
        </p:nvSpPr>
        <p:spPr>
          <a:xfrm>
            <a:off x="236520" y="5522760"/>
            <a:ext cx="49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an be interpreted as Taylor expansion terms of „truth“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hteck 17"/>
          <p:cNvSpPr/>
          <p:nvPr/>
        </p:nvSpPr>
        <p:spPr>
          <a:xfrm>
            <a:off x="5923080" y="2165400"/>
            <a:ext cx="4626000" cy="37940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ossible Configur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C743B58-8FEA-4B2C-B862-B26E3ABF3CE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C:\Users\schulzj\AppData\Local\Temp\mryllxht.chm.png"/>
          <p:cNvPicPr/>
          <p:nvPr/>
        </p:nvPicPr>
        <p:blipFill>
          <a:blip r:embed="rId1"/>
          <a:stretch/>
        </p:blipFill>
        <p:spPr>
          <a:xfrm>
            <a:off x="324000" y="2602080"/>
            <a:ext cx="4154400" cy="10094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uppieren 5"/>
          <p:cNvGrpSpPr/>
          <p:nvPr/>
        </p:nvGrpSpPr>
        <p:grpSpPr>
          <a:xfrm>
            <a:off x="139680" y="4314960"/>
            <a:ext cx="5543640" cy="2590560"/>
            <a:chOff x="139680" y="4314960"/>
            <a:chExt cx="5543640" cy="2590560"/>
          </a:xfrm>
        </p:grpSpPr>
        <p:pic>
          <p:nvPicPr>
            <p:cNvPr id="275" name="Picture 2" descr="C:\Users\schulzj\AppData\Local\Temp\3vgq1wse.fzy.png"/>
            <p:cNvPicPr/>
            <p:nvPr/>
          </p:nvPicPr>
          <p:blipFill>
            <a:blip r:embed="rId2"/>
            <a:stretch/>
          </p:blipFill>
          <p:spPr>
            <a:xfrm>
              <a:off x="139680" y="4314960"/>
              <a:ext cx="554364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feld 3"/>
            <p:cNvSpPr/>
            <p:nvPr/>
          </p:nvSpPr>
          <p:spPr>
            <a:xfrm>
              <a:off x="3090960" y="5416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Gerader Verbinder 7"/>
          <p:cNvSpPr/>
          <p:nvPr/>
        </p:nvSpPr>
        <p:spPr>
          <a:xfrm>
            <a:off x="6629400" y="3860640"/>
            <a:ext cx="201600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feld 8"/>
          <p:cNvSpPr/>
          <p:nvPr/>
        </p:nvSpPr>
        <p:spPr>
          <a:xfrm>
            <a:off x="6702480" y="34146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feld 9"/>
          <p:cNvSpPr/>
          <p:nvPr/>
        </p:nvSpPr>
        <p:spPr>
          <a:xfrm>
            <a:off x="7418520" y="4299120"/>
            <a:ext cx="43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feld 10"/>
          <p:cNvSpPr/>
          <p:nvPr/>
        </p:nvSpPr>
        <p:spPr>
          <a:xfrm>
            <a:off x="8367120" y="4102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Gerade Verbindung mit Pfeil 11"/>
          <p:cNvCxnSpPr/>
          <p:nvPr/>
        </p:nvCxnSpPr>
        <p:spPr>
          <a:xfrm>
            <a:off x="6629400" y="5229000"/>
            <a:ext cx="34581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Gerade Verbindung mit Pfeil 12"/>
          <p:cNvCxnSpPr/>
          <p:nvPr/>
        </p:nvCxnSpPr>
        <p:spPr>
          <a:xfrm flipV="1">
            <a:off x="6629400" y="339480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feld 13"/>
          <p:cNvSpPr/>
          <p:nvPr/>
        </p:nvSpPr>
        <p:spPr>
          <a:xfrm>
            <a:off x="9398160" y="53229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x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feld 14"/>
          <p:cNvSpPr/>
          <p:nvPr/>
        </p:nvSpPr>
        <p:spPr>
          <a:xfrm>
            <a:off x="8682120" y="3149640"/>
            <a:ext cx="163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x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feld 6"/>
          <p:cNvSpPr/>
          <p:nvPr/>
        </p:nvSpPr>
        <p:spPr>
          <a:xfrm>
            <a:off x="6782400" y="406872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feld 16"/>
          <p:cNvSpPr/>
          <p:nvPr/>
        </p:nvSpPr>
        <p:spPr>
          <a:xfrm>
            <a:off x="7997400" y="378468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feld 15"/>
          <p:cNvSpPr/>
          <p:nvPr/>
        </p:nvSpPr>
        <p:spPr>
          <a:xfrm>
            <a:off x="6235920" y="3308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feld 18"/>
          <p:cNvSpPr/>
          <p:nvPr/>
        </p:nvSpPr>
        <p:spPr>
          <a:xfrm>
            <a:off x="6303240" y="2274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D Cas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feld 1"/>
          <p:cNvSpPr/>
          <p:nvPr/>
        </p:nvSpPr>
        <p:spPr>
          <a:xfrm>
            <a:off x="221040" y="1627200"/>
            <a:ext cx="53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umber of variances and covarianc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e can estimat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2236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ror bars for estimated err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F4257C2-28E6-4909-B9B1-A50077652D1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3"/>
          <p:cNvSpPr/>
          <p:nvPr/>
        </p:nvSpPr>
        <p:spPr>
          <a:xfrm>
            <a:off x="514440" y="2197080"/>
            <a:ext cx="4752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stimated covariance matrix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of input dat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feld 4"/>
          <p:cNvSpPr/>
          <p:nvPr/>
        </p:nvSpPr>
        <p:spPr>
          <a:xfrm>
            <a:off x="5699160" y="2411280"/>
            <a:ext cx="3803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umber of colloc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feld 5"/>
          <p:cNvSpPr/>
          <p:nvPr/>
        </p:nvSpPr>
        <p:spPr>
          <a:xfrm>
            <a:off x="2682720" y="5221440"/>
            <a:ext cx="597708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tochastic error variances and covarian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ystematic calibration err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Gerade Verbindung mit Pfeil 7"/>
          <p:cNvCxnSpPr/>
          <p:nvPr/>
        </p:nvCxnSpPr>
        <p:spPr>
          <a:xfrm>
            <a:off x="3904920" y="3150720"/>
            <a:ext cx="1654920" cy="185508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Gerade Verbindung mit Pfeil 8"/>
          <p:cNvCxnSpPr>
            <a:stCxn id="293" idx="2"/>
          </p:cNvCxnSpPr>
          <p:nvPr/>
        </p:nvCxnSpPr>
        <p:spPr>
          <a:xfrm flipH="1">
            <a:off x="5678280" y="2935440"/>
            <a:ext cx="1923120" cy="207072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25640" y="29808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520D5AF-8EEA-4E78-A9D8-22F0511CB4F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Grafik 3" descr=""/>
          <p:cNvPicPr/>
          <p:nvPr/>
        </p:nvPicPr>
        <p:blipFill>
          <a:blip r:embed="rId1"/>
          <a:stretch/>
        </p:blipFill>
        <p:spPr>
          <a:xfrm>
            <a:off x="522360" y="1176480"/>
            <a:ext cx="5046480" cy="613224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1"/>
          <p:cNvSpPr/>
          <p:nvPr/>
        </p:nvSpPr>
        <p:spPr>
          <a:xfrm>
            <a:off x="5962680" y="359568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M run with ERA5 meteo forc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NTINEL-3a RDSAR altimeter data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TS buoy data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feld 2"/>
          <p:cNvSpPr/>
          <p:nvPr/>
        </p:nvSpPr>
        <p:spPr>
          <a:xfrm>
            <a:off x="6031080" y="1638360"/>
            <a:ext cx="42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nalysed Perio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pril 2016 – August 2017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Users\schulzj\AppData\Local\Temp\j25n1amo.g23.png"/>
          <p:cNvPicPr/>
          <p:nvPr/>
        </p:nvPicPr>
        <p:blipFill>
          <a:blip r:embed="rId2"/>
          <a:srcRect l="3464" t="0" r="50646" b="17229"/>
          <a:stretch/>
        </p:blipFill>
        <p:spPr>
          <a:xfrm>
            <a:off x="160200" y="1185840"/>
            <a:ext cx="55087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4ECBE92-D5EA-4D33-AC9B-90D54EAA273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Users\schulzj\AppData\Local\Temp\1d2yzcxw.jly.png"/>
          <p:cNvPicPr/>
          <p:nvPr/>
        </p:nvPicPr>
        <p:blipFill>
          <a:blip r:embed="rId1"/>
          <a:stretch/>
        </p:blipFill>
        <p:spPr>
          <a:xfrm>
            <a:off x="0" y="1598760"/>
            <a:ext cx="10531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8:55:07Z</dcterms:created>
  <dc:creator>Dzaak</dc:creator>
  <dc:description>Template: 2010-10-14</dc:description>
  <dc:language>en-US</dc:language>
  <cp:lastModifiedBy>Schulz-Stellenfleth,  Johannes</cp:lastModifiedBy>
  <dcterms:modified xsi:type="dcterms:W3CDTF">2018-11-19T14:24:34Z</dcterms:modified>
  <cp:revision>639</cp:revision>
  <dc:subject/>
  <dc:title>Occasion</dc:title>
</cp:coreProperties>
</file>