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wmf" ContentType="image/x-wmf"/>
  <Override PartName="/ppt/media/image1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10691813" cy="7559675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58581-3EFF-4C7F-9C02-5A59486B32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903600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43080" y="4169160"/>
            <a:ext cx="903600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0F79D-F926-4B0C-9DCA-263A063085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4308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87304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3BBDB-F348-43EE-B62B-939E035649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298400" y="148392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353720" y="148392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243080" y="416916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298400" y="416916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7353720" y="416916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5A504-2D03-4BD4-89A3-42B3AB2FDA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43080" y="1483920"/>
            <a:ext cx="90360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90360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43080" y="394920"/>
            <a:ext cx="6767280" cy="25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4308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243080" y="1483920"/>
            <a:ext cx="90360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C2621-6C76-4B18-BBBF-183819C2D3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87304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43080" y="4169160"/>
            <a:ext cx="903600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903600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43080" y="4169160"/>
            <a:ext cx="903600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4308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87304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98400" y="148392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7353720" y="148392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43080" y="416916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298400" y="416916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7353720" y="416916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91C7A-FBE1-477D-885A-5F08B445BD3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243080" y="1483920"/>
            <a:ext cx="90360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F07C8-DDC2-4F33-B73A-C9B46F791A3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90360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824DE-E382-4AAC-99EC-31831C888D5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49A73-1BE1-4A09-91FB-9CD516D2B88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D0EC3-049A-4DAE-ABBD-AFC5C35F0C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90360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EB6C2-04EE-45E7-8BF9-43091248BA9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243080" y="394920"/>
            <a:ext cx="6767280" cy="25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4D17F-58C6-4D53-AF91-284BC6E1C85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24308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B5B4C-94D9-441C-8E62-0FE215808D8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87304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EF581-DD43-4145-BFD9-7C95FFE1DC0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243080" y="4169160"/>
            <a:ext cx="903600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E656F-A916-4322-BE34-6C869698D05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903600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243080" y="4169160"/>
            <a:ext cx="903600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C366F-188E-4365-91FB-7F010C1F3EE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4308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87304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EBE5F-0E56-4826-A203-9165D7CA061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98400" y="148392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7353720" y="148392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243080" y="416916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4298400" y="416916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7353720" y="416916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0B752-F1C3-4DE0-9BE2-55605D430B2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DC71-3A54-4549-8154-49750CE2C8F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243080" y="1483920"/>
            <a:ext cx="90360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9496-F280-4AE4-AFB4-C09186415C2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90360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13A1-6382-455C-B30F-C121846291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6950A-8DCA-4D00-9B8E-764252C57EE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EF42-D405-4056-A40E-5F48F6386D2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1C3F-7EAF-4E10-8D25-6DD99E1D44F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243080" y="394920"/>
            <a:ext cx="6767280" cy="25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2CF3-2E7E-4FD4-910E-D848476491D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24308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DCC5-4DFF-4A52-A055-34C946F4F5D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87304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961D-C02D-4848-AFBE-2B5A54CAF95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243080" y="4169160"/>
            <a:ext cx="903600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79CF-21BF-4BBA-84EC-76347C156EE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903600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243080" y="4169160"/>
            <a:ext cx="903600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E700-6D73-4554-9D5A-37E4DA6C857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24308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87304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FF79-7727-4F27-8DA2-EAEBB5090CE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298400" y="148392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7353720" y="148392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1243080" y="416916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4298400" y="416916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7353720" y="416916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4C47-76FF-48AC-8A41-ED19553204C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2B6694-0174-4668-9033-EECEC2BC34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A98E5-70D6-4601-B99A-46AC849A197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243080" y="1483920"/>
            <a:ext cx="90360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A5F7C3-F9E7-479C-993D-689CF195732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90360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26D57E-58E3-4CDF-B971-AAA95CF7FBA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231760-6114-4EB0-928C-487605FD278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FF0846-2402-4F9A-9FC7-0A75EA05419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1243080" y="394920"/>
            <a:ext cx="6767280" cy="25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C0415A-1B46-4A4B-8B3B-E6D0019DE6B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24308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5EE065-18F2-48A1-B34E-F0E6A194B52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87304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DEBB15-9264-492E-BA65-8F64C54C072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243080" y="4169160"/>
            <a:ext cx="903600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7A28C4-BCA0-4AC1-8C6A-A15B094D147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903600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1243080" y="4169160"/>
            <a:ext cx="903600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9A6849-DC87-493A-9FDF-5F5619080DD9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24308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87304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B6B6EB-92A2-463D-B1A3-D96B523A8F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43080" y="394920"/>
            <a:ext cx="6767280" cy="25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9C577-5ADE-4295-A0EB-67E1290B235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298400" y="148392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7353720" y="148392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1243080" y="416916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4298400" y="416916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7353720" y="416916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968477-F9BF-4638-9A9D-31F95EDC4B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4308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1BD47-C997-4C36-820C-759C9DB1A7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87304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7A3D5-95D0-4FCB-B15F-21861F49A3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43080" y="4169160"/>
            <a:ext cx="903600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CF90C-3D7E-4286-93EF-AD6FD681E8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43080" y="1483920"/>
            <a:ext cx="90360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-44460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44748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4460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79388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79388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79388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7" descr="HZG_RGB_72dpi_mitZusatz in E_80mm"/>
          <p:cNvPicPr/>
          <p:nvPr/>
        </p:nvPicPr>
        <p:blipFill>
          <a:blip r:embed="rId2"/>
          <a:stretch/>
        </p:blipFill>
        <p:spPr>
          <a:xfrm>
            <a:off x="8226360" y="390600"/>
            <a:ext cx="2089080" cy="53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952308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A82F5D91-E6B9-4159-834F-3D66DFD13CEF}" type="slidenum"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20"/>
          <p:cNvSpPr/>
          <p:nvPr/>
        </p:nvSpPr>
        <p:spPr>
          <a:xfrm flipH="1">
            <a:off x="1782360" y="1098720"/>
            <a:ext cx="8496360" cy="0"/>
          </a:xfrm>
          <a:prstGeom prst="line">
            <a:avLst/>
          </a:prstGeom>
          <a:ln w="3240">
            <a:solidFill>
              <a:srgbClr val="00a2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21"/>
          <p:cNvSpPr/>
          <p:nvPr/>
        </p:nvSpPr>
        <p:spPr>
          <a:xfrm flipH="1">
            <a:off x="414000" y="1098720"/>
            <a:ext cx="755640" cy="0"/>
          </a:xfrm>
          <a:prstGeom prst="line">
            <a:avLst/>
          </a:prstGeom>
          <a:ln w="3240">
            <a:solidFill>
              <a:srgbClr val="0098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22"/>
          <p:cNvSpPr/>
          <p:nvPr/>
        </p:nvSpPr>
        <p:spPr>
          <a:xfrm>
            <a:off x="1243080" y="1044720"/>
            <a:ext cx="3959280" cy="107640"/>
          </a:xfrm>
          <a:prstGeom prst="rect">
            <a:avLst/>
          </a:prstGeom>
          <a:solidFill>
            <a:srgbClr val="0098d4"/>
          </a:solidFill>
          <a:ln w="9360">
            <a:solidFill>
              <a:srgbClr val="00a2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23"/>
          <p:cNvSpPr/>
          <p:nvPr/>
        </p:nvSpPr>
        <p:spPr>
          <a:xfrm flipH="1">
            <a:off x="450720" y="7308720"/>
            <a:ext cx="9863280" cy="0"/>
          </a:xfrm>
          <a:prstGeom prst="line">
            <a:avLst/>
          </a:prstGeom>
          <a:ln w="3240">
            <a:solidFill>
              <a:srgbClr val="00a2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3"/>
          <p:cNvSpPr/>
          <p:nvPr/>
        </p:nvSpPr>
        <p:spPr>
          <a:xfrm>
            <a:off x="450720" y="0"/>
            <a:ext cx="10242720" cy="291636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4"/>
          <p:cNvSpPr/>
          <p:nvPr/>
        </p:nvSpPr>
        <p:spPr>
          <a:xfrm flipH="1">
            <a:off x="378000" y="774720"/>
            <a:ext cx="10315440" cy="0"/>
          </a:xfrm>
          <a:prstGeom prst="line">
            <a:avLst/>
          </a:prstGeom>
          <a:ln w="3240">
            <a:solidFill>
              <a:srgbClr val="00a2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5"/>
          <p:cNvSpPr/>
          <p:nvPr/>
        </p:nvSpPr>
        <p:spPr>
          <a:xfrm>
            <a:off x="595440" y="720720"/>
            <a:ext cx="3958920" cy="108000"/>
          </a:xfrm>
          <a:prstGeom prst="rect">
            <a:avLst/>
          </a:prstGeom>
          <a:solidFill>
            <a:srgbClr val="0098d4"/>
          </a:solidFill>
          <a:ln w="9360">
            <a:solidFill>
              <a:srgbClr val="00a2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16"/>
          <p:cNvGrpSpPr/>
          <p:nvPr/>
        </p:nvGrpSpPr>
        <p:grpSpPr>
          <a:xfrm>
            <a:off x="-1440" y="-14400"/>
            <a:ext cx="10693080" cy="6300720"/>
            <a:chOff x="-1440" y="-14400"/>
            <a:chExt cx="10693080" cy="6300720"/>
          </a:xfrm>
        </p:grpSpPr>
        <p:pic>
          <p:nvPicPr>
            <p:cNvPr id="48" name="Picture 17" descr=""/>
            <p:cNvPicPr/>
            <p:nvPr/>
          </p:nvPicPr>
          <p:blipFill>
            <a:blip r:embed="rId2"/>
            <a:stretch/>
          </p:blipFill>
          <p:spPr>
            <a:xfrm>
              <a:off x="-1440" y="2900160"/>
              <a:ext cx="10693080" cy="33861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49" name="Object 18"/>
            <p:cNvGraphicFramePr/>
            <p:nvPr/>
          </p:nvGraphicFramePr>
          <p:xfrm>
            <a:off x="-1440" y="-14400"/>
            <a:ext cx="450360" cy="6300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0" name="Object 1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-1440" y="-14400"/>
                      <a:ext cx="450360" cy="630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51" name="Picture 11" descr="HZG_RGB_72dpi_mitZusatz in E_80mm"/>
          <p:cNvPicPr/>
          <p:nvPr/>
        </p:nvPicPr>
        <p:blipFill>
          <a:blip r:embed="rId5"/>
          <a:stretch/>
        </p:blipFill>
        <p:spPr>
          <a:xfrm>
            <a:off x="7866000" y="6627960"/>
            <a:ext cx="2376720" cy="6094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1243080" y="1483920"/>
            <a:ext cx="90360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-44460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44748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4460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79388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79388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79388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7" descr="HZG_RGB_72dpi_mitZusatz in E_80mm"/>
          <p:cNvPicPr/>
          <p:nvPr/>
        </p:nvPicPr>
        <p:blipFill>
          <a:blip r:embed="rId2"/>
          <a:stretch/>
        </p:blipFill>
        <p:spPr>
          <a:xfrm>
            <a:off x="8226360" y="390600"/>
            <a:ext cx="2089080" cy="536400"/>
          </a:xfrm>
          <a:prstGeom prst="rect">
            <a:avLst/>
          </a:prstGeom>
          <a:ln w="0">
            <a:noFill/>
          </a:ln>
        </p:spPr>
      </p:pic>
      <p:sp>
        <p:nvSpPr>
          <p:cNvPr id="91" name="Line 20"/>
          <p:cNvSpPr/>
          <p:nvPr/>
        </p:nvSpPr>
        <p:spPr>
          <a:xfrm flipH="1">
            <a:off x="1782360" y="1098720"/>
            <a:ext cx="8496360" cy="0"/>
          </a:xfrm>
          <a:prstGeom prst="line">
            <a:avLst/>
          </a:prstGeom>
          <a:ln w="3240">
            <a:solidFill>
              <a:srgbClr val="00a2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21"/>
          <p:cNvSpPr/>
          <p:nvPr/>
        </p:nvSpPr>
        <p:spPr>
          <a:xfrm flipH="1">
            <a:off x="414000" y="1098720"/>
            <a:ext cx="755640" cy="0"/>
          </a:xfrm>
          <a:prstGeom prst="line">
            <a:avLst/>
          </a:prstGeom>
          <a:ln w="3240">
            <a:solidFill>
              <a:srgbClr val="0098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2"/>
          <p:cNvSpPr/>
          <p:nvPr/>
        </p:nvSpPr>
        <p:spPr>
          <a:xfrm>
            <a:off x="1243080" y="1044720"/>
            <a:ext cx="3959280" cy="107640"/>
          </a:xfrm>
          <a:prstGeom prst="rect">
            <a:avLst/>
          </a:prstGeom>
          <a:solidFill>
            <a:srgbClr val="0098d4"/>
          </a:solidFill>
          <a:ln w="9360">
            <a:solidFill>
              <a:srgbClr val="00a2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3"/>
          <p:cNvSpPr/>
          <p:nvPr/>
        </p:nvSpPr>
        <p:spPr>
          <a:xfrm flipH="1">
            <a:off x="450720" y="7308720"/>
            <a:ext cx="9863280" cy="0"/>
          </a:xfrm>
          <a:prstGeom prst="line">
            <a:avLst/>
          </a:prstGeom>
          <a:ln w="3240">
            <a:solidFill>
              <a:srgbClr val="00a2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feld 9"/>
          <p:cNvSpPr/>
          <p:nvPr/>
        </p:nvSpPr>
        <p:spPr>
          <a:xfrm>
            <a:off x="7178760" y="7299360"/>
            <a:ext cx="35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CEASELESS Meeting Kopenhagen 2018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243080" y="1483920"/>
            <a:ext cx="90360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-44460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44748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4460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79388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79388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79388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2"/>
          </p:nvPr>
        </p:nvSpPr>
        <p:spPr>
          <a:xfrm>
            <a:off x="952308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DED1A556-6B60-41A7-9D1A-B6B507E3CD35}" type="slidenum"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7" descr="HZG_RGB_72dpi_mitZusatz in E_80mm"/>
          <p:cNvPicPr/>
          <p:nvPr/>
        </p:nvPicPr>
        <p:blipFill>
          <a:blip r:embed="rId2"/>
          <a:stretch/>
        </p:blipFill>
        <p:spPr>
          <a:xfrm>
            <a:off x="8226360" y="390600"/>
            <a:ext cx="2089080" cy="536400"/>
          </a:xfrm>
          <a:prstGeom prst="rect">
            <a:avLst/>
          </a:prstGeom>
          <a:ln w="0">
            <a:noFill/>
          </a:ln>
        </p:spPr>
      </p:pic>
      <p:sp>
        <p:nvSpPr>
          <p:cNvPr id="136" name="Line 20"/>
          <p:cNvSpPr/>
          <p:nvPr/>
        </p:nvSpPr>
        <p:spPr>
          <a:xfrm flipH="1">
            <a:off x="1782360" y="1098720"/>
            <a:ext cx="8496360" cy="0"/>
          </a:xfrm>
          <a:prstGeom prst="line">
            <a:avLst/>
          </a:prstGeom>
          <a:ln w="3240">
            <a:solidFill>
              <a:srgbClr val="00a2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1"/>
          <p:cNvSpPr/>
          <p:nvPr/>
        </p:nvSpPr>
        <p:spPr>
          <a:xfrm flipH="1">
            <a:off x="414000" y="1098720"/>
            <a:ext cx="755640" cy="0"/>
          </a:xfrm>
          <a:prstGeom prst="line">
            <a:avLst/>
          </a:prstGeom>
          <a:ln w="3240">
            <a:solidFill>
              <a:srgbClr val="0098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2"/>
          <p:cNvSpPr/>
          <p:nvPr/>
        </p:nvSpPr>
        <p:spPr>
          <a:xfrm>
            <a:off x="1243080" y="1044720"/>
            <a:ext cx="3959280" cy="107640"/>
          </a:xfrm>
          <a:prstGeom prst="rect">
            <a:avLst/>
          </a:prstGeom>
          <a:solidFill>
            <a:srgbClr val="0098d4"/>
          </a:solidFill>
          <a:ln w="9360">
            <a:solidFill>
              <a:srgbClr val="00a2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23"/>
          <p:cNvSpPr/>
          <p:nvPr/>
        </p:nvSpPr>
        <p:spPr>
          <a:xfrm flipH="1">
            <a:off x="450720" y="7308720"/>
            <a:ext cx="9863280" cy="0"/>
          </a:xfrm>
          <a:prstGeom prst="line">
            <a:avLst/>
          </a:prstGeom>
          <a:ln w="3240">
            <a:solidFill>
              <a:srgbClr val="00a2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feld 9"/>
          <p:cNvSpPr/>
          <p:nvPr/>
        </p:nvSpPr>
        <p:spPr>
          <a:xfrm>
            <a:off x="7151760" y="7288200"/>
            <a:ext cx="35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NOOS 2018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1243080" y="1483920"/>
            <a:ext cx="90360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-44460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44748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4460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79388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79388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79388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Num" idx="3"/>
          </p:nvPr>
        </p:nvSpPr>
        <p:spPr>
          <a:xfrm>
            <a:off x="952308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2E85D546-6C8B-4B08-980F-7AF15CCB85A7}" type="slidenum"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17" descr="HZG_RGB_72dpi_mitZusatz in E_80mm"/>
          <p:cNvPicPr/>
          <p:nvPr/>
        </p:nvPicPr>
        <p:blipFill>
          <a:blip r:embed="rId2"/>
          <a:stretch/>
        </p:blipFill>
        <p:spPr>
          <a:xfrm>
            <a:off x="8226360" y="390600"/>
            <a:ext cx="2089080" cy="536400"/>
          </a:xfrm>
          <a:prstGeom prst="rect">
            <a:avLst/>
          </a:prstGeom>
          <a:ln w="0">
            <a:noFill/>
          </a:ln>
        </p:spPr>
      </p:pic>
      <p:sp>
        <p:nvSpPr>
          <p:cNvPr id="181" name="Line 20"/>
          <p:cNvSpPr/>
          <p:nvPr/>
        </p:nvSpPr>
        <p:spPr>
          <a:xfrm flipH="1">
            <a:off x="1782360" y="1098720"/>
            <a:ext cx="8496360" cy="0"/>
          </a:xfrm>
          <a:prstGeom prst="line">
            <a:avLst/>
          </a:prstGeom>
          <a:ln w="3240">
            <a:solidFill>
              <a:srgbClr val="00a2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21"/>
          <p:cNvSpPr/>
          <p:nvPr/>
        </p:nvSpPr>
        <p:spPr>
          <a:xfrm flipH="1">
            <a:off x="414000" y="1098720"/>
            <a:ext cx="755640" cy="0"/>
          </a:xfrm>
          <a:prstGeom prst="line">
            <a:avLst/>
          </a:prstGeom>
          <a:ln w="3240">
            <a:solidFill>
              <a:srgbClr val="0098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2"/>
          <p:cNvSpPr/>
          <p:nvPr/>
        </p:nvSpPr>
        <p:spPr>
          <a:xfrm>
            <a:off x="1243080" y="1044720"/>
            <a:ext cx="3959280" cy="107640"/>
          </a:xfrm>
          <a:prstGeom prst="rect">
            <a:avLst/>
          </a:prstGeom>
          <a:solidFill>
            <a:srgbClr val="0098d4"/>
          </a:solidFill>
          <a:ln w="9360">
            <a:solidFill>
              <a:srgbClr val="00a2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3"/>
          <p:cNvSpPr/>
          <p:nvPr/>
        </p:nvSpPr>
        <p:spPr>
          <a:xfrm flipH="1">
            <a:off x="450720" y="7308720"/>
            <a:ext cx="9863280" cy="0"/>
          </a:xfrm>
          <a:prstGeom prst="line">
            <a:avLst/>
          </a:prstGeom>
          <a:ln w="3240">
            <a:solidFill>
              <a:srgbClr val="00a2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feld 9"/>
          <p:cNvSpPr/>
          <p:nvPr/>
        </p:nvSpPr>
        <p:spPr>
          <a:xfrm>
            <a:off x="7970040" y="727380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NOOS 2018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1243080" y="1483920"/>
            <a:ext cx="90360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-44460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44748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4460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79388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79388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79388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sldNum" idx="4"/>
          </p:nvPr>
        </p:nvSpPr>
        <p:spPr>
          <a:xfrm>
            <a:off x="952308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31E4DF5A-BD80-49D1-B138-7BCE6A42F420}" type="slidenum"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93280" y="324000"/>
            <a:ext cx="6767640" cy="5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EASELESS Special Issu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D0367E93-3EF8-4553-9DE6-C6A406460454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2" descr="C:\Users\schulzj\AppData\Local\Temp\bhezvcoy.ugh.png"/>
          <p:cNvPicPr/>
          <p:nvPr/>
        </p:nvPicPr>
        <p:blipFill>
          <a:blip r:embed="rId1"/>
          <a:srcRect l="0" t="0" r="5183" b="0"/>
          <a:stretch/>
        </p:blipFill>
        <p:spPr>
          <a:xfrm>
            <a:off x="17640" y="1589040"/>
            <a:ext cx="10513800" cy="52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25640" y="25200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Systematic error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0D21A908-7692-4CF5-9B36-F85F2CE51005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2" descr="C:\Users\schulzj\AppData\Local\Temp\qupuetyy.0q1.png"/>
          <p:cNvPicPr/>
          <p:nvPr/>
        </p:nvPicPr>
        <p:blipFill>
          <a:blip r:embed="rId1"/>
          <a:stretch/>
        </p:blipFill>
        <p:spPr>
          <a:xfrm>
            <a:off x="90360" y="1193760"/>
            <a:ext cx="9068040" cy="6114960"/>
          </a:xfrm>
          <a:prstGeom prst="rect">
            <a:avLst/>
          </a:prstGeom>
          <a:ln w="0">
            <a:noFill/>
          </a:ln>
        </p:spPr>
      </p:pic>
      <p:sp>
        <p:nvSpPr>
          <p:cNvPr id="309" name="Textfeld 1"/>
          <p:cNvSpPr/>
          <p:nvPr/>
        </p:nvSpPr>
        <p:spPr>
          <a:xfrm>
            <a:off x="9158400" y="2484360"/>
            <a:ext cx="112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S3A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feld 5"/>
          <p:cNvSpPr/>
          <p:nvPr/>
        </p:nvSpPr>
        <p:spPr>
          <a:xfrm>
            <a:off x="9158400" y="5292720"/>
            <a:ext cx="137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WAM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hteck 2"/>
          <p:cNvSpPr/>
          <p:nvPr/>
        </p:nvSpPr>
        <p:spPr>
          <a:xfrm>
            <a:off x="4989600" y="349236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000000"/>
                </a:solidFill>
                <a:latin typeface="Arial"/>
              </a:rPr>
              <a:t>λ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hteck 7"/>
          <p:cNvSpPr/>
          <p:nvPr/>
        </p:nvSpPr>
        <p:spPr>
          <a:xfrm>
            <a:off x="4989600" y="648648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000000"/>
                </a:solidFill>
                <a:latin typeface="Arial"/>
              </a:rPr>
              <a:t>λ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feld 3"/>
          <p:cNvSpPr/>
          <p:nvPr/>
        </p:nvSpPr>
        <p:spPr>
          <a:xfrm>
            <a:off x="1886040" y="651816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bia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feld 9"/>
          <p:cNvSpPr/>
          <p:nvPr/>
        </p:nvSpPr>
        <p:spPr>
          <a:xfrm>
            <a:off x="1821960" y="349236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bia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hteck 10"/>
          <p:cNvSpPr/>
          <p:nvPr/>
        </p:nvSpPr>
        <p:spPr>
          <a:xfrm>
            <a:off x="7583400" y="356400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err 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</a:rPr>
              <a:t>λ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hteck 11"/>
          <p:cNvSpPr/>
          <p:nvPr/>
        </p:nvSpPr>
        <p:spPr>
          <a:xfrm>
            <a:off x="7583400" y="655956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err 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</a:rPr>
              <a:t>λ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Mean systematic 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A2762B7E-46FC-41E7-8FC3-FD5E878047FC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2" descr="C:\Users\schulzj\AppData\Local\Temp\32eyj5kf.blh.png"/>
          <p:cNvPicPr/>
          <p:nvPr/>
        </p:nvPicPr>
        <p:blipFill>
          <a:blip r:embed="rId1"/>
          <a:stretch/>
        </p:blipFill>
        <p:spPr>
          <a:xfrm>
            <a:off x="816120" y="1847880"/>
            <a:ext cx="6360840" cy="111132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C:\Users\schulzj\AppData\Local\Temp\lqjrzqbf.rmo.png"/>
          <p:cNvPicPr/>
          <p:nvPr/>
        </p:nvPicPr>
        <p:blipFill>
          <a:blip r:embed="rId2"/>
          <a:stretch/>
        </p:blipFill>
        <p:spPr>
          <a:xfrm>
            <a:off x="566640" y="2806560"/>
            <a:ext cx="6440760" cy="9352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6" descr="C:\Users\schulzj\AppData\Local\Temp\exmeefwd.er5.png"/>
          <p:cNvPicPr/>
          <p:nvPr/>
        </p:nvPicPr>
        <p:blipFill>
          <a:blip r:embed="rId3"/>
          <a:stretch/>
        </p:blipFill>
        <p:spPr>
          <a:xfrm>
            <a:off x="927000" y="3708360"/>
            <a:ext cx="5499360" cy="9032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" descr="C:\Users\schulzj\AppData\Local\Temp\bmb1db2m.mjl.png"/>
          <p:cNvPicPr/>
          <p:nvPr/>
        </p:nvPicPr>
        <p:blipFill>
          <a:blip r:embed="rId4"/>
          <a:stretch/>
        </p:blipFill>
        <p:spPr>
          <a:xfrm>
            <a:off x="566640" y="4560840"/>
            <a:ext cx="534672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93280" y="324000"/>
            <a:ext cx="6767640" cy="5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Stochastic 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AEA6155F-7337-4F1B-92B6-BAE22DA68A74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2" descr="C:\Users\schulzj\AppData\Local\Temp\4bi1vhne.ujz.png"/>
          <p:cNvPicPr/>
          <p:nvPr/>
        </p:nvPicPr>
        <p:blipFill>
          <a:blip r:embed="rId1"/>
          <a:srcRect l="0" t="-360" r="0" b="1533"/>
          <a:stretch/>
        </p:blipFill>
        <p:spPr>
          <a:xfrm>
            <a:off x="306360" y="1209600"/>
            <a:ext cx="9001080" cy="6083280"/>
          </a:xfrm>
          <a:prstGeom prst="rect">
            <a:avLst/>
          </a:prstGeom>
          <a:ln w="0">
            <a:noFill/>
          </a:ln>
        </p:spPr>
      </p:pic>
      <p:sp>
        <p:nvSpPr>
          <p:cNvPr id="326" name="Textfeld 2"/>
          <p:cNvSpPr/>
          <p:nvPr/>
        </p:nvSpPr>
        <p:spPr>
          <a:xfrm>
            <a:off x="4897440" y="3564000"/>
            <a:ext cx="88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WAM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feld 6"/>
          <p:cNvSpPr/>
          <p:nvPr/>
        </p:nvSpPr>
        <p:spPr>
          <a:xfrm>
            <a:off x="4867200" y="6627960"/>
            <a:ext cx="8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WAM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feld 7"/>
          <p:cNvSpPr/>
          <p:nvPr/>
        </p:nvSpPr>
        <p:spPr>
          <a:xfrm>
            <a:off x="7794720" y="3597120"/>
            <a:ext cx="88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InSitu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feld 8"/>
          <p:cNvSpPr/>
          <p:nvPr/>
        </p:nvSpPr>
        <p:spPr>
          <a:xfrm>
            <a:off x="7794720" y="6523200"/>
            <a:ext cx="88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InSitu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feld 9"/>
          <p:cNvSpPr/>
          <p:nvPr/>
        </p:nvSpPr>
        <p:spPr>
          <a:xfrm>
            <a:off x="1890720" y="3630600"/>
            <a:ext cx="88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S3A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feld 10"/>
          <p:cNvSpPr/>
          <p:nvPr/>
        </p:nvSpPr>
        <p:spPr>
          <a:xfrm>
            <a:off x="1954080" y="6627960"/>
            <a:ext cx="8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S3A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feld 3"/>
          <p:cNvSpPr/>
          <p:nvPr/>
        </p:nvSpPr>
        <p:spPr>
          <a:xfrm>
            <a:off x="9331560" y="2556000"/>
            <a:ext cx="1175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tochastic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feld 12"/>
          <p:cNvSpPr/>
          <p:nvPr/>
        </p:nvSpPr>
        <p:spPr>
          <a:xfrm>
            <a:off x="9171360" y="5076720"/>
            <a:ext cx="1524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Rel. estimation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errors for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tochastic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ean stochastic Err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637EA4D5-7964-4FAA-9A05-B0A4F93F0A4B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2" descr="C:\Users\schulzj\AppData\Local\Temp\ri2ittjg.1kb.png"/>
          <p:cNvPicPr/>
          <p:nvPr/>
        </p:nvPicPr>
        <p:blipFill>
          <a:blip r:embed="rId1"/>
          <a:stretch/>
        </p:blipFill>
        <p:spPr>
          <a:xfrm>
            <a:off x="682560" y="1836720"/>
            <a:ext cx="7543800" cy="98280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4" descr="C:\Users\schulzj\AppData\Local\Temp\22pic020.3lq.png"/>
          <p:cNvPicPr/>
          <p:nvPr/>
        </p:nvPicPr>
        <p:blipFill>
          <a:blip r:embed="rId2"/>
          <a:stretch/>
        </p:blipFill>
        <p:spPr>
          <a:xfrm>
            <a:off x="306360" y="3189240"/>
            <a:ext cx="7975800" cy="102240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6" descr="C:\Users\schulzj\AppData\Local\Temp\pfr2ghj3.nmz.png"/>
          <p:cNvPicPr/>
          <p:nvPr/>
        </p:nvPicPr>
        <p:blipFill>
          <a:blip r:embed="rId3"/>
          <a:stretch/>
        </p:blipFill>
        <p:spPr>
          <a:xfrm>
            <a:off x="768240" y="4429080"/>
            <a:ext cx="7891560" cy="11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0360" y="252000"/>
            <a:ext cx="676764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Higher order „Truth“ represen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33B837D5-3AA2-469C-B03C-A5221A24CC0F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2" descr="C:\Users\schulzj\AppData\Local\Temp\mqysxpii.1jz.png"/>
          <p:cNvPicPr/>
          <p:nvPr/>
        </p:nvPicPr>
        <p:blipFill>
          <a:blip r:embed="rId1"/>
          <a:stretch/>
        </p:blipFill>
        <p:spPr>
          <a:xfrm>
            <a:off x="233280" y="1492200"/>
            <a:ext cx="10307880" cy="55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Results for 1D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40C489A3-F278-4F38-BD58-307E5FD76782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4" descr="C:\Users\schulzj\AppData\Local\Temp\uhggmbbw.2zx.png"/>
          <p:cNvPicPr/>
          <p:nvPr/>
        </p:nvPicPr>
        <p:blipFill>
          <a:blip r:embed="rId1"/>
          <a:stretch/>
        </p:blipFill>
        <p:spPr>
          <a:xfrm>
            <a:off x="617400" y="5580000"/>
            <a:ext cx="3908520" cy="1065240"/>
          </a:xfrm>
          <a:prstGeom prst="rect">
            <a:avLst/>
          </a:prstGeom>
          <a:ln w="0">
            <a:noFill/>
          </a:ln>
        </p:spPr>
      </p:pic>
      <p:sp>
        <p:nvSpPr>
          <p:cNvPr id="345" name="Pfeil nach rechts 4"/>
          <p:cNvSpPr/>
          <p:nvPr/>
        </p:nvSpPr>
        <p:spPr>
          <a:xfrm>
            <a:off x="4689360" y="5896080"/>
            <a:ext cx="1081080" cy="433440"/>
          </a:xfrm>
          <a:prstGeom prst="rightArrow">
            <a:avLst>
              <a:gd name="adj1" fmla="val 50000"/>
              <a:gd name="adj2" fmla="val 49849"/>
            </a:avLst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feld 5"/>
          <p:cNvSpPr/>
          <p:nvPr/>
        </p:nvSpPr>
        <p:spPr>
          <a:xfrm>
            <a:off x="5994360" y="5646600"/>
            <a:ext cx="406872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Error correlation length of the model of 55 km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Gruppieren 2"/>
          <p:cNvGrpSpPr/>
          <p:nvPr/>
        </p:nvGrpSpPr>
        <p:grpSpPr>
          <a:xfrm>
            <a:off x="1662120" y="1789200"/>
            <a:ext cx="5727600" cy="3273480"/>
            <a:chOff x="1662120" y="1789200"/>
            <a:chExt cx="5727600" cy="3273480"/>
          </a:xfrm>
        </p:grpSpPr>
        <p:pic>
          <p:nvPicPr>
            <p:cNvPr id="348" name="Picture 2" descr="C:\Users\schulzj\AppData\Local\Temp\fl2jklbi.2eh.png"/>
            <p:cNvPicPr/>
            <p:nvPr/>
          </p:nvPicPr>
          <p:blipFill>
            <a:blip r:embed="rId2"/>
            <a:srcRect l="0" t="0" r="34056" b="0"/>
            <a:stretch/>
          </p:blipFill>
          <p:spPr>
            <a:xfrm>
              <a:off x="1662120" y="1789200"/>
              <a:ext cx="5400720" cy="305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Rechteck 1"/>
            <p:cNvSpPr/>
            <p:nvPr/>
          </p:nvSpPr>
          <p:spPr>
            <a:xfrm>
              <a:off x="6813720" y="2903400"/>
              <a:ext cx="576000" cy="21592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09280" y="252000"/>
            <a:ext cx="676764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25AC9257-62C5-410D-A13D-D98A5A123650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feld 4"/>
          <p:cNvSpPr/>
          <p:nvPr/>
        </p:nvSpPr>
        <p:spPr>
          <a:xfrm>
            <a:off x="128520" y="1692360"/>
            <a:ext cx="104713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Introduced „truth“  vector t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de-DE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deal with coastal gradients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Estimated uncertainties of error parameters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de-DE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deal with small sample sizes 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S3A altimeter wave height biased high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Insitu wave data have smallest stochastic errors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More data needed to make results more robust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feld 1"/>
          <p:cNvSpPr/>
          <p:nvPr/>
        </p:nvSpPr>
        <p:spPr>
          <a:xfrm>
            <a:off x="34920" y="1116000"/>
            <a:ext cx="1056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Contribution to error analysis of coastal data sets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99AC7023-EC20-405E-975C-1978CCD485D7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2" descr="C:\Users\schulzj\AppData\Local\Temp\worzznc1.r1o.png"/>
          <p:cNvPicPr/>
          <p:nvPr/>
        </p:nvPicPr>
        <p:blipFill>
          <a:blip r:embed="rId1"/>
          <a:stretch/>
        </p:blipFill>
        <p:spPr>
          <a:xfrm>
            <a:off x="1530360" y="1212840"/>
            <a:ext cx="4824360" cy="59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3280" y="324000"/>
            <a:ext cx="6767640" cy="5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Multi-collocat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F65D560C-C218-497F-9CE6-1C103E94A1EB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2" descr="C:\Users\schulzj\AppData\Local\Temp\5rl021mr.nzl.png"/>
          <p:cNvPicPr/>
          <p:nvPr/>
        </p:nvPicPr>
        <p:blipFill>
          <a:blip r:embed="rId1"/>
          <a:stretch/>
        </p:blipFill>
        <p:spPr>
          <a:xfrm>
            <a:off x="522360" y="2197080"/>
            <a:ext cx="9186840" cy="2354400"/>
          </a:xfrm>
          <a:prstGeom prst="rect">
            <a:avLst/>
          </a:prstGeom>
          <a:ln w="0">
            <a:noFill/>
          </a:ln>
        </p:spPr>
      </p:pic>
      <p:cxnSp>
        <p:nvCxnSpPr>
          <p:cNvPr id="360" name="Gerade Verbindung mit Pfeil 4"/>
          <p:cNvCxnSpPr/>
          <p:nvPr/>
        </p:nvCxnSpPr>
        <p:spPr>
          <a:xfrm flipV="1">
            <a:off x="5346360" y="3636720"/>
            <a:ext cx="1080" cy="2154960"/>
          </a:xfrm>
          <a:prstGeom prst="straightConnector1">
            <a:avLst/>
          </a:prstGeom>
          <a:ln w="66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1" name="Textfeld 6"/>
          <p:cNvSpPr/>
          <p:nvPr/>
        </p:nvSpPr>
        <p:spPr>
          <a:xfrm>
            <a:off x="3772080" y="5991120"/>
            <a:ext cx="326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Truth“ t is a vector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Mean calibration fa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C12BC87A-39EE-48B6-B6EB-529B3EFBC14C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6" descr="C:\Users\schulzj\AppData\Local\Temp\exmeefwd.er5.png"/>
          <p:cNvPicPr/>
          <p:nvPr/>
        </p:nvPicPr>
        <p:blipFill>
          <a:blip r:embed="rId1"/>
          <a:stretch/>
        </p:blipFill>
        <p:spPr>
          <a:xfrm>
            <a:off x="450720" y="2268360"/>
            <a:ext cx="6570720" cy="107964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2" descr="C:\Users\schulzj\AppData\Local\Temp\bmb1db2m.mjl.png"/>
          <p:cNvPicPr/>
          <p:nvPr/>
        </p:nvPicPr>
        <p:blipFill>
          <a:blip r:embed="rId2"/>
          <a:stretch/>
        </p:blipFill>
        <p:spPr>
          <a:xfrm>
            <a:off x="720720" y="3637080"/>
            <a:ext cx="642924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Foliennummernplatzhalter 1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C34784D1-ED4C-43D3-B016-DEC911554CB3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feld 2"/>
          <p:cNvSpPr/>
          <p:nvPr/>
        </p:nvSpPr>
        <p:spPr>
          <a:xfrm>
            <a:off x="615240" y="177840"/>
            <a:ext cx="440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400" spc="-1" strike="noStrike">
                <a:solidFill>
                  <a:srgbClr val="000000"/>
                </a:solidFill>
                <a:latin typeface="Arial"/>
              </a:rPr>
              <a:t>General Problem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feld 3"/>
          <p:cNvSpPr/>
          <p:nvPr/>
        </p:nvSpPr>
        <p:spPr>
          <a:xfrm>
            <a:off x="1073160" y="2774880"/>
            <a:ext cx="374328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x   =  t + </a:t>
            </a:r>
            <a:r>
              <a:rPr b="0" i="1" lang="el-GR" sz="32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i="1" lang="de-DE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y   =  t + </a:t>
            </a:r>
            <a:r>
              <a:rPr b="0" i="1" lang="el-GR" sz="32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i="1" lang="de-DE" sz="3200" spc="-1" strike="noStrike" baseline="-25000">
                <a:solidFill>
                  <a:srgbClr val="000000"/>
                </a:solidFill>
                <a:latin typeface="Arial"/>
              </a:rPr>
              <a:t>y 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feld 4"/>
          <p:cNvSpPr/>
          <p:nvPr/>
        </p:nvSpPr>
        <p:spPr>
          <a:xfrm>
            <a:off x="1197360" y="5243400"/>
            <a:ext cx="617472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∇  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= &lt;(x-y)</a:t>
            </a:r>
            <a:r>
              <a:rPr b="0" i="1" lang="de-DE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&gt; = &lt;(</a:t>
            </a:r>
            <a:r>
              <a:rPr b="0" i="1" lang="el-GR" sz="36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i="1" lang="de-DE" sz="36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de-DE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i="1" lang="de-DE" sz="36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+ &lt;(</a:t>
            </a:r>
            <a:r>
              <a:rPr b="0" i="1" lang="el-GR" sz="36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i="1" lang="de-DE" sz="36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de-DE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feld 5"/>
          <p:cNvSpPr/>
          <p:nvPr/>
        </p:nvSpPr>
        <p:spPr>
          <a:xfrm>
            <a:off x="506880" y="1459080"/>
            <a:ext cx="9259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Two data sets x,y for the same physical parameter</a:t>
            </a:r>
            <a:br>
              <a:rPr sz="3200"/>
            </a:b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with „truth“ t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feld 6"/>
          <p:cNvSpPr/>
          <p:nvPr/>
        </p:nvSpPr>
        <p:spPr>
          <a:xfrm>
            <a:off x="486000" y="4059360"/>
            <a:ext cx="819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Statistics on difference (errors uncorrelated) 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feld 7"/>
          <p:cNvSpPr/>
          <p:nvPr/>
        </p:nvSpPr>
        <p:spPr>
          <a:xfrm>
            <a:off x="490320" y="6134040"/>
            <a:ext cx="90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It is not possible to estimate the errors for x and y</a:t>
            </a:r>
            <a:br>
              <a:rPr sz="3200"/>
            </a:b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separately 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0A6B6216-1308-4379-BCE6-50BFF5238E14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2" descr="C:\Users\schulzj\AppData\Local\Temp\2pq5ruvj.osz.png"/>
          <p:cNvPicPr/>
          <p:nvPr/>
        </p:nvPicPr>
        <p:blipFill>
          <a:blip r:embed="rId1"/>
          <a:stretch/>
        </p:blipFill>
        <p:spPr>
          <a:xfrm>
            <a:off x="-15840" y="2190600"/>
            <a:ext cx="10725120" cy="472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DBCC18BE-8A37-42D2-BCA5-7D30258187EC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2" descr="C:\Users\schulzj\AppData\Local\Temp\j25n1amo.g23.png"/>
          <p:cNvPicPr/>
          <p:nvPr/>
        </p:nvPicPr>
        <p:blipFill>
          <a:blip r:embed="rId1"/>
          <a:stretch/>
        </p:blipFill>
        <p:spPr>
          <a:xfrm>
            <a:off x="339840" y="1393920"/>
            <a:ext cx="9582120" cy="59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997220F0-444A-4F13-994C-58253BF3D65C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2" descr="C:\Users\schulzj\AppData\Local\Temp\qzhyqq3f.ekn.png"/>
          <p:cNvPicPr/>
          <p:nvPr/>
        </p:nvPicPr>
        <p:blipFill>
          <a:blip r:embed="rId1"/>
          <a:stretch/>
        </p:blipFill>
        <p:spPr>
          <a:xfrm>
            <a:off x="1386000" y="1189080"/>
            <a:ext cx="6337080" cy="60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63200" y="324000"/>
            <a:ext cx="6767640" cy="5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Triple Collocation so far ..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DAAE1BC1-535E-4DD5-AF22-681CE4CFAE00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feld 3"/>
          <p:cNvSpPr/>
          <p:nvPr/>
        </p:nvSpPr>
        <p:spPr>
          <a:xfrm>
            <a:off x="942840" y="1565280"/>
            <a:ext cx="583272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x = t + </a:t>
            </a:r>
            <a:r>
              <a:rPr b="0" i="1" lang="el-GR" sz="36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i="1" lang="de-DE" sz="36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0" i="1" lang="el-GR" sz="36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i="1" lang="de-DE" sz="36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 t + </a:t>
            </a:r>
            <a:r>
              <a:rPr b="0" i="1" lang="el-GR" sz="36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i="1" lang="de-DE" sz="3600" spc="-1" strike="noStrike" baseline="-25000">
                <a:solidFill>
                  <a:srgbClr val="000000"/>
                </a:solidFill>
                <a:latin typeface="Arial"/>
              </a:rPr>
              <a:t>y 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+ b</a:t>
            </a:r>
            <a:r>
              <a:rPr b="0" i="1" lang="de-DE" sz="36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z = </a:t>
            </a:r>
            <a:r>
              <a:rPr b="0" i="1" lang="el-GR" sz="36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i="1" lang="de-DE" sz="36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 t + </a:t>
            </a:r>
            <a:r>
              <a:rPr b="0" i="1" lang="el-GR" sz="36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i="1" lang="de-DE" sz="36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0" i="1" lang="de-DE" sz="36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feld 5"/>
          <p:cNvSpPr/>
          <p:nvPr/>
        </p:nvSpPr>
        <p:spPr>
          <a:xfrm>
            <a:off x="6566400" y="2165400"/>
            <a:ext cx="303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without calibratio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hteck 7"/>
          <p:cNvSpPr/>
          <p:nvPr/>
        </p:nvSpPr>
        <p:spPr>
          <a:xfrm>
            <a:off x="600120" y="1324080"/>
            <a:ext cx="9515520" cy="2189160"/>
          </a:xfrm>
          <a:prstGeom prst="rect">
            <a:avLst/>
          </a:pr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feld 8"/>
          <p:cNvSpPr/>
          <p:nvPr/>
        </p:nvSpPr>
        <p:spPr>
          <a:xfrm>
            <a:off x="94320" y="6805440"/>
            <a:ext cx="989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Ref: Janssen et al., 2007,  Stoffelen et al., 1998, Caires and Sterl, 2008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feld 9"/>
          <p:cNvSpPr/>
          <p:nvPr/>
        </p:nvSpPr>
        <p:spPr>
          <a:xfrm>
            <a:off x="4479840" y="3267000"/>
            <a:ext cx="605160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b0f0"/>
                </a:solidFill>
                <a:latin typeface="Arial"/>
              </a:rPr>
              <a:t>The „truth“ t is a single number !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feld 1"/>
          <p:cNvSpPr/>
          <p:nvPr/>
        </p:nvSpPr>
        <p:spPr>
          <a:xfrm>
            <a:off x="23760" y="5869080"/>
            <a:ext cx="10669680" cy="5814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Data set of collocated x,y,z  =&gt;  estimate error parameter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feld 1"/>
          <p:cNvSpPr/>
          <p:nvPr/>
        </p:nvSpPr>
        <p:spPr>
          <a:xfrm>
            <a:off x="3395520" y="1644480"/>
            <a:ext cx="241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Reference Data Se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feld 2"/>
          <p:cNvSpPr/>
          <p:nvPr/>
        </p:nvSpPr>
        <p:spPr>
          <a:xfrm>
            <a:off x="1108080" y="4143240"/>
            <a:ext cx="5442120" cy="17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2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i="1" lang="de-DE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l-GR" sz="32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i="1" lang="de-DE" sz="32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l-GR" sz="32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i="1" lang="de-DE" sz="3200" spc="-1" strike="noStrike" baseline="-25000">
                <a:solidFill>
                  <a:srgbClr val="000000"/>
                </a:solidFill>
                <a:latin typeface="Arial"/>
              </a:rPr>
              <a:t>z         </a:t>
            </a: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: stochastic error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2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i="1" lang="de-DE" sz="3200" spc="-1" strike="noStrike" baseline="-25000">
                <a:solidFill>
                  <a:srgbClr val="000000"/>
                </a:solidFill>
                <a:latin typeface="Arial"/>
              </a:rPr>
              <a:t>y,</a:t>
            </a:r>
            <a:r>
              <a:rPr b="0" i="1" lang="el-GR" sz="3200" spc="-1" strike="noStrike">
                <a:solidFill>
                  <a:srgbClr val="000000"/>
                </a:solidFill>
                <a:latin typeface="Arial"/>
              </a:rPr>
              <a:t> λ</a:t>
            </a:r>
            <a:r>
              <a:rPr b="0" i="1" lang="de-DE" sz="3200" spc="-1" strike="noStrike" baseline="-25000">
                <a:solidFill>
                  <a:srgbClr val="000000"/>
                </a:solidFill>
                <a:latin typeface="Arial"/>
              </a:rPr>
              <a:t>z, </a:t>
            </a: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de-DE" sz="32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,b</a:t>
            </a:r>
            <a:r>
              <a:rPr b="0" i="1" lang="de-DE" sz="3200" spc="-1" strike="noStrike" baseline="-25000">
                <a:solidFill>
                  <a:srgbClr val="000000"/>
                </a:solidFill>
                <a:latin typeface="Arial"/>
              </a:rPr>
              <a:t>z   </a:t>
            </a: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: systematic error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66360" y="324000"/>
            <a:ext cx="6767640" cy="5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New compon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5F9B9C15-9C6F-4963-8F03-6489103EF07E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feld 3"/>
          <p:cNvSpPr/>
          <p:nvPr/>
        </p:nvSpPr>
        <p:spPr>
          <a:xfrm>
            <a:off x="90360" y="2484360"/>
            <a:ext cx="10441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Introduce „truth“  vector t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de-DE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- Deal with coastal gradients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- Observations never perfectly collocated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Estimate uncertainties of error parameters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de-DE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- Deal with small sample sizes 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- Assessment of new systems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4600" y="266760"/>
            <a:ext cx="6767640" cy="5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Extension of „truth“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CD0B7C96-C0E8-4BEC-9C81-037E22BF39C5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Gerader Verbinder 4"/>
          <p:cNvSpPr/>
          <p:nvPr/>
        </p:nvSpPr>
        <p:spPr>
          <a:xfrm>
            <a:off x="738360" y="2548080"/>
            <a:ext cx="2232000" cy="0"/>
          </a:xfrm>
          <a:prstGeom prst="line">
            <a:avLst/>
          </a:prstGeom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feld 5"/>
          <p:cNvSpPr/>
          <p:nvPr/>
        </p:nvSpPr>
        <p:spPr>
          <a:xfrm>
            <a:off x="809640" y="1893960"/>
            <a:ext cx="4334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feld 6"/>
          <p:cNvSpPr/>
          <p:nvPr/>
        </p:nvSpPr>
        <p:spPr>
          <a:xfrm>
            <a:off x="1314360" y="2548080"/>
            <a:ext cx="432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5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feld 7"/>
          <p:cNvSpPr/>
          <p:nvPr/>
        </p:nvSpPr>
        <p:spPr>
          <a:xfrm>
            <a:off x="1782360" y="20430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4" name="Gerade Verbindung mit Pfeil 11"/>
          <p:cNvCxnSpPr/>
          <p:nvPr/>
        </p:nvCxnSpPr>
        <p:spPr>
          <a:xfrm>
            <a:off x="738000" y="3708000"/>
            <a:ext cx="3456360" cy="1080"/>
          </a:xfrm>
          <a:prstGeom prst="straightConnector1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Gerade Verbindung mit Pfeil 13"/>
          <p:cNvCxnSpPr/>
          <p:nvPr/>
        </p:nvCxnSpPr>
        <p:spPr>
          <a:xfrm flipV="1">
            <a:off x="738000" y="1874160"/>
            <a:ext cx="22680" cy="1826280"/>
          </a:xfrm>
          <a:prstGeom prst="straightConnector1">
            <a:avLst/>
          </a:prstGeom>
          <a:ln w="60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6" name="Textfeld 15"/>
          <p:cNvSpPr/>
          <p:nvPr/>
        </p:nvSpPr>
        <p:spPr>
          <a:xfrm>
            <a:off x="3507480" y="3801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pace </a:t>
            </a:r>
            <a:r>
              <a:rPr b="0" i="1" lang="el-GR" sz="1600" spc="-1" strike="noStrike">
                <a:solidFill>
                  <a:srgbClr val="000000"/>
                </a:solidFill>
                <a:latin typeface="Arial"/>
              </a:rPr>
              <a:t>ξ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feld 16"/>
          <p:cNvSpPr/>
          <p:nvPr/>
        </p:nvSpPr>
        <p:spPr>
          <a:xfrm>
            <a:off x="135720" y="2316240"/>
            <a:ext cx="5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y=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Gerader Verbinder 17"/>
          <p:cNvSpPr/>
          <p:nvPr/>
        </p:nvSpPr>
        <p:spPr>
          <a:xfrm>
            <a:off x="6499080" y="5292720"/>
            <a:ext cx="2016360" cy="668520"/>
          </a:xfrm>
          <a:prstGeom prst="line">
            <a:avLst/>
          </a:prstGeom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feld 18"/>
          <p:cNvSpPr/>
          <p:nvPr/>
        </p:nvSpPr>
        <p:spPr>
          <a:xfrm>
            <a:off x="6570720" y="4846680"/>
            <a:ext cx="431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feld 19"/>
          <p:cNvSpPr/>
          <p:nvPr/>
        </p:nvSpPr>
        <p:spPr>
          <a:xfrm>
            <a:off x="7075440" y="5500800"/>
            <a:ext cx="432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5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feld 20"/>
          <p:cNvSpPr/>
          <p:nvPr/>
        </p:nvSpPr>
        <p:spPr>
          <a:xfrm>
            <a:off x="7542720" y="49957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2" name="Gerade Verbindung mit Pfeil 21"/>
          <p:cNvCxnSpPr/>
          <p:nvPr/>
        </p:nvCxnSpPr>
        <p:spPr>
          <a:xfrm>
            <a:off x="6499080" y="6660720"/>
            <a:ext cx="3456720" cy="1080"/>
          </a:xfrm>
          <a:prstGeom prst="straightConnector1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Gerade Verbindung mit Pfeil 22"/>
          <p:cNvCxnSpPr/>
          <p:nvPr/>
        </p:nvCxnSpPr>
        <p:spPr>
          <a:xfrm flipV="1">
            <a:off x="6499080" y="4826880"/>
            <a:ext cx="23040" cy="1824840"/>
          </a:xfrm>
          <a:prstGeom prst="straightConnector1">
            <a:avLst/>
          </a:prstGeom>
          <a:ln w="60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Textfeld 23"/>
          <p:cNvSpPr/>
          <p:nvPr/>
        </p:nvSpPr>
        <p:spPr>
          <a:xfrm>
            <a:off x="9272520" y="675468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pace </a:t>
            </a:r>
            <a:r>
              <a:rPr b="0" i="1" lang="el-GR" sz="1600" spc="-1" strike="noStrike">
                <a:solidFill>
                  <a:srgbClr val="000000"/>
                </a:solidFill>
                <a:latin typeface="Arial"/>
              </a:rPr>
              <a:t>ξ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feld 24"/>
          <p:cNvSpPr/>
          <p:nvPr/>
        </p:nvSpPr>
        <p:spPr>
          <a:xfrm>
            <a:off x="8532000" y="5202360"/>
            <a:ext cx="162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y = t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feld 29"/>
          <p:cNvSpPr/>
          <p:nvPr/>
        </p:nvSpPr>
        <p:spPr>
          <a:xfrm>
            <a:off x="379800" y="1692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feld 30"/>
          <p:cNvSpPr/>
          <p:nvPr/>
        </p:nvSpPr>
        <p:spPr>
          <a:xfrm>
            <a:off x="4719960" y="1430280"/>
            <a:ext cx="365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+, *, o :  data sources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Textfeld 1" descr=""/>
          <p:cNvPicPr/>
          <p:nvPr/>
        </p:nvPicPr>
        <p:blipFill>
          <a:blip r:embed="rId1"/>
          <a:stretch/>
        </p:blipFill>
        <p:spPr>
          <a:xfrm>
            <a:off x="8369280" y="4108320"/>
            <a:ext cx="1908360" cy="901800"/>
          </a:xfrm>
          <a:prstGeom prst="rect">
            <a:avLst/>
          </a:prstGeom>
          <a:ln w="0">
            <a:noFill/>
          </a:ln>
        </p:spPr>
      </p:pic>
      <p:sp>
        <p:nvSpPr>
          <p:cNvPr id="269" name="Textfeld 2"/>
          <p:cNvSpPr/>
          <p:nvPr/>
        </p:nvSpPr>
        <p:spPr>
          <a:xfrm>
            <a:off x="236520" y="5522760"/>
            <a:ext cx="4956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Can be interpreted as Taylor expansion terms of „truth“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hteck 17"/>
          <p:cNvSpPr/>
          <p:nvPr/>
        </p:nvSpPr>
        <p:spPr>
          <a:xfrm>
            <a:off x="5923080" y="2165400"/>
            <a:ext cx="4626000" cy="379404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98600" y="25200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Possible Configur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BFBC36D7-911B-4354-BD3D-7A3905489175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2" descr="C:\Users\schulzj\AppData\Local\Temp\mryllxht.chm.png"/>
          <p:cNvPicPr/>
          <p:nvPr/>
        </p:nvPicPr>
        <p:blipFill>
          <a:blip r:embed="rId1"/>
          <a:stretch/>
        </p:blipFill>
        <p:spPr>
          <a:xfrm>
            <a:off x="324000" y="2602080"/>
            <a:ext cx="4154400" cy="1009440"/>
          </a:xfrm>
          <a:prstGeom prst="rect">
            <a:avLst/>
          </a:prstGeom>
          <a:ln w="0">
            <a:noFill/>
          </a:ln>
        </p:spPr>
      </p:pic>
      <p:grpSp>
        <p:nvGrpSpPr>
          <p:cNvPr id="274" name="Gruppieren 5"/>
          <p:cNvGrpSpPr/>
          <p:nvPr/>
        </p:nvGrpSpPr>
        <p:grpSpPr>
          <a:xfrm>
            <a:off x="139680" y="4314960"/>
            <a:ext cx="5543640" cy="2590560"/>
            <a:chOff x="139680" y="4314960"/>
            <a:chExt cx="5543640" cy="2590560"/>
          </a:xfrm>
        </p:grpSpPr>
        <p:pic>
          <p:nvPicPr>
            <p:cNvPr id="275" name="Picture 2" descr="C:\Users\schulzj\AppData\Local\Temp\3vgq1wse.fzy.png"/>
            <p:cNvPicPr/>
            <p:nvPr/>
          </p:nvPicPr>
          <p:blipFill>
            <a:blip r:embed="rId2"/>
            <a:stretch/>
          </p:blipFill>
          <p:spPr>
            <a:xfrm>
              <a:off x="139680" y="4314960"/>
              <a:ext cx="5543640" cy="25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Textfeld 3"/>
            <p:cNvSpPr/>
            <p:nvPr/>
          </p:nvSpPr>
          <p:spPr>
            <a:xfrm>
              <a:off x="3090960" y="5416560"/>
              <a:ext cx="307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Gerader Verbinder 7"/>
          <p:cNvSpPr/>
          <p:nvPr/>
        </p:nvSpPr>
        <p:spPr>
          <a:xfrm>
            <a:off x="6629400" y="3860640"/>
            <a:ext cx="2016000" cy="668520"/>
          </a:xfrm>
          <a:prstGeom prst="line">
            <a:avLst/>
          </a:prstGeom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feld 8"/>
          <p:cNvSpPr/>
          <p:nvPr/>
        </p:nvSpPr>
        <p:spPr>
          <a:xfrm>
            <a:off x="6702480" y="3414600"/>
            <a:ext cx="566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feld 9"/>
          <p:cNvSpPr/>
          <p:nvPr/>
        </p:nvSpPr>
        <p:spPr>
          <a:xfrm>
            <a:off x="7418520" y="4299120"/>
            <a:ext cx="4316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feld 10"/>
          <p:cNvSpPr/>
          <p:nvPr/>
        </p:nvSpPr>
        <p:spPr>
          <a:xfrm>
            <a:off x="8367120" y="4102200"/>
            <a:ext cx="48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1" name="Gerade Verbindung mit Pfeil 11"/>
          <p:cNvCxnSpPr/>
          <p:nvPr/>
        </p:nvCxnSpPr>
        <p:spPr>
          <a:xfrm>
            <a:off x="6629400" y="5229000"/>
            <a:ext cx="3458160" cy="1080"/>
          </a:xfrm>
          <a:prstGeom prst="straightConnector1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Gerade Verbindung mit Pfeil 12"/>
          <p:cNvCxnSpPr/>
          <p:nvPr/>
        </p:nvCxnSpPr>
        <p:spPr>
          <a:xfrm flipV="1">
            <a:off x="6629400" y="3394800"/>
            <a:ext cx="23040" cy="1824840"/>
          </a:xfrm>
          <a:prstGeom prst="straightConnector1">
            <a:avLst/>
          </a:prstGeom>
          <a:ln w="60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3" name="Textfeld 13"/>
          <p:cNvSpPr/>
          <p:nvPr/>
        </p:nvSpPr>
        <p:spPr>
          <a:xfrm>
            <a:off x="9398160" y="5322960"/>
            <a:ext cx="91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pace x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feld 14"/>
          <p:cNvSpPr/>
          <p:nvPr/>
        </p:nvSpPr>
        <p:spPr>
          <a:xfrm>
            <a:off x="8682120" y="3149640"/>
            <a:ext cx="1637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y = t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+ x t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feld 6"/>
          <p:cNvSpPr/>
          <p:nvPr/>
        </p:nvSpPr>
        <p:spPr>
          <a:xfrm>
            <a:off x="6782400" y="4068720"/>
            <a:ext cx="59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feld 16"/>
          <p:cNvSpPr/>
          <p:nvPr/>
        </p:nvSpPr>
        <p:spPr>
          <a:xfrm>
            <a:off x="7997400" y="3784680"/>
            <a:ext cx="59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feld 15"/>
          <p:cNvSpPr/>
          <p:nvPr/>
        </p:nvSpPr>
        <p:spPr>
          <a:xfrm>
            <a:off x="6235920" y="33084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feld 18"/>
          <p:cNvSpPr/>
          <p:nvPr/>
        </p:nvSpPr>
        <p:spPr>
          <a:xfrm>
            <a:off x="6303240" y="227484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1D Cas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feld 1"/>
          <p:cNvSpPr/>
          <p:nvPr/>
        </p:nvSpPr>
        <p:spPr>
          <a:xfrm>
            <a:off x="221040" y="1627200"/>
            <a:ext cx="538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Number of variances and covariances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one can estimate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22360" y="25200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rror bars for estimated err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B76997F0-8938-4EB9-AA23-1D76904CB5F5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feld 3"/>
          <p:cNvSpPr/>
          <p:nvPr/>
        </p:nvSpPr>
        <p:spPr>
          <a:xfrm>
            <a:off x="514440" y="2197080"/>
            <a:ext cx="4752720" cy="947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Estimated covariance matrix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of input data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feld 4"/>
          <p:cNvSpPr/>
          <p:nvPr/>
        </p:nvSpPr>
        <p:spPr>
          <a:xfrm>
            <a:off x="5699160" y="2411280"/>
            <a:ext cx="380340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Number of collocation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feld 5"/>
          <p:cNvSpPr/>
          <p:nvPr/>
        </p:nvSpPr>
        <p:spPr>
          <a:xfrm>
            <a:off x="2682720" y="5221440"/>
            <a:ext cx="5977080" cy="17398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Error bars for stochastic error variances and covariance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Error bars for systematic calibration error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5" name="Gerade Verbindung mit Pfeil 7"/>
          <p:cNvCxnSpPr/>
          <p:nvPr/>
        </p:nvCxnSpPr>
        <p:spPr>
          <a:xfrm>
            <a:off x="3904920" y="3150720"/>
            <a:ext cx="1654920" cy="1855080"/>
          </a:xfrm>
          <a:prstGeom prst="straightConnector1">
            <a:avLst/>
          </a:prstGeom>
          <a:ln w="92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" name="Gerade Verbindung mit Pfeil 8"/>
          <p:cNvCxnSpPr>
            <a:stCxn id="293" idx="2"/>
          </p:cNvCxnSpPr>
          <p:nvPr/>
        </p:nvCxnSpPr>
        <p:spPr>
          <a:xfrm flipH="1">
            <a:off x="5678280" y="2935440"/>
            <a:ext cx="1923120" cy="2070720"/>
          </a:xfrm>
          <a:prstGeom prst="straightConnector1">
            <a:avLst/>
          </a:prstGeom>
          <a:ln w="92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25640" y="29808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Triple Collocation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E17BCF1A-F0B3-43F5-9015-D582F2BE5640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Grafik 3" descr=""/>
          <p:cNvPicPr/>
          <p:nvPr/>
        </p:nvPicPr>
        <p:blipFill>
          <a:blip r:embed="rId1"/>
          <a:stretch/>
        </p:blipFill>
        <p:spPr>
          <a:xfrm>
            <a:off x="522360" y="1176480"/>
            <a:ext cx="5046480" cy="6132240"/>
          </a:xfrm>
          <a:prstGeom prst="rect">
            <a:avLst/>
          </a:prstGeom>
          <a:ln w="0">
            <a:noFill/>
          </a:ln>
        </p:spPr>
      </p:pic>
      <p:sp>
        <p:nvSpPr>
          <p:cNvPr id="300" name="Textfeld 1"/>
          <p:cNvSpPr/>
          <p:nvPr/>
        </p:nvSpPr>
        <p:spPr>
          <a:xfrm>
            <a:off x="5962680" y="3595680"/>
            <a:ext cx="4824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Data Sets: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WAM run with ERA5 meteo forc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SENTINEL-3a RDSAR altimeter data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GTS buoy data 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feld 2"/>
          <p:cNvSpPr/>
          <p:nvPr/>
        </p:nvSpPr>
        <p:spPr>
          <a:xfrm>
            <a:off x="6031080" y="1638360"/>
            <a:ext cx="421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Analysed Period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pril 2016 – August 2017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2" descr="C:\Users\schulzj\AppData\Local\Temp\j25n1amo.g23.png"/>
          <p:cNvPicPr/>
          <p:nvPr/>
        </p:nvPicPr>
        <p:blipFill>
          <a:blip r:embed="rId2"/>
          <a:srcRect l="3464" t="0" r="50646" b="17229"/>
          <a:stretch/>
        </p:blipFill>
        <p:spPr>
          <a:xfrm>
            <a:off x="160200" y="1185840"/>
            <a:ext cx="5508720" cy="61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9F90CCDF-E311-4682-8EC6-7BFCEBA8A90D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2" descr="C:\Users\schulzj\AppData\Local\Temp\1d2yzcxw.jly.png"/>
          <p:cNvPicPr/>
          <p:nvPr/>
        </p:nvPicPr>
        <p:blipFill>
          <a:blip r:embed="rId1"/>
          <a:stretch/>
        </p:blipFill>
        <p:spPr>
          <a:xfrm>
            <a:off x="0" y="1598760"/>
            <a:ext cx="10531440" cy="53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7T08:55:07Z</dcterms:created>
  <dc:creator>Dzaak</dc:creator>
  <dc:description>Template: 2010-10-14</dc:description>
  <dc:language>en-US</dc:language>
  <cp:lastModifiedBy>Schulz-Stellenfleth,  Johannes</cp:lastModifiedBy>
  <dcterms:modified xsi:type="dcterms:W3CDTF">2018-11-19T14:24:34Z</dcterms:modified>
  <cp:revision>639</cp:revision>
  <dc:subject/>
  <dc:title>Occasion</dc:title>
</cp:coreProperties>
</file>