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175BD8E-D2F9-4D46-99BF-82FE7B5D1D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4364988-232F-4CA9-9C19-48E392EC3B5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433F56C2-6714-4A3C-984F-ABB3A8AFD5F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15B9C1F9-F365-4692-B0C5-3F0C3C0F854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1E0CC80F-4990-4CEC-8A98-0E33B0DB956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315D3F1B-FABC-4C1C-93BF-B36D4CE2201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6536E969-3095-4BCA-9801-2128C9AC035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C638B8F0-E391-490F-812C-E8D6297BE75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F7C9B168-1540-43FD-ABC3-F4EF7AA61AA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0EB193E4-541A-4D05-BF56-FFC114CBEBB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48E73EB6-6598-45D7-BFF9-38BAC6BE2FF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C31CCC-C296-4CCB-95F7-D659640CCF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5188582-B69B-47D0-B88F-7838A1EBAE3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C30A52-DDD2-4C8E-A920-5B98C923BBC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2312D3-BF5E-4F08-91D7-D4C9C2AC7FE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B13209-2A4D-4E51-AABC-C088D48CEDF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212642-39AF-4166-BDE8-896275240DD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34ED3D-C5F9-46D2-81BA-8E81BFC9564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CD3E10-4550-4E2A-A5C1-5ABD3EFA75A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A9FA07-9725-4F80-99FF-8137E3FCFF6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06E5F5-BDB3-4DA2-9BF9-6B0B31BDB5B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99C8E5-ECF4-4F1E-AC41-684DE579204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C193B3-FA8F-4EDD-BA54-38F725E31F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2DC7505-6603-47E8-B3FD-E2B2DAB0934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0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367A87-E187-4666-AA5A-62CDEB9D946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93FD67D3-27E8-4407-9764-ACCE667BA7A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86AB681F-6696-4DA8-9EE7-FCB688BBBE7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F7772EF7-67C6-4F12-9DBE-3187573BED1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4865D450-DCF2-4D1D-8224-01576B50BB4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6F504FA0-9B52-4F85-B1E0-CEED87C82A8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1E895E22-1486-4ED0-BC36-119C404FF63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B8AD8330-4F67-41CD-9084-FB8D20FDCCC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F843FC81-AE9E-454F-81B3-DE77009C5FF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21A353E7-E67D-4B22-99B2-F34ABFECA9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78CD3A8-2FEE-4BAD-8918-6690D3CEBCE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8F4BD198-5024-4D30-9C84-661E347E718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6C642FC4-82CE-433D-8E2A-FF96B05AC26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4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B87A5FBD-F470-4248-8D58-D6E7825E76A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42A7A1B-6DA4-4C7B-9C3C-1C60F650A36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5FAF34C-D52B-42A1-AB68-C8666111339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82735C8-78C0-4F56-93E4-F47A2B6EE10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5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D1C0BF6-81A7-4621-A78F-C546A231675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E11B8F5-21C4-428F-AE90-32771208D47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F17306A-1DC8-4677-8D2F-DFF258F5221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E00EB04-82E1-42A9-A873-4568EA706D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060A536-AB2D-4556-9196-EAF3A76858F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0C5365B-7286-4D1A-9C19-DB8E246706D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413FEFA-8959-4879-9AE2-670C20FF29F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2188D89-40D0-4A6C-A554-0B81C1EA09F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75651D1-27E2-4A83-BB70-B398DB9DBE6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8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FB54C30-9828-415C-9787-2825CA173DF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B1164E22-1907-48D9-A711-4F9C9DB8F33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D61A247-29D5-47EF-BCDF-D71919016B1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FD7DEA6-E126-4738-BF49-D7806559B39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A9566D7-20A5-48A6-A373-CA96D79EB37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E7A722F-97A8-4647-B616-EC4AEA354C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05F8C95-787F-448A-BC79-BFA3828FB84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8779706-C580-4BA2-87FC-9A0BF6A678A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39D8104-72CB-4802-8D92-080B5BAC335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495C3F3-FCE3-4B82-9CAA-69DC9240428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74C8EDB-ED7B-46BD-9E79-2CF47EAEAF3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94D5C0D-685D-4833-96D3-01F376204D8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F1EE9214-D1F7-4142-824B-9FA72F0A6D5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3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EC2951E1-95D9-474D-BF28-017745597E1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48BE9FC-DE08-458B-8290-B5D3069E898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12FB3B0-402A-485B-8458-6A2F4762A18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250434D-D16A-45B5-B677-FC505698CD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2B8A06-8640-46EE-B80A-8E7A7779517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36B3461-3EFC-4D64-88FA-8FBD368A0FD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26C116C-2903-4013-99A9-6BD3B633DCB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A7D6611-9B81-48D3-96DC-3D926CF30B4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030F047-D851-4864-B9E6-1A51D7E2FB6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13B8E1E-E9FF-4B22-8888-AA96342BA2C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5F214BD-95B6-450E-BE71-F58B27E0143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5A4BB69-320F-4DF5-B69A-9F76BDE4214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1F89701-C3BA-4938-802A-E35BFD34C39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9610C6E-B9CD-4BBB-80FA-7BC9438E963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1CAD8529-70B3-4DD7-A4BF-22FC7DAD03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9DB419-8802-4865-A7AA-694106E134D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7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97F0C35A-8516-4693-B3F9-8EEAAFD5501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7A32D1F0-146F-4E51-AA5C-5CADFAE61D2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E67E4280-9CDD-4CAE-B028-41E84BD10E3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CC944DC8-A63D-45D8-988D-72B276FD805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AF6A0C40-299E-4F0E-A3CE-84CECA780E7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3C7E99D3-F6B2-4918-BD2B-36A411D2566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B4FBD383-3E2A-4654-8E1E-6099496A5F7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0AF0CFBF-BC3D-4425-9E02-4E4AEFF6D91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6FFE5093-2AEC-40EF-A3D4-3949A812172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BCD35C93-64A1-4231-AF3F-EEA18ED166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C748E48-2213-4419-B571-93DE96D4A52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5CE505AF-32F4-450F-9894-053D7509A31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E1B85BF-A6A4-42C5-B65B-80AFD807B08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1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FE7AB9-B253-4A98-AC25-FC6D97418A9A}"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1B89B3-2B9A-4544-9407-6F6C366F4C42}"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6D8F67-58BB-496F-9766-17C5A46C5DB6}"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E04756-5BDF-492D-A50B-66825BDD56E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6FE507-6277-4EE8-9245-BE80DF545381}"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5991FD-CE86-49F6-922C-32BCF0B956F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08D541-28E7-407C-B909-D670690BEE9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999E55-107B-4097-9ADB-8CFE87F37E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F4F167-463A-4C1E-8DAC-CBF5EB5B0C46}"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F034C7-A925-4571-990E-3532C549D86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3F1D7CF-E902-48D3-B817-ABB7C2F45CD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211663F-5C55-4F1D-86AE-EA4E5A342F2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4EF47832-B16F-4A19-A539-2EBD1945BE6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118E397B-0092-40A2-ADA5-D1491E0E89E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8C33AE0D-B5A8-41C9-95B0-9C4F42AE0DF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682E91B7-4801-4559-B2F4-6BDF9F20983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303AA8BB-0B69-4E72-BD62-87E9D661002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20C4D28E-F626-460B-A796-088813FDFEE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AD90E92B-0868-4348-B921-F6BA08206B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93B1960-8DFC-4405-97BE-C102BB9478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34E683-A8B0-4925-8C87-702391D24E7F}"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34D9B82E-5438-4BDC-9AC4-EA7D8B0CC8E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0D157304-89ED-4425-9774-07C594C710F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31F389F4-4F01-4E68-98B6-C7648519855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B6B005C0-9145-4268-89CD-62DBAE48C88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7D16857D-0BC4-4272-A104-9B125AA4898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181B948-B6CB-43CB-8AA1-BA37FA89418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5EF91A3-C724-476A-8D8A-D0A3FA46EA9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C4AA4D2-EC98-4153-BDB9-B92B6E71FEF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0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656CFB1-5211-4B2F-9AEC-0EBF5477AAC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15C9617-74FF-4A12-9881-57B791E7EF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2EE8F4-AF68-469C-8E4D-CC5230940063}"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0FF441E-FA6A-4057-980D-15869EDF4FC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9971448-2492-4539-BC12-9277ED4D885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9388F33-0B0E-4FDC-90EB-CFB4B64FE72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5409994-370D-436F-884E-E7233D6531C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0AD3B58-1683-47B4-9E34-5E4E264A91F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6CD47B0-926E-4DE7-9568-4B21C3E6A3F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6401BE6-11B7-433F-B74E-77790D47D1B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4AB9C96D-69F3-45B6-B01C-C0120E17C0A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07E17211-772B-4402-B1B4-FED16159383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7CC72BDF-04D2-465F-9ADF-CB3E37ADA8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385076-24CC-44B7-AAF0-AB37A309B63C}"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F5BA05F5-F235-422B-8F28-CEE4A43F07B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D72E03CB-A7A2-4B87-B6B5-600D43F9697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AF74F24A-BBB0-4367-925B-32289789D78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85189E9A-EB40-4F50-900B-E79C6D8D79D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3AD2AA8-C7FA-4548-B3C4-9DBAD06AD2A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CAF036A-1653-42A1-84D7-D790788215C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F4D3A8EB-97CD-4003-A7AE-8AE76C3ED07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CEF32CA5-4427-4C4E-BE3D-1A4E2319627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7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C71EAF4E-BE4E-491E-8DA8-2ACB40722CB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0553FAB2-FD64-4F69-A26E-247A178025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7463FAF-06D7-42A0-B6A1-3CDCC3D12D95}"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AFEA34A-72F7-4FE9-93BC-8329CB693AA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F6597ED-3F5A-4191-B8AB-49646A6D42A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38078C0-FCFE-4592-885C-664E958065E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811B15C-E2FB-475F-979B-18A536F9D43A}"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B936539-B814-40B5-9672-7CBFFE9BAE1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87C61CC-CD75-4E1B-944C-B6BF22842D8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5EBD158-FAA5-42E7-A861-87AE2DF4AE9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D918F7D-2297-46B0-A052-8FD70678364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60E4FC6-7BE4-4820-A38C-6016FC3AC46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D2DFB231-E99C-4B92-957F-E13E4CE32F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41BC51E-5314-4F67-A1CE-3F4CED1E8B71}"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1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B7B31D26-9691-4E29-85B9-BD11F8EC2B0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4309869E-0CA9-4C14-BDFC-4E7171D9B94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EB549D43-6F15-4A22-852D-31CE0B6B064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795C5432-76C5-43FD-AF0B-DA79CAC9F23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2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45304C49-F103-4CAC-BBC4-D9888037D45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AE6CA8FE-3BA7-40D7-8F37-48A257572EF0}"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CA0C9467-129A-4B23-89AD-8551AC36671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4A97103C-3B4A-4056-B6A3-205F39ADCF5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A9874B94-9E76-4761-8CE4-EE4587ADB1D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D2A726E7-5BE9-4649-A686-6D734C206FB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2B17F7C1-56F4-4E02-985F-35785468CCB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4DB52C3C-102D-401B-8CDF-DA506CC5967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5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F8457BCE-1D86-4B52-94C7-1F7F0B83F217}"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847B84C-4276-47B2-BC4D-58E4BA267E9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B06A5EA-6B96-490B-8082-1B197C20EB5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98DD0EC-F615-47B4-AFF4-72BC1A3AA75A}"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6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9BF670-F4F9-49A5-8C17-93F4555BAB9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5BFBE96-3E71-4C65-ABD1-631A0B396D2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10F9C8A-5CE4-440F-BC4E-354862638B3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38A4651-9794-4C0B-BD99-8E921CC5CE2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7C0C64-D52B-4468-A69F-CF32DFDAC310}"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1C4402-99F2-45D2-AFE2-DEFA506FA7C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0B7EA54-5BB8-4448-B0C7-43DDFFDC0DF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7A18C1C-D27C-46D5-9155-42B4EA015E5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32A9A79-1FAA-442A-8D55-833623CB465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C682811-2398-4FBA-A832-D5F94C21C49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82E71F6-BBA8-4D46-A57A-5C3DB0CF464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6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A2B2EFA-4BD2-424A-9478-1FE63BF081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D703392-190F-4920-92C4-EEED3356B2C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E96FF9E-BFE4-4152-95C8-7C4204FCCE5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D020D52-CEA4-4355-9198-AB9B31BA91D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DBB5EC1-A089-40B2-8412-39F5EE80F66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AF04C48-DD51-421B-98CA-76D6B14A3D5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0F800E0-623D-4BDF-9E94-D8451F43AC8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423BE93-B223-4E7F-A330-BB3CA8E2A2B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6AEC422-89BC-4D21-AC02-AEEA3F0FD28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7C26D4E-4E85-46CD-AFA8-EF50FFFACA8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D40BE9D-DA98-41AA-B74E-C5D8E0E9ACD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5D79B73-E102-4976-851B-E74E32E887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CEB59A6-DA64-423C-BD2C-972D5B128EC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AE6FA83-2CC6-464D-A54D-CE65D6D783E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6E51BEC-3BD0-4F09-BDE2-F60A9C4DE61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495EF38-2C31-4361-BEDB-0697AF476C6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C2325A0-31D9-4674-9CB0-F0DEC5F0FAD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47B0974-1DA0-446A-A845-D175414D1F3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EDAE60C-FE3D-4EBD-815F-896BDF09D07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B855EE5-556E-4735-9D64-9ED2A939715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D96CCC6-4E66-4C6F-AC0F-64DDA52DE6A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5A43057-B7A4-4322-8642-7510D84FD01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5A8A7A7-EE0D-46A8-A5CD-992DF1AA49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7DF5783-B10B-4B8A-9933-DAD8D453B0C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D5E3913-268F-46E1-BCA8-87D3F3D095D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7550EA6-2ABF-4715-9B49-E1D5DC76EFC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8FD8904-60C5-4EC4-9311-D78D08F29DA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1BFC706-3D6F-418B-B8E5-EC42A8D6C1B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A8F65DC-E0E5-4B50-B119-F6CC5FD4464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6A0567E-C9CF-46F5-8BEA-9B0F04D994D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99D287B-F947-40E7-9009-B01CC09C1FB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1E4EC2C-1065-4CDB-B493-936DB4FD0F0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F6F24CF-F44E-47E0-ADA7-1D1FC16C564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25B7D9-A50B-473D-86F3-5AC2D5F456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09B76E0-7E71-49C2-93B5-4BCC4D6E570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AC75CDE-E03D-487F-BF42-DC14C2077CD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2E2CB2-6CE4-45EB-9ADD-1AAF92B88CE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E41DA38-4A60-4B39-A826-41ED0C13096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9004E44-974D-4820-ABB5-948B55ECE1D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F018C40-C114-4B4F-9E46-935381FA4C5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6689A01-07A7-4466-B7D3-5D137BBB9D8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19D320E-5FAB-4258-8046-8FF9313E7B1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CF0601F-301D-4885-B200-4E469AF9814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821367A-AC8B-4E27-8EF5-2184D7DC425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2F9F3B0-7143-491B-A153-6F5D4020CE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41F453-8794-441B-ADED-3DFE2C13591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D77FA2F-10C2-4017-9B5C-2279FC95B7E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3666D55-374B-43B8-A5DD-D098F8A8958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E10886-3A98-475F-B1B4-0824DBACEC2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0B49A7-9968-4A2A-85DA-CFE90E9FEC1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76ACE08-0E82-46C6-9B3A-D5BF6A9D60E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40E9653-9BCA-4C44-A5BC-171E1CADD0A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79C055B-C7B8-45E6-B1E4-8CD03B02E43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782B40C3-44AF-4696-BF01-689432F66B9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3DD20798-12C4-462C-86AD-B35EB672E19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BE5CBD88-A713-48C4-80BC-456C85F755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00808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 name="PlaceHolder 3"/>
          <p:cNvSpPr>
            <a:spLocks noGrp="1"/>
          </p:cNvSpPr>
          <p:nvPr>
            <p:ph type="sldNum" idx="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61D0B-0810-4B4A-B4E5-A845BDCDC74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4" name="PlaceHolder 4"/>
          <p:cNvSpPr>
            <a:spLocks noGrp="1"/>
          </p:cNvSpPr>
          <p:nvPr>
            <p:ph type="ftr" idx="2"/>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pic>
        <p:nvPicPr>
          <p:cNvPr id="5" name="Picture 10" descr="SeaDatacloud2017logo_low"/>
          <p:cNvPicPr/>
          <p:nvPr/>
        </p:nvPicPr>
        <p:blipFill>
          <a:blip r:embed="rId3"/>
          <a:stretch/>
        </p:blipFill>
        <p:spPr>
          <a:xfrm>
            <a:off x="611280" y="455760"/>
            <a:ext cx="13683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6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369" name="PlaceHolder 3"/>
          <p:cNvSpPr>
            <a:spLocks noGrp="1"/>
          </p:cNvSpPr>
          <p:nvPr>
            <p:ph type="ftr" idx="1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370" name="PlaceHolder 4"/>
          <p:cNvSpPr>
            <a:spLocks noGrp="1"/>
          </p:cNvSpPr>
          <p:nvPr>
            <p:ph type="sldNum" idx="1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5859F4-9BCA-40E5-9458-0E9D3DFED349}"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08" name="Picture 10" descr="SeaDatacloud2017logo_low"/>
          <p:cNvPicPr/>
          <p:nvPr/>
        </p:nvPicPr>
        <p:blipFill>
          <a:blip r:embed="rId3"/>
          <a:stretch/>
        </p:blipFill>
        <p:spPr>
          <a:xfrm>
            <a:off x="611280" y="455760"/>
            <a:ext cx="1368360" cy="596880"/>
          </a:xfrm>
          <a:prstGeom prst="rect">
            <a:avLst/>
          </a:prstGeom>
          <a:ln w="0">
            <a:noFill/>
          </a:ln>
        </p:spPr>
      </p:pic>
      <p:sp>
        <p:nvSpPr>
          <p:cNvPr id="4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1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11" name="PlaceHolder 3"/>
          <p:cNvSpPr>
            <a:spLocks noGrp="1"/>
          </p:cNvSpPr>
          <p:nvPr>
            <p:ph type="sldNum" idx="1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51AD2-81AD-4D32-A152-B960FAB10534}"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12" name="PlaceHolder 4"/>
          <p:cNvSpPr>
            <a:spLocks noGrp="1"/>
          </p:cNvSpPr>
          <p:nvPr>
            <p:ph type="ftr" idx="2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5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51" name="PlaceHolder 3"/>
          <p:cNvSpPr>
            <a:spLocks noGrp="1"/>
          </p:cNvSpPr>
          <p:nvPr>
            <p:ph type="ftr" idx="2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452" name="PlaceHolder 4"/>
          <p:cNvSpPr>
            <a:spLocks noGrp="1"/>
          </p:cNvSpPr>
          <p:nvPr>
            <p:ph type="sldNum" idx="2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CC827-A276-4858-A4D5-F3009F8224C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9"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90" name="Picture 10" descr="SeaDatacloud2017logo_low"/>
          <p:cNvPicPr/>
          <p:nvPr/>
        </p:nvPicPr>
        <p:blipFill>
          <a:blip r:embed="rId3"/>
          <a:stretch/>
        </p:blipFill>
        <p:spPr>
          <a:xfrm>
            <a:off x="611280" y="455760"/>
            <a:ext cx="1368360" cy="596880"/>
          </a:xfrm>
          <a:prstGeom prst="rect">
            <a:avLst/>
          </a:prstGeom>
          <a:ln w="0">
            <a:noFill/>
          </a:ln>
        </p:spPr>
      </p:pic>
      <p:sp>
        <p:nvSpPr>
          <p:cNvPr id="49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92"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93" name="PlaceHolder 3"/>
          <p:cNvSpPr>
            <a:spLocks noGrp="1"/>
          </p:cNvSpPr>
          <p:nvPr>
            <p:ph type="sldNum" idx="23"/>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D29E93-F7B3-4E01-9152-E6745DF0BC4E}"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94" name="PlaceHolder 4"/>
          <p:cNvSpPr>
            <a:spLocks noGrp="1"/>
          </p:cNvSpPr>
          <p:nvPr>
            <p:ph type="ftr" idx="24"/>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32"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533" name="PlaceHolder 3"/>
          <p:cNvSpPr>
            <a:spLocks noGrp="1"/>
          </p:cNvSpPr>
          <p:nvPr>
            <p:ph type="ftr" idx="25"/>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534" name="PlaceHolder 4"/>
          <p:cNvSpPr>
            <a:spLocks noGrp="1"/>
          </p:cNvSpPr>
          <p:nvPr>
            <p:ph type="sldNum" idx="26"/>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2DBC24-0B94-42F6-B6AD-831ECA2D5BD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572" name="Picture 10" descr="SeaDatacloud2017logo_low"/>
          <p:cNvPicPr/>
          <p:nvPr/>
        </p:nvPicPr>
        <p:blipFill>
          <a:blip r:embed="rId3"/>
          <a:stretch/>
        </p:blipFill>
        <p:spPr>
          <a:xfrm>
            <a:off x="611280" y="455760"/>
            <a:ext cx="1368360" cy="596880"/>
          </a:xfrm>
          <a:prstGeom prst="rect">
            <a:avLst/>
          </a:prstGeom>
          <a:ln w="0">
            <a:noFill/>
          </a:ln>
        </p:spPr>
      </p:pic>
      <p:sp>
        <p:nvSpPr>
          <p:cNvPr id="57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7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575" name="PlaceHolder 3"/>
          <p:cNvSpPr>
            <a:spLocks noGrp="1"/>
          </p:cNvSpPr>
          <p:nvPr>
            <p:ph type="sldNum" idx="2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158E6-E028-4116-A131-708B4F0562A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576" name="PlaceHolder 4"/>
          <p:cNvSpPr>
            <a:spLocks noGrp="1"/>
          </p:cNvSpPr>
          <p:nvPr>
            <p:ph type="ftr" idx="2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1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15" name="PlaceHolder 3"/>
          <p:cNvSpPr>
            <a:spLocks noGrp="1"/>
          </p:cNvSpPr>
          <p:nvPr>
            <p:ph type="ftr" idx="2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16" name="PlaceHolder 4"/>
          <p:cNvSpPr>
            <a:spLocks noGrp="1"/>
          </p:cNvSpPr>
          <p:nvPr>
            <p:ph type="sldNum" idx="3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BBCA1-376B-4E37-80D5-7496A2CCE590}"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654" name="Picture 10" descr="SeaDatacloud2017logo_low"/>
          <p:cNvPicPr/>
          <p:nvPr/>
        </p:nvPicPr>
        <p:blipFill>
          <a:blip r:embed="rId3"/>
          <a:stretch/>
        </p:blipFill>
        <p:spPr>
          <a:xfrm>
            <a:off x="611280" y="455760"/>
            <a:ext cx="1368360" cy="596880"/>
          </a:xfrm>
          <a:prstGeom prst="rect">
            <a:avLst/>
          </a:prstGeom>
          <a:ln w="0">
            <a:noFill/>
          </a:ln>
        </p:spPr>
      </p:pic>
      <p:sp>
        <p:nvSpPr>
          <p:cNvPr id="65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5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657" name="PlaceHolder 3"/>
          <p:cNvSpPr>
            <a:spLocks noGrp="1"/>
          </p:cNvSpPr>
          <p:nvPr>
            <p:ph type="sldNum" idx="3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6DFA7A-BF85-44A5-BF61-68B2AAEAE0E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658" name="PlaceHolder 4"/>
          <p:cNvSpPr>
            <a:spLocks noGrp="1"/>
          </p:cNvSpPr>
          <p:nvPr>
            <p:ph type="ftr" idx="3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9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97" name="PlaceHolder 3"/>
          <p:cNvSpPr>
            <a:spLocks noGrp="1"/>
          </p:cNvSpPr>
          <p:nvPr>
            <p:ph type="ftr" idx="3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98" name="PlaceHolder 4"/>
          <p:cNvSpPr>
            <a:spLocks noGrp="1"/>
          </p:cNvSpPr>
          <p:nvPr>
            <p:ph type="sldNum" idx="3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4DC96-6C75-492C-8B46-245348BDDC4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736" name="Picture 10" descr="SeaDatacloud2017logo_low"/>
          <p:cNvPicPr/>
          <p:nvPr/>
        </p:nvPicPr>
        <p:blipFill>
          <a:blip r:embed="rId3"/>
          <a:stretch/>
        </p:blipFill>
        <p:spPr>
          <a:xfrm>
            <a:off x="611280" y="455760"/>
            <a:ext cx="1368360" cy="596880"/>
          </a:xfrm>
          <a:prstGeom prst="rect">
            <a:avLst/>
          </a:prstGeom>
          <a:ln w="0">
            <a:noFill/>
          </a:ln>
        </p:spPr>
      </p:pic>
      <p:sp>
        <p:nvSpPr>
          <p:cNvPr id="7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3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739" name="PlaceHolder 3"/>
          <p:cNvSpPr>
            <a:spLocks noGrp="1"/>
          </p:cNvSpPr>
          <p:nvPr>
            <p:ph type="sldNum" idx="3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7C1F0-9C92-4260-BBD8-20E93B4E950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740" name="PlaceHolder 4"/>
          <p:cNvSpPr>
            <a:spLocks noGrp="1"/>
          </p:cNvSpPr>
          <p:nvPr>
            <p:ph type="ftr" idx="3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4" name="PlaceHolder 3"/>
          <p:cNvSpPr>
            <a:spLocks noGrp="1"/>
          </p:cNvSpPr>
          <p:nvPr>
            <p:ph type="ftr" idx="3"/>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DE973-34E6-4236-8C7F-767B1A5DCC53}"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7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779" name="PlaceHolder 3"/>
          <p:cNvSpPr>
            <a:spLocks noGrp="1"/>
          </p:cNvSpPr>
          <p:nvPr>
            <p:ph type="ftr" idx="3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780" name="PlaceHolder 4"/>
          <p:cNvSpPr>
            <a:spLocks noGrp="1"/>
          </p:cNvSpPr>
          <p:nvPr>
            <p:ph type="sldNum" idx="3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87DCBD-BF6C-44C4-B2F8-DF3FCF387D4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818" name="Picture 10" descr="SeaDatacloud2017logo_low"/>
          <p:cNvPicPr/>
          <p:nvPr/>
        </p:nvPicPr>
        <p:blipFill>
          <a:blip r:embed="rId3"/>
          <a:stretch/>
        </p:blipFill>
        <p:spPr>
          <a:xfrm>
            <a:off x="611280" y="455760"/>
            <a:ext cx="1368360" cy="596880"/>
          </a:xfrm>
          <a:prstGeom prst="rect">
            <a:avLst/>
          </a:prstGeom>
          <a:ln w="0">
            <a:noFill/>
          </a:ln>
        </p:spPr>
      </p:pic>
      <p:sp>
        <p:nvSpPr>
          <p:cNvPr id="81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2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21" name="PlaceHolder 3"/>
          <p:cNvSpPr>
            <a:spLocks noGrp="1"/>
          </p:cNvSpPr>
          <p:nvPr>
            <p:ph type="sldNum" idx="3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A43665-AEB7-49DC-A3CC-6ECCE3D97353}"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822" name="PlaceHolder 4"/>
          <p:cNvSpPr>
            <a:spLocks noGrp="1"/>
          </p:cNvSpPr>
          <p:nvPr>
            <p:ph type="ftr" idx="4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6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861" name="PlaceHolder 3"/>
          <p:cNvSpPr>
            <a:spLocks noGrp="1"/>
          </p:cNvSpPr>
          <p:nvPr>
            <p:ph type="ftr" idx="4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862" name="PlaceHolder 4"/>
          <p:cNvSpPr>
            <a:spLocks noGrp="1"/>
          </p:cNvSpPr>
          <p:nvPr>
            <p:ph type="sldNum" idx="4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43B38B-545F-4166-BA03-A1E9FCEC590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 Box 7"/>
          <p:cNvSpPr/>
          <p:nvPr/>
        </p:nvSpPr>
        <p:spPr>
          <a:xfrm>
            <a:off x="4684680" y="6021360"/>
            <a:ext cx="3919680" cy="731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8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5" name="PlaceHolder 3"/>
          <p:cNvSpPr>
            <a:spLocks noGrp="1"/>
          </p:cNvSpPr>
          <p:nvPr>
            <p:ph type="ftr" idx="5"/>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2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124" name="PlaceHolder 3"/>
          <p:cNvSpPr>
            <a:spLocks noGrp="1"/>
          </p:cNvSpPr>
          <p:nvPr>
            <p:ph type="ftr" idx="6"/>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162" name="Picture 10" descr="SeaDatacloud2017logo_low"/>
          <p:cNvPicPr/>
          <p:nvPr/>
        </p:nvPicPr>
        <p:blipFill>
          <a:blip r:embed="rId3"/>
          <a:stretch/>
        </p:blipFill>
        <p:spPr>
          <a:xfrm>
            <a:off x="611280" y="455760"/>
            <a:ext cx="1368360" cy="596880"/>
          </a:xfrm>
          <a:prstGeom prst="rect">
            <a:avLst/>
          </a:prstGeom>
          <a:ln w="0">
            <a:noFill/>
          </a:ln>
        </p:spPr>
      </p:pic>
      <p:sp>
        <p:nvSpPr>
          <p:cNvPr id="16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6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165" name="PlaceHolder 3"/>
          <p:cNvSpPr>
            <a:spLocks noGrp="1"/>
          </p:cNvSpPr>
          <p:nvPr>
            <p:ph type="sldNum" idx="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A946D-FC67-4D34-920E-9FED8A695750}"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166" name="PlaceHolder 4"/>
          <p:cNvSpPr>
            <a:spLocks noGrp="1"/>
          </p:cNvSpPr>
          <p:nvPr>
            <p:ph type="ftr" idx="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0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05" name="PlaceHolder 3"/>
          <p:cNvSpPr>
            <a:spLocks noGrp="1"/>
          </p:cNvSpPr>
          <p:nvPr>
            <p:ph type="ftr" idx="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06" name="PlaceHolder 4"/>
          <p:cNvSpPr>
            <a:spLocks noGrp="1"/>
          </p:cNvSpPr>
          <p:nvPr>
            <p:ph type="sldNum" idx="1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D3909E-E777-4F1E-9C88-1B5A831AA50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244" name="Picture 10" descr="SeaDatacloud2017logo_low"/>
          <p:cNvPicPr/>
          <p:nvPr/>
        </p:nvPicPr>
        <p:blipFill>
          <a:blip r:embed="rId3"/>
          <a:stretch/>
        </p:blipFill>
        <p:spPr>
          <a:xfrm>
            <a:off x="611280" y="455760"/>
            <a:ext cx="1368360" cy="596880"/>
          </a:xfrm>
          <a:prstGeom prst="rect">
            <a:avLst/>
          </a:prstGeom>
          <a:ln w="0">
            <a:noFill/>
          </a:ln>
        </p:spPr>
      </p:pic>
      <p:sp>
        <p:nvSpPr>
          <p:cNvPr id="24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4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47" name="PlaceHolder 3"/>
          <p:cNvSpPr>
            <a:spLocks noGrp="1"/>
          </p:cNvSpPr>
          <p:nvPr>
            <p:ph type="sldNum" idx="1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3D2DA6-EEB1-4BDE-AB47-39FCFBD2A5A0}"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248" name="PlaceHolder 4"/>
          <p:cNvSpPr>
            <a:spLocks noGrp="1"/>
          </p:cNvSpPr>
          <p:nvPr>
            <p:ph type="ftr" idx="1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8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87" name="PlaceHolder 3"/>
          <p:cNvSpPr>
            <a:spLocks noGrp="1"/>
          </p:cNvSpPr>
          <p:nvPr>
            <p:ph type="ftr" idx="1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88" name="PlaceHolder 4"/>
          <p:cNvSpPr>
            <a:spLocks noGrp="1"/>
          </p:cNvSpPr>
          <p:nvPr>
            <p:ph type="sldNum" idx="1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FE131-CC0A-423F-94EC-1633F33ECFF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326" name="Picture 10" descr="SeaDatacloud2017logo_low"/>
          <p:cNvPicPr/>
          <p:nvPr/>
        </p:nvPicPr>
        <p:blipFill>
          <a:blip r:embed="rId3"/>
          <a:stretch/>
        </p:blipFill>
        <p:spPr>
          <a:xfrm>
            <a:off x="611280" y="455760"/>
            <a:ext cx="1368360" cy="596880"/>
          </a:xfrm>
          <a:prstGeom prst="rect">
            <a:avLst/>
          </a:prstGeom>
          <a:ln w="0">
            <a:noFill/>
          </a:ln>
        </p:spPr>
      </p:pic>
      <p:sp>
        <p:nvSpPr>
          <p:cNvPr id="32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2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329" name="PlaceHolder 3"/>
          <p:cNvSpPr>
            <a:spLocks noGrp="1"/>
          </p:cNvSpPr>
          <p:nvPr>
            <p:ph type="sldNum" idx="1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C7A5D-8C60-4E8B-88CC-AC617145550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30" name="PlaceHolder 4"/>
          <p:cNvSpPr>
            <a:spLocks noGrp="1"/>
          </p:cNvSpPr>
          <p:nvPr>
            <p:ph type="ftr" idx="1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Rectangle 11"/>
          <p:cNvSpPr/>
          <p:nvPr/>
        </p:nvSpPr>
        <p:spPr>
          <a:xfrm>
            <a:off x="1403280" y="5808600"/>
            <a:ext cx="721692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0" name="PlaceHolder 1"/>
          <p:cNvSpPr>
            <a:spLocks noGrp="1"/>
          </p:cNvSpPr>
          <p:nvPr>
            <p:ph type="title"/>
          </p:nvPr>
        </p:nvSpPr>
        <p:spPr>
          <a:xfrm>
            <a:off x="2244240" y="3295440"/>
            <a:ext cx="477540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51a0"/>
                </a:solidFill>
                <a:latin typeface="Calibri Light"/>
              </a:rPr>
              <a:t>SeaDataNet AISBL</a:t>
            </a:r>
            <a:endParaRPr b="1" i="1" lang="en-US" sz="2400" spc="-1" strike="sngStrike" u="sng">
              <a:solidFill>
                <a:srgbClr val="ffffff"/>
              </a:solidFill>
              <a:uFillTx/>
              <a:latin typeface="Basic Sans"/>
            </a:endParaRPr>
          </a:p>
        </p:txBody>
      </p:sp>
      <p:sp>
        <p:nvSpPr>
          <p:cNvPr id="901" name="PlaceHolder 2"/>
          <p:cNvSpPr>
            <a:spLocks noGrp="1"/>
          </p:cNvSpPr>
          <p:nvPr>
            <p:ph type="subTitle"/>
          </p:nvPr>
        </p:nvSpPr>
        <p:spPr>
          <a:xfrm>
            <a:off x="2268000" y="4667040"/>
            <a:ext cx="4751640" cy="26172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551a0"/>
                </a:solidFill>
                <a:latin typeface="Calibri Light"/>
              </a:rPr>
              <a:t>Serge Scory, Chair</a:t>
            </a:r>
            <a:endParaRPr b="1" i="1" lang="en-US" sz="1700" spc="-1" strike="sngStrike" u="sng">
              <a:solidFill>
                <a:srgbClr val="ffffff"/>
              </a:solidFill>
              <a:uFillTx/>
              <a:latin typeface="Basic Sans"/>
            </a:endParaRPr>
          </a:p>
        </p:txBody>
      </p:sp>
      <p:pic>
        <p:nvPicPr>
          <p:cNvPr id="902" name="Picture 1" descr=""/>
          <p:cNvPicPr/>
          <p:nvPr/>
        </p:nvPicPr>
        <p:blipFill>
          <a:blip r:embed="rId2"/>
          <a:stretch/>
        </p:blipFill>
        <p:spPr>
          <a:xfrm>
            <a:off x="4932360" y="3213000"/>
            <a:ext cx="2651040" cy="12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tatus of the membership</a:t>
            </a:r>
            <a:endParaRPr b="1" i="1" lang="en-US" sz="4400" spc="-1" strike="sngStrike" u="sng">
              <a:solidFill>
                <a:srgbClr val="ffffff"/>
              </a:solidFill>
              <a:uFillTx/>
              <a:latin typeface="Basic Sans"/>
            </a:endParaRPr>
          </a:p>
        </p:txBody>
      </p:sp>
      <p:sp>
        <p:nvSpPr>
          <p:cNvPr id="938" name=""/>
          <p:cNvSpPr txBox="1"/>
          <p:nvPr/>
        </p:nvSpPr>
        <p:spPr>
          <a:xfrm>
            <a:off x="610920" y="1988640"/>
            <a:ext cx="453708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e full membe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ive organizations applied</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38 Potential “direct” members (Status June 2016)</a:t>
            </a:r>
            <a:endParaRPr b="1" i="1" lang="en-US" sz="2400" spc="-1" strike="sngStrike" u="sng">
              <a:solidFill>
                <a:srgbClr val="ffffff"/>
              </a:solidFill>
              <a:uFillTx/>
              <a:latin typeface="Basic Sans"/>
            </a:endParaRPr>
          </a:p>
        </p:txBody>
      </p:sp>
      <p:sp>
        <p:nvSpPr>
          <p:cNvPr id="93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433F-752D-436B-A76A-4F0E601EA564}"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41" name="TextBox 5"/>
          <p:cNvSpPr/>
          <p:nvPr/>
        </p:nvSpPr>
        <p:spPr>
          <a:xfrm>
            <a:off x="5219640" y="1484280"/>
            <a:ext cx="3816360" cy="5269320"/>
          </a:xfrm>
          <a:prstGeom prst="rect">
            <a:avLst/>
          </a:prstGeom>
          <a:solidFill>
            <a:srgbClr val="ffffff"/>
          </a:soli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To: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c/o Serge Scory (Chair)</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oyal Belgian Institute of Natural Sciences</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ue Vautier 29</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1000 Brussels (Belgium)</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i="1" lang="en-US" sz="1000" spc="-1" strike="sngStrike" u="sng">
                <a:solidFill>
                  <a:srgbClr val="ffffff"/>
                </a:solidFill>
                <a:uFillTx/>
                <a:latin typeface="Basic Sans"/>
              </a:rPr>
              <a:t>To the Board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In agreement with Art. 7 of the statutes of SeaDataNet aisbl, stating that the signatories of the "SeaDatanet Exploitation Agreement" will become a full member by explicitely notifying to the association their willingness to become a member; considering further that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signed this agreeement in due time, </a:t>
            </a:r>
            <a:r>
              <a:rPr b="1" i="1" lang="en-US" sz="1000" spc="-1" strike="sngStrike" u="sng">
                <a:solidFill>
                  <a:srgbClr val="ffffff"/>
                </a:solidFill>
                <a:uFillTx/>
                <a:latin typeface="Basic Sans"/>
              </a:rPr>
              <a:t>[your Institution name] </a:t>
            </a:r>
            <a:r>
              <a:rPr b="1" i="1" lang="en-US" sz="1000" spc="-1" strike="sngStrike" u="sng">
                <a:solidFill>
                  <a:srgbClr val="ffffff"/>
                </a:solidFill>
                <a:uFillTx/>
                <a:latin typeface="Basic Sans"/>
              </a:rPr>
              <a:t>herewith notifies SeaDataNet aisbl of its willingness to become a full member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acknowledges that its membership will only become effective once its financial contribution to the functioning of the association ("annual fee", currently equal to 250,-€) will be available on the bank account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Furthermore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mandates</a:t>
            </a:r>
            <a:r>
              <a:rPr b="1" i="1" lang="en-US" sz="1000" spc="-1" strike="sngStrike" u="sng">
                <a:solidFill>
                  <a:srgbClr val="ffffff"/>
                </a:solidFill>
                <a:uFillTx/>
                <a:latin typeface="Basic Sans"/>
              </a:rPr>
              <a:t> Dr/Mrs/M. XXX (+full address)</a:t>
            </a:r>
            <a:r>
              <a:rPr b="1" i="1" lang="en-US" sz="1000" spc="-1" strike="sngStrike" u="sng">
                <a:solidFill>
                  <a:srgbClr val="ffffff"/>
                </a:solidFill>
                <a:uFillTx/>
                <a:latin typeface="Basic Sans"/>
              </a:rPr>
              <a:t> as its representative to the General Assembly of SeaDataNet aisbl and the follow-up of the activities of the association.</a:t>
            </a:r>
            <a:br>
              <a:rPr sz="1000"/>
            </a:b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Signatory name, title; date; stamp</a:t>
            </a:r>
            <a:endParaRPr b="1" i="1" lang="en-US" sz="1000" spc="-1" strike="sngStrike" u="sng">
              <a:solidFill>
                <a:srgbClr val="ffffff"/>
              </a:solidFill>
              <a:uFillTx/>
              <a:latin typeface="Basic Sans"/>
            </a:endParaRPr>
          </a:p>
        </p:txBody>
      </p:sp>
      <p:sp>
        <p:nvSpPr>
          <p:cNvPr id="942" name="TextBox 6"/>
          <p:cNvSpPr/>
          <p:nvPr/>
        </p:nvSpPr>
        <p:spPr>
          <a:xfrm>
            <a:off x="1835280" y="3882960"/>
            <a:ext cx="3241440" cy="1189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ffffff"/>
                </a:solidFill>
                <a:uFillTx/>
                <a:latin typeface="Calibri"/>
              </a:rPr>
              <a:t>We’ll send an email soon to the signatories of the exploitation agreement with a template of an application letter.</a:t>
            </a:r>
            <a:endParaRPr b="1" i="1" lang="en-US" sz="18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4"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elgiu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LG</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Georg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SU-DN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VLI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German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BSH</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ulgar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O_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AW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roat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F</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ce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R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Cypru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C-UC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Denmar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Aarhus_Universit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srae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L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CE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tal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G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Esto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S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N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in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ENE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France</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H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NGV</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2FE9-E754-41D5-BCD6-6B3B3F957FC4}"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8"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atv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HE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IO-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alt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U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ontenegr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B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love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B_MBS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etherland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IO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pai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E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orwa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TM-CSI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PA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wede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MH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GW</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uni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NST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rtuga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HPT</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Turke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ETU</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oma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MR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B874-2ABF-402B-B03B-288B61534859}"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ontact: sdn-aisbl-board@seadatanet.org</a:t>
            </a:r>
            <a:endParaRPr b="1" i="1" lang="en-US" sz="4400" spc="-1" strike="sngStrike" u="sng">
              <a:solidFill>
                <a:srgbClr val="ffffff"/>
              </a:solidFill>
              <a:uFillTx/>
              <a:latin typeface="Basic Sans"/>
            </a:endParaRPr>
          </a:p>
        </p:txBody>
      </p:sp>
      <p:pic>
        <p:nvPicPr>
          <p:cNvPr id="952" name="Content Placeholder 5" descr=""/>
          <p:cNvPicPr/>
          <p:nvPr/>
        </p:nvPicPr>
        <p:blipFill>
          <a:blip r:embed="rId2"/>
          <a:stretch/>
        </p:blipFill>
        <p:spPr>
          <a:xfrm>
            <a:off x="611280" y="2182680"/>
            <a:ext cx="8064360" cy="3932280"/>
          </a:xfrm>
          <a:prstGeom prst="rect">
            <a:avLst/>
          </a:prstGeom>
          <a:ln w="0">
            <a:noFill/>
          </a:ln>
        </p:spPr>
      </p:pic>
      <p:sp>
        <p:nvSpPr>
          <p:cNvPr id="95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59B7-F5F8-47BD-BA2E-8C0B1C8BDF74}"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eaDataNet AISBL is established</a:t>
            </a:r>
            <a:endParaRPr b="1" i="1" lang="en-US" sz="4400" spc="-1" strike="sngStrike" u="sng">
              <a:solidFill>
                <a:srgbClr val="ffffff"/>
              </a:solidFill>
              <a:uFillTx/>
              <a:latin typeface="Basic Sans"/>
            </a:endParaRPr>
          </a:p>
        </p:txBody>
      </p:sp>
      <p:sp>
        <p:nvSpPr>
          <p:cNvPr id="904"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B72A-BD6B-496A-8B3B-71164D3322C7}"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05"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a:t>
            </a:r>
            <a:r>
              <a:rPr b="1" i="1" lang="en-US" sz="2000" spc="-1" strike="sngStrike" u="sng">
                <a:solidFill>
                  <a:srgbClr val="ffffff"/>
                </a:solidFill>
                <a:uFillTx/>
                <a:latin typeface="Calibri"/>
              </a:rPr>
              <a:t>AISBL”: Non-profit international organization under Belgian law</a:t>
            </a:r>
            <a:endParaRPr b="1" i="1" lang="en-US" sz="20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Several steps:</a:t>
            </a:r>
            <a:endParaRPr b="1" i="1" lang="en-US" sz="20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2 February 2019: Adoption of the statutes by the 2 founding members (IFREMER and RBINS) and first General Assembly</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3 April 2019: Signature of the Royal Decree</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09 May 2019: Publication in the Belgian official Gazette</a:t>
            </a:r>
            <a:endParaRPr b="1" i="1" lang="en-US" sz="1600" spc="-1" strike="sngStrike">
              <a:solidFill>
                <a:srgbClr val="ffffff"/>
              </a:solidFill>
              <a:latin typeface="Basic Sans"/>
            </a:endParaRPr>
          </a:p>
        </p:txBody>
      </p:sp>
      <p:pic>
        <p:nvPicPr>
          <p:cNvPr id="907" name="Picture 6" descr=""/>
          <p:cNvPicPr/>
          <p:nvPr/>
        </p:nvPicPr>
        <p:blipFill>
          <a:blip r:embed="rId2"/>
          <a:stretch/>
        </p:blipFill>
        <p:spPr>
          <a:xfrm>
            <a:off x="4284720" y="4149720"/>
            <a:ext cx="4281480" cy="2075040"/>
          </a:xfrm>
          <a:prstGeom prst="rect">
            <a:avLst/>
          </a:prstGeom>
          <a:ln w="0">
            <a:noFill/>
          </a:ln>
        </p:spPr>
      </p:pic>
      <p:pic>
        <p:nvPicPr>
          <p:cNvPr id="908" name="Picture 8" descr=""/>
          <p:cNvPicPr/>
          <p:nvPr/>
        </p:nvPicPr>
        <p:blipFill>
          <a:blip r:embed="rId3"/>
          <a:stretch/>
        </p:blipFill>
        <p:spPr>
          <a:xfrm>
            <a:off x="1476360" y="3933720"/>
            <a:ext cx="1913040" cy="19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0"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ccording to its </a:t>
            </a:r>
            <a:r>
              <a:rPr b="1" i="1" lang="en-US" sz="2400" spc="-1" strike="sngStrike" u="sng">
                <a:solidFill>
                  <a:srgbClr val="ffffff"/>
                </a:solidFill>
                <a:uFillTx/>
                <a:latin typeface="Calibri"/>
              </a:rPr>
              <a:t>statutes</a:t>
            </a:r>
            <a:r>
              <a:rPr b="1" i="1" lang="en-US" sz="2400" spc="-1" strike="sngStrike" u="sng">
                <a:solidFill>
                  <a:srgbClr val="ffffff"/>
                </a:solidFill>
                <a:uFillTx/>
                <a:latin typeface="Calibri"/>
              </a:rPr>
              <a:t> , </a:t>
            </a:r>
            <a:r>
              <a:rPr b="1" i="1" lang="en-US" sz="2400" spc="-1" strike="sngStrike" u="sng">
                <a:solidFill>
                  <a:srgbClr val="ffffff"/>
                </a:solidFill>
                <a:uFillTx/>
                <a:latin typeface="Calibri"/>
              </a:rPr>
              <a:t>the Organization, which does not seek financial gain, aims to work in the collective interest of its members to improve the quality and effectiveness in the management, the processing and the dissemination of oceanographic data at national, regional and global level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SeaDataNet is a light organization aiming mainly at promoting our common endeavours. It isn’t its purpose to take over, as it is now, the operational role of the various SeaDataNet partners</a:t>
            </a:r>
            <a:endParaRPr b="1" i="1" lang="en-US" sz="2400" spc="-1" strike="sngStrike" u="sng">
              <a:solidFill>
                <a:srgbClr val="ffffff"/>
              </a:solidFill>
              <a:uFillTx/>
              <a:latin typeface="Basic Sans"/>
            </a:endParaRPr>
          </a:p>
        </p:txBody>
      </p:sp>
      <p:sp>
        <p:nvSpPr>
          <p:cNvPr id="91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F874-B835-4755-A23E-5E81EBD4A638}"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4"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ore specifically the purpose of the Organization is:</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the SeaDataNet infrastructure, tools and services and the development of underpinning science and technology;</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Foster cooperation and coordination within its Members in the field of data management, processing and dissemination ;</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and coordinate the development of commonly available products and services; and</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Coordinate the contribution of the pan-European oceanographic data management community to the European Union initiatives for a better environmental status of the seas and oceans and for an improved marine knowledge in general.</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sngStrike" u="sng">
              <a:solidFill>
                <a:srgbClr val="ffffff"/>
              </a:solidFill>
              <a:uFillTx/>
              <a:latin typeface="Basic Sans"/>
            </a:endParaRPr>
          </a:p>
        </p:txBody>
      </p:sp>
      <p:sp>
        <p:nvSpPr>
          <p:cNvPr id="91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BEF1-C0B3-4581-87CF-6FBAEBC8A00A}"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First actions</a:t>
            </a:r>
            <a:endParaRPr b="1" i="1" lang="en-US" sz="4400" spc="-1" strike="sngStrike" u="sng">
              <a:solidFill>
                <a:srgbClr val="ffffff"/>
              </a:solidFill>
              <a:uFillTx/>
              <a:latin typeface="Basic Sans"/>
            </a:endParaRPr>
          </a:p>
        </p:txBody>
      </p:sp>
      <p:sp>
        <p:nvSpPr>
          <p:cNvPr id="918"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s of the first General Assembly:</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signation of the Members of the Board</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not to set up a general secretariat</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to set the annual membership fee to 250€.</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doption of the Rules of Procedure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 bank account has been opened and the situation of the AISBL wrt to the VAT has been clarified.</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registered office of SeaDataNet AISBL is located at RBINS (where EuroGOOS AISBL will soon move.)</a:t>
            </a:r>
            <a:endParaRPr b="1" i="1" lang="en-US" sz="2400" spc="-1" strike="sngStrike" u="sng">
              <a:solidFill>
                <a:srgbClr val="ffffff"/>
              </a:solidFill>
              <a:uFillTx/>
              <a:latin typeface="Basic Sans"/>
            </a:endParaRPr>
          </a:p>
        </p:txBody>
      </p:sp>
      <p:sp>
        <p:nvSpPr>
          <p:cNvPr id="91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C5B1-F418-48C1-AB43-52208DC89EE5}"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urrent composition of the Board</a:t>
            </a:r>
            <a:endParaRPr b="1" i="1" lang="en-US" sz="4400" spc="-1" strike="sngStrike" u="sng">
              <a:solidFill>
                <a:srgbClr val="ffffff"/>
              </a:solidFill>
              <a:uFillTx/>
              <a:latin typeface="Basic Sans"/>
            </a:endParaRPr>
          </a:p>
        </p:txBody>
      </p:sp>
      <p:sp>
        <p:nvSpPr>
          <p:cNvPr id="922"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Serge Scory (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Michèle Fichaut (Vice-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lessandra Giorgetti</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thanasia Iona</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Lesley Rickard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Dick Schaap</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y act as individuals (but we made sure that they have strong links with institutions responsible for key-elements of the SeaDataNet infrastructure).</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andates run up to the General Assembly of 2022, re-eligible.</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2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70FE-44AE-4E9C-865F-954B743131D5}"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Why SeaDataNet AISBL?</a:t>
            </a:r>
            <a:endParaRPr b="1" i="1" lang="en-US" sz="4400" spc="-1" strike="sngStrike" u="sng">
              <a:solidFill>
                <a:srgbClr val="ffffff"/>
              </a:solidFill>
              <a:uFillTx/>
              <a:latin typeface="Basic Sans"/>
            </a:endParaRPr>
          </a:p>
        </p:txBody>
      </p:sp>
      <p:sp>
        <p:nvSpPr>
          <p:cNvPr id="92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UE Commission wanted for a long time to be able to talk to “SeaDataNet” through a unique entity, not via Beneficiaries of project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is is also the case for other “éhigh level” bodies (ENVRI-BEERi, ESFRI,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We need to show that we are not only a project-based initiative and that there is a string will to support the sustainability of the infrastructure, its services and the delivery of high quality marine data through this channel.</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stronger the Organization, the stronger the message </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Wingdings"/>
                <a:ea typeface="Wingdings"/>
              </a:rPr>
              <a:t></a:t>
            </a:r>
            <a:r>
              <a:rPr b="1" i="1" lang="en-US" sz="2400" spc="-1" strike="sngStrike" u="sng">
                <a:solidFill>
                  <a:srgbClr val="ffffff"/>
                </a:solidFill>
                <a:uFillTx/>
                <a:latin typeface="Calibri"/>
              </a:rPr>
              <a:t> </a:t>
            </a:r>
            <a:r>
              <a:rPr b="1" i="1" lang="en-US" sz="2400" spc="-1" strike="sngStrike" u="sng">
                <a:solidFill>
                  <a:srgbClr val="ffffff"/>
                </a:solidFill>
                <a:uFillTx/>
                <a:latin typeface="Calibri"/>
              </a:rPr>
              <a:t>become a member!</a:t>
            </a:r>
            <a:endParaRPr b="1" i="1" lang="en-US" sz="2400" spc="-1" strike="sngStrike" u="sng">
              <a:solidFill>
                <a:srgbClr val="ffffff"/>
              </a:solidFill>
              <a:uFillTx/>
              <a:latin typeface="Basic Sans"/>
            </a:endParaRPr>
          </a:p>
        </p:txBody>
      </p:sp>
      <p:sp>
        <p:nvSpPr>
          <p:cNvPr id="927"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B3AC-0674-4283-9685-DB3B5903DA5D}"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8"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will the membership fee used?</a:t>
            </a:r>
            <a:endParaRPr b="1" i="1" lang="en-US" sz="4400" spc="-1" strike="sngStrike" u="sng">
              <a:solidFill>
                <a:srgbClr val="ffffff"/>
              </a:solidFill>
              <a:uFillTx/>
              <a:latin typeface="Basic Sans"/>
            </a:endParaRPr>
          </a:p>
        </p:txBody>
      </p:sp>
      <p:sp>
        <p:nvSpPr>
          <p:cNvPr id="930"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No other income foreseen for the moment</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membership fees will mainly be used to cover</a:t>
            </a:r>
            <a:endParaRPr b="1" i="1" lang="en-US" sz="24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establishment costs (~1500€)</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administrative support for the official accounting</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some operational costs (stamps…)</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promotional expenses (after </a:t>
            </a:r>
            <a:r>
              <a:rPr b="1" i="1" lang="en-US" sz="2400" spc="-1" strike="sngStrike">
                <a:solidFill>
                  <a:srgbClr val="ffffff"/>
                </a:solidFill>
                <a:latin typeface="Calibri"/>
              </a:rPr>
              <a:t>SeaDataCloud</a:t>
            </a:r>
            <a:r>
              <a:rPr b="1" i="1" lang="en-US" sz="2400" spc="-1" strike="sngStrike">
                <a:solidFill>
                  <a:srgbClr val="ffffff"/>
                </a:solidFill>
                <a:latin typeface="Calibri"/>
              </a:rPr>
              <a:t>)</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a:t>
            </a:r>
            <a:endParaRPr b="1" i="1" lang="en-US" sz="2400" spc="-1" strike="sngStrike">
              <a:solidFill>
                <a:srgbClr val="ffffff"/>
              </a:solidFill>
              <a:latin typeface="Basic Sans"/>
            </a:endParaRPr>
          </a:p>
        </p:txBody>
      </p:sp>
      <p:sp>
        <p:nvSpPr>
          <p:cNvPr id="93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BF3F-3A0E-4A6D-9D5C-F292DCA46A02}"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to become a member?</a:t>
            </a:r>
            <a:endParaRPr b="1" i="1" lang="en-US" sz="4400" spc="-1" strike="sngStrike" u="sng">
              <a:solidFill>
                <a:srgbClr val="ffffff"/>
              </a:solidFill>
              <a:uFillTx/>
              <a:latin typeface="Basic Sans"/>
            </a:endParaRPr>
          </a:p>
        </p:txBody>
      </p:sp>
      <p:sp>
        <p:nvSpPr>
          <p:cNvPr id="934"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signed the “SeaDataNet Exploitation Agreement” at the end of the SeaDataNet 2 project will be automatically admitted as a Member upon notification of their written request for affiliation addressed to the Organization (sdn-aisbl-board@seadatanet.org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didn’t sign the “SeaDataNet Exploitation Agreement” must be admitted by the General Meeting.</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ly organizations can become member, no individuals.</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ull membership is granted once the annual membership fee is paid to the organization.</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3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9494-D265-43AF-B2A0-4626BD8FDD3B}"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ele FICHAUT, Ifremer Brest PDG-IMN-IDM-SISME</dc:creator>
  <dc:description/>
  <dc:language>en-US</dc:language>
  <cp:lastModifiedBy/>
  <cp:revision>0</cp:revision>
  <dc:subject/>
  <dc:title>Présentation PowerPoint</dc:title>
</cp:coreProperties>
</file>