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DCF8BED-6876-47F0-84DE-43C82BA239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AA9DAC1-2427-44D6-A619-008A9042FBE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2440B21C-66ED-435E-9F4A-E7F4EB2C867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872C4063-02B1-42BE-ACD7-250578D43FC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EBCC46AE-BBE4-4B63-9D06-D7AE3C3F2E4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2066A415-A4A5-4BF8-A266-CDB2264E761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925D9586-E89E-4EA8-8327-51FA203DE65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ABBDFCA3-25FF-4CB4-B1A7-B4747F56F7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F003BBB8-4F6D-4464-BC40-C6456D59499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3F01B7C2-1C22-4590-96EC-190432E71C5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4C4C548B-2DD6-4AF0-ACA5-DE5701405DC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1E4685-2E11-44BD-91F5-4B903A14C1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59A9557-239F-4C6A-A323-4D6DCFCCA95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5CA99E-7C9C-4866-91A6-907FFD93215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248BDA-7A43-4764-90E8-561313A265D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6EEFCD-4604-46CC-AE41-8F329762127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0FA1AD-9A55-4055-9041-DC8EE51B2BA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677632-D867-4ADB-B44F-4D31D4ABAEF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E019AB-E9CD-4097-9D6D-9BF0FAC7DCE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724D30-F7F7-44D7-AED7-77A13C26A09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8C546D-048E-4E4B-AB8B-4EA1B277345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94E346-D6AC-479D-98CE-7498A297325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0A27B5-F52C-4E8D-A57E-2AFAB480F6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350D68C-1E73-42FE-BD63-0C36EFF3486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0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CF0153-40D9-4B9E-A296-8E1A102D90C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505628CA-158E-4C98-BB88-459933BD4B3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832BF4C1-4653-4EB8-9253-95C5BDE4EF8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FAFF36E1-2AD7-4EAC-8FDE-2BC10F61746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E4B9B8AA-2BF3-4525-89F4-783301851BE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03A5544A-FBC4-4A46-BDAC-8A723DF154B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77F8D0C2-E8DA-48B5-BF50-0B6DF693D57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A24C8E9E-1579-49AE-9FDB-21EA407A824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8FDF919F-8194-4D57-A950-CFC99990894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D5B67441-1C31-480B-A369-8BCF44B478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150E3E1-6EDA-422C-8C9E-A24FA5C40FC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8DDCB011-D1B2-4348-B317-E44500FCE33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DFF6B12B-CD44-4FCD-B8A6-FDF59950E1B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4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0422645E-30F8-4BA2-B1D0-A4F475EC43B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F300537-6FE1-489A-94F2-37DD93576D8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FEC4AF1-2BEF-48AB-94A3-773A4199996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A4906C1-E2B3-4958-868F-BFAD2C29198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5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8FE9EA8-4473-4E04-BDD1-4FF58557291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17228C3-86CD-4C73-8AC3-A4D39579F4B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A3E472C-9762-47BD-AEE1-6BEAA0C80BC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F5C706D-879E-426C-B907-56175105AF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02F2E4-61F7-4542-887C-B36AC320F76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CF452E8-1C2A-4943-8CDB-4E790BF5D73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DA9A44A-E245-43B4-8A91-5CFB5B44B36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7309C5B-E89A-4FB0-ADEA-671DA99C8AE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57CA4C8-188F-419D-B2CD-733B40C56C8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8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B3C609C-BB0A-4955-923E-25C723F8AB8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37A842E2-D93A-43BA-9B61-68B17B7DFB4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F5B4403-A47A-4AEA-9A27-3494D792565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01ADD52-49B6-4461-97FB-6EDC08C6FB9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238E4CF-3DBD-4BAD-B9F2-0835815369B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E95CB06-3189-4E63-8109-5955F83A76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EF68EA-2D93-4C00-8D4F-2A454504258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2C6E361-33F5-40D7-B021-ECCBE615F00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E888D8A-2928-4B88-8A19-60E93C2D2F7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6BBF96F-B53D-4C6F-B81E-4269ACB6818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127A70D-2752-4865-8E8B-AD7C5177548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E24C247-1066-48F8-973E-79AA22D9BFD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82988F2B-3346-4BB2-B6EE-D16DEB89133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3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C5755E81-6276-4E1A-B382-5C1AF8A2295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550AF46-FFC4-47CD-AB8C-2559C2B63B5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4C2E1E9-DDE8-4DAD-ADEF-A3B9F0DEADD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FE3A05C-4CFD-4D11-93DA-35D9FD2BD2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6E2E2E-C3C1-414C-9442-75826C684DD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3847D2E-01AB-419B-BF35-F3065B86DCD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5829970-4459-40AA-B297-0C83BFC153F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9D31AD6-9293-4951-9C09-3DACECD229D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3CA3DC9-B8B0-4C9F-B7E2-C35646731A6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1A72F54-A120-4FBA-B6C1-1F197063694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9E1BA16-9F7F-45E8-9BFB-43A4B53C80E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5E9AE05-DF8C-45C6-88FC-F578EFD0787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C3E20A3-3FD7-4D7B-8C49-C3AAB602FFE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B09501D-A67B-42E7-AED7-9A082D72157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84CC7709-5941-4EC2-9A66-6582275381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02BCB6-57FF-4B8E-B254-E996BDBB061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7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1F737AC1-5DAD-4411-B5A4-29FDFB32A6B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AA276CB9-135B-48A8-A0F5-8698F0BDE7D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A1B344F5-32C8-431C-8F69-EA2032A7153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9B7773A0-19FA-42BD-B147-BFDE7B5D6DF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B79D39C6-9920-4AFE-A9DE-020A8DC8366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3391645D-5E0A-4CAF-930D-838EB42410B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65D1A0F6-584B-45C3-BB5D-D52F8FFBCFD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B67DDF24-660F-41D2-A65D-474773EE2AD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C715B1C3-BCCE-413F-B7D3-2D73BE53D9C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D0B68FCB-E842-48A1-8BFF-A919D7C66A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D48E7BF-9F0A-420D-88F4-E401208FE5F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AA3F3664-1763-469A-B972-44AEF35B438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164426-FBFC-4D6F-9007-C35F59140178}"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1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A51DC8-1563-486A-9144-C90C0D597D1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79526E-1165-4C86-86BA-D9AE07838CB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12F703-8853-438C-BD12-642CB1325016}"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23BC6C-140D-421D-92F6-233A27F8274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1C7C6C-5F31-4875-8636-0EC9DF32022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BB0EF0-DE26-4A5C-AE83-5590463710F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157B44-F1D2-41E5-A94A-484329A3D9D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772334-C745-4A81-B556-1739A2BBC0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72F173-2191-41A2-B0D1-E9B01E7A487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1879CB-D9E9-44E6-A6A0-DAF82686535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FB8FC3E-5F5C-442A-B94A-A0E54F6820A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4B88B4B-3115-4150-B9CA-55A0328CA0A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B94CF5E6-E957-4149-8489-DEAE6D4B0F8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D438A26A-B9CC-407C-9889-BA89983217E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112B75FA-D683-4D98-9C3A-C2E6D373690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8E2DA767-A98F-4CE8-A67E-864A65A8D03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D40697C0-330F-4A1B-B1CF-7A0FBF18D0B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043C2B12-3554-4FF7-9A5C-F91734EE8AD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6B467427-8F89-4512-B599-011AFD9E0A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33237C0-729B-4490-B742-74B0D79EF8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EA52A2-8998-41ED-892D-36CC0032267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6F9A4F03-4350-4DBE-B05F-D74D995A4B4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23DAD091-C450-4409-8BD8-CEC0F2E5941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DAA7794C-121B-43EB-B3F2-A3EFCC20E3D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F0B00043-D1E9-4941-B9A9-F5AC6C3608B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4F925DCC-E021-4E1A-9F47-7FD2B9B0183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65B86C8-1B8F-4D77-B8B8-9BAA8DEF1E0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C0B0E59-C258-4CE2-A87D-9D75758D596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7263FA6-627A-4508-8842-D034209FBDA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0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C4B6DFB-34FF-49E2-98BD-709F0DD33C6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9B29C5E-FF52-407D-9D10-27502E7567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86B8B4-8964-4B2D-8C37-C121890526DB}"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05604E0-724B-4CDE-AE54-3922D64B290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4A3A9AD-53F2-40EB-A65C-5692D065BC8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4DB5376-3B15-4052-8C29-2D51AEE679A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8075F2C-A8E0-4A1F-89DA-4F1F5047DBB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5F58188-2364-4396-946A-C1DAEFF1A1EC}"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9AC99F5-8FD5-47F2-834A-2D610A9B22E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2996285C-894E-4DFB-9554-444F7AA9720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AB07AB3C-5334-4255-8836-3517D2C447D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1C13D315-BCDA-4215-AF87-FC18A898AFD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4A509BEE-98BC-45DC-AC15-E82E3EE8BD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C9E9FB-6E8A-4DDA-964A-94418C4D93CF}"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9B64AF73-44DC-40F0-89F3-FE039E899BF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C703928-FF07-4852-BBCA-7E198074856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E6EF653-3A89-4B74-AA82-87908437F0C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E23F85B5-8BF5-458C-B275-571F6BC7ADF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9BD834C-C0AF-45B7-9E78-8D88958930F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9081C91D-043A-4FC6-8E5A-F2AA4026B6B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4DB7C9D-E724-44BF-8816-B5ADECB29E4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019ED176-E9ED-4DAE-88B7-09A99C6C129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7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3D7035E5-D0EA-46FA-ACA9-B94399AD066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C8ECA363-5D8D-4BC6-93CE-EEA0A94360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FA855CE-CEE8-4963-9BA1-952CA6978C1E}"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2DD360A-EFE1-491C-B7A4-6A5FB2EAA8B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49E8068-93A2-4ADF-8E85-E48F8B09D88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8B32FBA-F48A-4040-98A5-B26F2ADA440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9A6EF1A-8C32-4C18-917A-8963A97B3E8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0850054-F91F-46E9-B2BB-611900AD507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246A1AE-2038-45BF-90A3-46EE2AA7E6C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5E20A4C-8C21-46C7-B9D1-4969A494279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81E1BF7-0292-4297-8A64-2D6FE9EA41B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8E8D777-EDB4-4EEB-8A77-4302AA94150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A1D1D265-C73E-4FFF-8DE2-31DF457B07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E2485B4-6D92-4FD3-8909-BA5DB20372D4}"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1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FE1CF02C-8998-44C9-9685-AFA24D379A6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FDAFA97B-E150-44B0-A539-1D146334344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441797FE-A124-4384-B5E8-292A63A00C5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4E24230F-24CB-459C-AD6F-EB3EF09EB48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2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D6B8A133-A2AA-4BB6-8E62-E79325DE980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53B0EBE2-06F8-4368-94EA-F9B6E1E0826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71092FD9-34CB-4CCD-B198-4A16E761D1B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20946CC4-3F02-46EE-993C-3758DC0078E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30D866FC-106A-4A3A-B246-416AC83C88A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FD793F2C-FA9A-48FB-800C-750C2261D1A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35A6B2F3-0EC4-4012-9F31-63837A17E39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F013A0F2-A893-4CE1-9914-876D799940C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5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D2DB9291-6CCA-43F6-8D49-F7BE35214A7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50FA6FB-25FF-450F-915A-A4B556B5BE97}"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5DBCCB-FFD1-4860-BBE0-5A94405BE69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9C293D7-89C1-43D6-AE71-5DEB86C915F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6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03C7DF7-416E-4569-97D2-F1D2E535AD2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1E2B756-B456-4D69-B8A3-46B2FF242408}"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306F009-87BC-4C79-B0E6-B829876E9319}"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E2CE7A-5E92-4F49-B736-8B1B332132D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0011D8-05EB-4217-9807-BEAD4B54926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C5DDF8-90F9-455E-AC72-F7D45385886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1F66156-2ACA-4C12-86B2-089E87B2DC6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049251F-5853-422A-A5AA-7D4ACC372C1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9139E7A-1084-4617-80BF-BCB2F28FC7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44B5F0C-DF6E-44D2-AC3F-32B76EB09FF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E704C1F-95E0-4D42-8D4C-1D48C1642DC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6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7911D11-BC52-4DF2-9E0A-A7BC29AB72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2C2232E-191E-41BF-9088-93ECB8A25B2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F647F8C-66B6-4844-8EAD-C949C62A5F2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C6A3CAF-5337-4B6A-9995-71C27EF6341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D3C90CF-95AC-4CF0-B1C2-2CC694F919E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3383D1B-A119-4E1B-834F-A20F627B05A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5A4F3A6-9912-44AA-B7C4-4BEEB8A6B81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10D1589-1A49-4E22-B8A0-E73C5C20E88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CFE36F9-BD22-4376-A674-5865C0ABE18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E3D5B8B-5E23-4A61-9162-F74456D23AE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6267D8B-66D3-4C66-A2C2-C9770DE34A2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F8D222F-318A-44ED-B7BB-5FED4718FA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3AE0D97-E393-4CCA-AFD7-EB4745B458E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897E056-45DA-4D56-82D3-0E0975FB05B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B118E82-9BDC-4B67-B765-AD35E86B4BB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B5E5605-F27C-49D3-B6C5-389C7D21ABB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ACF16D9-4E0F-4DBE-B819-191D1C910BB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01DFDEC-F4BE-4C2C-8981-746D8999815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E0E39A9-7666-4450-B482-E4A21218F49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5502204-B695-4BBA-B503-839E18A7FF1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BD2F185-B7E7-4369-AB56-DED70528AA2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2E52EE0-6F31-4B55-8DA3-633FAFC909B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9F9CCB5-FA8A-42F5-AFDA-32803A44D4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E6E9BC-2FA0-4560-A719-913EEF42346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50E7697-4CC1-40A5-B315-C24C5880FAA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D37D956-A6CE-4003-85C4-410DE623F71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0F9952B-EF24-47E8-942D-87D569ED0C6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1D10FE0-A2B2-4085-95DA-E8093575023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4D2CC6C-2E25-48EB-B1D1-A2950E0161E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22FB650-FFC3-46F2-9FE7-2434F54110F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23E81CD-0C14-404D-A588-34DA23902C7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F156CE0-A3DD-476A-B022-070C7E7E2CA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4269FA4-242C-4AF9-9155-39739BE3A06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0678B7-536D-4AA4-8B7A-814ECCE082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62C2CFD-6FC9-4D6A-98EC-DE0078D732A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B3F8F29-8751-431A-BD12-711F641C092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D1000D-4B37-4881-9328-07A27E12B71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ED4D6B4-A865-4F08-9131-62D20B3ECD6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8EF63EB-067E-4F52-85E1-293A4A32E43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450657B-A368-4A47-96D6-6493AE223CD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2C2AA27-039B-4E0B-A273-718DA760BD2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CE38731-AD9D-4DDC-A888-FF4DB638DFD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9F9089B-E485-45AE-82FF-8B9576075AB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E9F1106-7CDD-411E-A29C-DAA03CF0875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2D6A404-DBBA-421D-B8D3-CB39FB6894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C2EA95-27C7-4624-B931-F9B78343D1D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936AD30-325B-48DD-B266-BB4A9AA96B4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0406A0-329E-4CBA-A315-6162453BC55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06D6E7D-571A-4C3F-909B-F3956D8A525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4F34BF0-AE11-4CBF-BC42-1ACE6ED445D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360C0A3-074F-44EA-8FD8-A04F160487F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964D638-E4F6-4139-8E56-31095A50DA0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945CB69-FBB7-4A57-B764-14896F16FC1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6636D308-61DA-414F-8862-AA37E0CBB73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06F2B1D5-3AAC-4F9A-AE0D-ABD1606F181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03CB8609-037C-49C0-8F2B-6983EC0B42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00808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 name="PlaceHolder 3"/>
          <p:cNvSpPr>
            <a:spLocks noGrp="1"/>
          </p:cNvSpPr>
          <p:nvPr>
            <p:ph type="sldNum" idx="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1FE00B-5D2C-4885-AB77-5A4A9E3571F2}"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4" name="PlaceHolder 4"/>
          <p:cNvSpPr>
            <a:spLocks noGrp="1"/>
          </p:cNvSpPr>
          <p:nvPr>
            <p:ph type="ftr" idx="2"/>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pic>
        <p:nvPicPr>
          <p:cNvPr id="5" name="Picture 10" descr="SeaDatacloud2017logo_low"/>
          <p:cNvPicPr/>
          <p:nvPr/>
        </p:nvPicPr>
        <p:blipFill>
          <a:blip r:embed="rId3"/>
          <a:stretch/>
        </p:blipFill>
        <p:spPr>
          <a:xfrm>
            <a:off x="611280" y="455760"/>
            <a:ext cx="13683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6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369" name="PlaceHolder 3"/>
          <p:cNvSpPr>
            <a:spLocks noGrp="1"/>
          </p:cNvSpPr>
          <p:nvPr>
            <p:ph type="ftr" idx="1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370" name="PlaceHolder 4"/>
          <p:cNvSpPr>
            <a:spLocks noGrp="1"/>
          </p:cNvSpPr>
          <p:nvPr>
            <p:ph type="sldNum" idx="1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BD9FD-D8EA-4EC9-B5DC-530558445A1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08" name="Picture 10" descr="SeaDatacloud2017logo_low"/>
          <p:cNvPicPr/>
          <p:nvPr/>
        </p:nvPicPr>
        <p:blipFill>
          <a:blip r:embed="rId3"/>
          <a:stretch/>
        </p:blipFill>
        <p:spPr>
          <a:xfrm>
            <a:off x="611280" y="455760"/>
            <a:ext cx="1368360" cy="596880"/>
          </a:xfrm>
          <a:prstGeom prst="rect">
            <a:avLst/>
          </a:prstGeom>
          <a:ln w="0">
            <a:noFill/>
          </a:ln>
        </p:spPr>
      </p:pic>
      <p:sp>
        <p:nvSpPr>
          <p:cNvPr id="4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1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11" name="PlaceHolder 3"/>
          <p:cNvSpPr>
            <a:spLocks noGrp="1"/>
          </p:cNvSpPr>
          <p:nvPr>
            <p:ph type="sldNum" idx="1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FA1DC-8AF1-482D-A83C-AC457A2260CB}"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12" name="PlaceHolder 4"/>
          <p:cNvSpPr>
            <a:spLocks noGrp="1"/>
          </p:cNvSpPr>
          <p:nvPr>
            <p:ph type="ftr" idx="2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5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51" name="PlaceHolder 3"/>
          <p:cNvSpPr>
            <a:spLocks noGrp="1"/>
          </p:cNvSpPr>
          <p:nvPr>
            <p:ph type="ftr" idx="2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452" name="PlaceHolder 4"/>
          <p:cNvSpPr>
            <a:spLocks noGrp="1"/>
          </p:cNvSpPr>
          <p:nvPr>
            <p:ph type="sldNum" idx="2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5BAEA-99DB-4379-BE0E-81C5262C7D74}"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90" name="Picture 10" descr="SeaDatacloud2017logo_low"/>
          <p:cNvPicPr/>
          <p:nvPr/>
        </p:nvPicPr>
        <p:blipFill>
          <a:blip r:embed="rId3"/>
          <a:stretch/>
        </p:blipFill>
        <p:spPr>
          <a:xfrm>
            <a:off x="611280" y="455760"/>
            <a:ext cx="1368360" cy="596880"/>
          </a:xfrm>
          <a:prstGeom prst="rect">
            <a:avLst/>
          </a:prstGeom>
          <a:ln w="0">
            <a:noFill/>
          </a:ln>
        </p:spPr>
      </p:pic>
      <p:sp>
        <p:nvSpPr>
          <p:cNvPr id="49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92"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93" name="PlaceHolder 3"/>
          <p:cNvSpPr>
            <a:spLocks noGrp="1"/>
          </p:cNvSpPr>
          <p:nvPr>
            <p:ph type="sldNum" idx="23"/>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7DCAC-3B77-42C2-B78E-B6CEB52F18A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94" name="PlaceHolder 4"/>
          <p:cNvSpPr>
            <a:spLocks noGrp="1"/>
          </p:cNvSpPr>
          <p:nvPr>
            <p:ph type="ftr" idx="24"/>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32"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533" name="PlaceHolder 3"/>
          <p:cNvSpPr>
            <a:spLocks noGrp="1"/>
          </p:cNvSpPr>
          <p:nvPr>
            <p:ph type="ftr" idx="25"/>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534" name="PlaceHolder 4"/>
          <p:cNvSpPr>
            <a:spLocks noGrp="1"/>
          </p:cNvSpPr>
          <p:nvPr>
            <p:ph type="sldNum" idx="26"/>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2704F4-2AFF-430A-9CDB-A7455EEDC61E}"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572" name="Picture 10" descr="SeaDatacloud2017logo_low"/>
          <p:cNvPicPr/>
          <p:nvPr/>
        </p:nvPicPr>
        <p:blipFill>
          <a:blip r:embed="rId3"/>
          <a:stretch/>
        </p:blipFill>
        <p:spPr>
          <a:xfrm>
            <a:off x="611280" y="455760"/>
            <a:ext cx="1368360" cy="596880"/>
          </a:xfrm>
          <a:prstGeom prst="rect">
            <a:avLst/>
          </a:prstGeom>
          <a:ln w="0">
            <a:noFill/>
          </a:ln>
        </p:spPr>
      </p:pic>
      <p:sp>
        <p:nvSpPr>
          <p:cNvPr id="57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7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575" name="PlaceHolder 3"/>
          <p:cNvSpPr>
            <a:spLocks noGrp="1"/>
          </p:cNvSpPr>
          <p:nvPr>
            <p:ph type="sldNum" idx="2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741B8-2CCF-49B2-85D3-B57D6E57B828}"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576" name="PlaceHolder 4"/>
          <p:cNvSpPr>
            <a:spLocks noGrp="1"/>
          </p:cNvSpPr>
          <p:nvPr>
            <p:ph type="ftr" idx="2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1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15" name="PlaceHolder 3"/>
          <p:cNvSpPr>
            <a:spLocks noGrp="1"/>
          </p:cNvSpPr>
          <p:nvPr>
            <p:ph type="ftr" idx="2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16" name="PlaceHolder 4"/>
          <p:cNvSpPr>
            <a:spLocks noGrp="1"/>
          </p:cNvSpPr>
          <p:nvPr>
            <p:ph type="sldNum" idx="3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189941-7659-4F43-9C67-784C7D52F98B}"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654" name="Picture 10" descr="SeaDatacloud2017logo_low"/>
          <p:cNvPicPr/>
          <p:nvPr/>
        </p:nvPicPr>
        <p:blipFill>
          <a:blip r:embed="rId3"/>
          <a:stretch/>
        </p:blipFill>
        <p:spPr>
          <a:xfrm>
            <a:off x="611280" y="455760"/>
            <a:ext cx="1368360" cy="596880"/>
          </a:xfrm>
          <a:prstGeom prst="rect">
            <a:avLst/>
          </a:prstGeom>
          <a:ln w="0">
            <a:noFill/>
          </a:ln>
        </p:spPr>
      </p:pic>
      <p:sp>
        <p:nvSpPr>
          <p:cNvPr id="65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5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657" name="PlaceHolder 3"/>
          <p:cNvSpPr>
            <a:spLocks noGrp="1"/>
          </p:cNvSpPr>
          <p:nvPr>
            <p:ph type="sldNum" idx="3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6C9D4-2B7A-4BAF-BF32-95E2B30674B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658" name="PlaceHolder 4"/>
          <p:cNvSpPr>
            <a:spLocks noGrp="1"/>
          </p:cNvSpPr>
          <p:nvPr>
            <p:ph type="ftr" idx="3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9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97" name="PlaceHolder 3"/>
          <p:cNvSpPr>
            <a:spLocks noGrp="1"/>
          </p:cNvSpPr>
          <p:nvPr>
            <p:ph type="ftr" idx="3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98" name="PlaceHolder 4"/>
          <p:cNvSpPr>
            <a:spLocks noGrp="1"/>
          </p:cNvSpPr>
          <p:nvPr>
            <p:ph type="sldNum" idx="3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6E601-CAA9-4254-9000-4381ADFEC20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736" name="Picture 10" descr="SeaDatacloud2017logo_low"/>
          <p:cNvPicPr/>
          <p:nvPr/>
        </p:nvPicPr>
        <p:blipFill>
          <a:blip r:embed="rId3"/>
          <a:stretch/>
        </p:blipFill>
        <p:spPr>
          <a:xfrm>
            <a:off x="611280" y="455760"/>
            <a:ext cx="1368360" cy="596880"/>
          </a:xfrm>
          <a:prstGeom prst="rect">
            <a:avLst/>
          </a:prstGeom>
          <a:ln w="0">
            <a:noFill/>
          </a:ln>
        </p:spPr>
      </p:pic>
      <p:sp>
        <p:nvSpPr>
          <p:cNvPr id="7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3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739" name="PlaceHolder 3"/>
          <p:cNvSpPr>
            <a:spLocks noGrp="1"/>
          </p:cNvSpPr>
          <p:nvPr>
            <p:ph type="sldNum" idx="3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50149-86F8-404C-AE9C-825D1D29CA5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740" name="PlaceHolder 4"/>
          <p:cNvSpPr>
            <a:spLocks noGrp="1"/>
          </p:cNvSpPr>
          <p:nvPr>
            <p:ph type="ftr" idx="3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4" name="PlaceHolder 3"/>
          <p:cNvSpPr>
            <a:spLocks noGrp="1"/>
          </p:cNvSpPr>
          <p:nvPr>
            <p:ph type="ftr" idx="3"/>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F7097-D16D-44DD-98B9-CFBC1B33158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7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779" name="PlaceHolder 3"/>
          <p:cNvSpPr>
            <a:spLocks noGrp="1"/>
          </p:cNvSpPr>
          <p:nvPr>
            <p:ph type="ftr" idx="3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780" name="PlaceHolder 4"/>
          <p:cNvSpPr>
            <a:spLocks noGrp="1"/>
          </p:cNvSpPr>
          <p:nvPr>
            <p:ph type="sldNum" idx="3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B2AF0-6B6B-469C-8B0C-037C47CD48B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818" name="Picture 10" descr="SeaDatacloud2017logo_low"/>
          <p:cNvPicPr/>
          <p:nvPr/>
        </p:nvPicPr>
        <p:blipFill>
          <a:blip r:embed="rId3"/>
          <a:stretch/>
        </p:blipFill>
        <p:spPr>
          <a:xfrm>
            <a:off x="611280" y="455760"/>
            <a:ext cx="1368360" cy="596880"/>
          </a:xfrm>
          <a:prstGeom prst="rect">
            <a:avLst/>
          </a:prstGeom>
          <a:ln w="0">
            <a:noFill/>
          </a:ln>
        </p:spPr>
      </p:pic>
      <p:sp>
        <p:nvSpPr>
          <p:cNvPr id="81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2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21" name="PlaceHolder 3"/>
          <p:cNvSpPr>
            <a:spLocks noGrp="1"/>
          </p:cNvSpPr>
          <p:nvPr>
            <p:ph type="sldNum" idx="3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BE643-F8FD-4F8F-B5C6-F1692D86B274}"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822" name="PlaceHolder 4"/>
          <p:cNvSpPr>
            <a:spLocks noGrp="1"/>
          </p:cNvSpPr>
          <p:nvPr>
            <p:ph type="ftr" idx="4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6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861" name="PlaceHolder 3"/>
          <p:cNvSpPr>
            <a:spLocks noGrp="1"/>
          </p:cNvSpPr>
          <p:nvPr>
            <p:ph type="ftr" idx="4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862" name="PlaceHolder 4"/>
          <p:cNvSpPr>
            <a:spLocks noGrp="1"/>
          </p:cNvSpPr>
          <p:nvPr>
            <p:ph type="sldNum" idx="4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05E94D-3041-4731-9455-45F2FB07DA9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7"/>
          <p:cNvSpPr/>
          <p:nvPr/>
        </p:nvSpPr>
        <p:spPr>
          <a:xfrm>
            <a:off x="4684680" y="6021360"/>
            <a:ext cx="3919680" cy="731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8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5" name="PlaceHolder 3"/>
          <p:cNvSpPr>
            <a:spLocks noGrp="1"/>
          </p:cNvSpPr>
          <p:nvPr>
            <p:ph type="ftr" idx="5"/>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2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124" name="PlaceHolder 3"/>
          <p:cNvSpPr>
            <a:spLocks noGrp="1"/>
          </p:cNvSpPr>
          <p:nvPr>
            <p:ph type="ftr" idx="6"/>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162" name="Picture 10" descr="SeaDatacloud2017logo_low"/>
          <p:cNvPicPr/>
          <p:nvPr/>
        </p:nvPicPr>
        <p:blipFill>
          <a:blip r:embed="rId3"/>
          <a:stretch/>
        </p:blipFill>
        <p:spPr>
          <a:xfrm>
            <a:off x="611280" y="455760"/>
            <a:ext cx="1368360" cy="596880"/>
          </a:xfrm>
          <a:prstGeom prst="rect">
            <a:avLst/>
          </a:prstGeom>
          <a:ln w="0">
            <a:noFill/>
          </a:ln>
        </p:spPr>
      </p:pic>
      <p:sp>
        <p:nvSpPr>
          <p:cNvPr id="16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6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165" name="PlaceHolder 3"/>
          <p:cNvSpPr>
            <a:spLocks noGrp="1"/>
          </p:cNvSpPr>
          <p:nvPr>
            <p:ph type="sldNum" idx="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D9071-A92C-4BB8-8FC1-21661A15EFB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166" name="PlaceHolder 4"/>
          <p:cNvSpPr>
            <a:spLocks noGrp="1"/>
          </p:cNvSpPr>
          <p:nvPr>
            <p:ph type="ftr" idx="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0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05" name="PlaceHolder 3"/>
          <p:cNvSpPr>
            <a:spLocks noGrp="1"/>
          </p:cNvSpPr>
          <p:nvPr>
            <p:ph type="ftr" idx="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06" name="PlaceHolder 4"/>
          <p:cNvSpPr>
            <a:spLocks noGrp="1"/>
          </p:cNvSpPr>
          <p:nvPr>
            <p:ph type="sldNum" idx="1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32054-F996-4989-A3AC-5918A3BEDED4}"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244" name="Picture 10" descr="SeaDatacloud2017logo_low"/>
          <p:cNvPicPr/>
          <p:nvPr/>
        </p:nvPicPr>
        <p:blipFill>
          <a:blip r:embed="rId3"/>
          <a:stretch/>
        </p:blipFill>
        <p:spPr>
          <a:xfrm>
            <a:off x="611280" y="455760"/>
            <a:ext cx="1368360" cy="596880"/>
          </a:xfrm>
          <a:prstGeom prst="rect">
            <a:avLst/>
          </a:prstGeom>
          <a:ln w="0">
            <a:noFill/>
          </a:ln>
        </p:spPr>
      </p:pic>
      <p:sp>
        <p:nvSpPr>
          <p:cNvPr id="24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4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47" name="PlaceHolder 3"/>
          <p:cNvSpPr>
            <a:spLocks noGrp="1"/>
          </p:cNvSpPr>
          <p:nvPr>
            <p:ph type="sldNum" idx="1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CC216-CE46-48A3-AD99-AFDD95774B08}"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248" name="PlaceHolder 4"/>
          <p:cNvSpPr>
            <a:spLocks noGrp="1"/>
          </p:cNvSpPr>
          <p:nvPr>
            <p:ph type="ftr" idx="1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8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87" name="PlaceHolder 3"/>
          <p:cNvSpPr>
            <a:spLocks noGrp="1"/>
          </p:cNvSpPr>
          <p:nvPr>
            <p:ph type="ftr" idx="1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88" name="PlaceHolder 4"/>
          <p:cNvSpPr>
            <a:spLocks noGrp="1"/>
          </p:cNvSpPr>
          <p:nvPr>
            <p:ph type="sldNum" idx="1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0AC83-3E2E-4FCE-A5A8-6D93A8B8F3C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326" name="Picture 10" descr="SeaDatacloud2017logo_low"/>
          <p:cNvPicPr/>
          <p:nvPr/>
        </p:nvPicPr>
        <p:blipFill>
          <a:blip r:embed="rId3"/>
          <a:stretch/>
        </p:blipFill>
        <p:spPr>
          <a:xfrm>
            <a:off x="611280" y="455760"/>
            <a:ext cx="1368360" cy="596880"/>
          </a:xfrm>
          <a:prstGeom prst="rect">
            <a:avLst/>
          </a:prstGeom>
          <a:ln w="0">
            <a:noFill/>
          </a:ln>
        </p:spPr>
      </p:pic>
      <p:sp>
        <p:nvSpPr>
          <p:cNvPr id="32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2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329" name="PlaceHolder 3"/>
          <p:cNvSpPr>
            <a:spLocks noGrp="1"/>
          </p:cNvSpPr>
          <p:nvPr>
            <p:ph type="sldNum" idx="1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60033-4151-4361-A92A-BA03AD548CB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30" name="PlaceHolder 4"/>
          <p:cNvSpPr>
            <a:spLocks noGrp="1"/>
          </p:cNvSpPr>
          <p:nvPr>
            <p:ph type="ftr" idx="1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Rectangle 11"/>
          <p:cNvSpPr/>
          <p:nvPr/>
        </p:nvSpPr>
        <p:spPr>
          <a:xfrm>
            <a:off x="1403280" y="5808600"/>
            <a:ext cx="721692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0" name="PlaceHolder 1"/>
          <p:cNvSpPr>
            <a:spLocks noGrp="1"/>
          </p:cNvSpPr>
          <p:nvPr>
            <p:ph type="title"/>
          </p:nvPr>
        </p:nvSpPr>
        <p:spPr>
          <a:xfrm>
            <a:off x="2244240" y="3295440"/>
            <a:ext cx="477540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51a0"/>
                </a:solidFill>
                <a:latin typeface="Calibri Light"/>
              </a:rPr>
              <a:t>SeaDataNet AISBL</a:t>
            </a:r>
            <a:endParaRPr b="1" i="1" lang="en-US" sz="2400" spc="-1" strike="sngStrike" u="sng">
              <a:solidFill>
                <a:srgbClr val="ffffff"/>
              </a:solidFill>
              <a:uFillTx/>
              <a:latin typeface="Basic Sans"/>
            </a:endParaRPr>
          </a:p>
        </p:txBody>
      </p:sp>
      <p:sp>
        <p:nvSpPr>
          <p:cNvPr id="901" name="PlaceHolder 2"/>
          <p:cNvSpPr>
            <a:spLocks noGrp="1"/>
          </p:cNvSpPr>
          <p:nvPr>
            <p:ph type="subTitle"/>
          </p:nvPr>
        </p:nvSpPr>
        <p:spPr>
          <a:xfrm>
            <a:off x="2268000" y="4667040"/>
            <a:ext cx="4751640" cy="26172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551a0"/>
                </a:solidFill>
                <a:latin typeface="Calibri Light"/>
              </a:rPr>
              <a:t>Serge Scory, Chair</a:t>
            </a:r>
            <a:endParaRPr b="1" i="1" lang="en-US" sz="1700" spc="-1" strike="sngStrike" u="sng">
              <a:solidFill>
                <a:srgbClr val="ffffff"/>
              </a:solidFill>
              <a:uFillTx/>
              <a:latin typeface="Basic Sans"/>
            </a:endParaRPr>
          </a:p>
        </p:txBody>
      </p:sp>
      <p:pic>
        <p:nvPicPr>
          <p:cNvPr id="902" name="Picture 1" descr=""/>
          <p:cNvPicPr/>
          <p:nvPr/>
        </p:nvPicPr>
        <p:blipFill>
          <a:blip r:embed="rId2"/>
          <a:stretch/>
        </p:blipFill>
        <p:spPr>
          <a:xfrm>
            <a:off x="4932360" y="3213000"/>
            <a:ext cx="2651040" cy="12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tatus of the membership</a:t>
            </a:r>
            <a:endParaRPr b="1" i="1" lang="en-US" sz="4400" spc="-1" strike="sngStrike" u="sng">
              <a:solidFill>
                <a:srgbClr val="ffffff"/>
              </a:solidFill>
              <a:uFillTx/>
              <a:latin typeface="Basic Sans"/>
            </a:endParaRPr>
          </a:p>
        </p:txBody>
      </p:sp>
      <p:sp>
        <p:nvSpPr>
          <p:cNvPr id="938" name=""/>
          <p:cNvSpPr txBox="1"/>
          <p:nvPr/>
        </p:nvSpPr>
        <p:spPr>
          <a:xfrm>
            <a:off x="610920" y="1988640"/>
            <a:ext cx="453708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e full membe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ive organizations applied</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38 Potential “direct” members (Status June 2016)</a:t>
            </a:r>
            <a:endParaRPr b="1" i="1" lang="en-US" sz="2400" spc="-1" strike="sngStrike" u="sng">
              <a:solidFill>
                <a:srgbClr val="ffffff"/>
              </a:solidFill>
              <a:uFillTx/>
              <a:latin typeface="Basic Sans"/>
            </a:endParaRPr>
          </a:p>
        </p:txBody>
      </p:sp>
      <p:sp>
        <p:nvSpPr>
          <p:cNvPr id="93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5BE2-3B8D-4684-942F-09E983D02753}"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41" name="TextBox 5"/>
          <p:cNvSpPr/>
          <p:nvPr/>
        </p:nvSpPr>
        <p:spPr>
          <a:xfrm>
            <a:off x="5219640" y="1484280"/>
            <a:ext cx="3816360" cy="52693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To: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c/o Serge Scory (Chair)</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oyal Belgian Institute of Natural Sciences</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ue Vautier 29</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1000 Brussels (Belgium)</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i="1" lang="en-US" sz="1000" spc="-1" strike="sngStrike" u="sng">
                <a:solidFill>
                  <a:srgbClr val="ffffff"/>
                </a:solidFill>
                <a:uFillTx/>
                <a:latin typeface="Basic Sans"/>
              </a:rPr>
              <a:t>To the Board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In agreement with Art. 7 of the statutes of SeaDataNet aisbl, stating that the signatories of the "SeaDatanet Exploitation Agreement" will become a full member by explicitely notifying to the association their willingness to become a member; considering further that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signed this agreeement in due time, </a:t>
            </a:r>
            <a:r>
              <a:rPr b="1" i="1" lang="en-US" sz="1000" spc="-1" strike="sngStrike" u="sng">
                <a:solidFill>
                  <a:srgbClr val="ffffff"/>
                </a:solidFill>
                <a:uFillTx/>
                <a:latin typeface="Basic Sans"/>
              </a:rPr>
              <a:t>[your Institution name] </a:t>
            </a:r>
            <a:r>
              <a:rPr b="1" i="1" lang="en-US" sz="1000" spc="-1" strike="sngStrike" u="sng">
                <a:solidFill>
                  <a:srgbClr val="ffffff"/>
                </a:solidFill>
                <a:uFillTx/>
                <a:latin typeface="Basic Sans"/>
              </a:rPr>
              <a:t>herewith notifies SeaDataNet aisbl of its willingness to become a full member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acknowledges that its membership will only become effective once its financial contribution to the functioning of the association ("annual fee", currently equal to 250,-€) will be available on the bank account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Furthermore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mandates</a:t>
            </a:r>
            <a:r>
              <a:rPr b="1" i="1" lang="en-US" sz="1000" spc="-1" strike="sngStrike" u="sng">
                <a:solidFill>
                  <a:srgbClr val="ffffff"/>
                </a:solidFill>
                <a:uFillTx/>
                <a:latin typeface="Basic Sans"/>
              </a:rPr>
              <a:t> Dr/Mrs/M. XXX (+full address)</a:t>
            </a:r>
            <a:r>
              <a:rPr b="1" i="1" lang="en-US" sz="1000" spc="-1" strike="sngStrike" u="sng">
                <a:solidFill>
                  <a:srgbClr val="ffffff"/>
                </a:solidFill>
                <a:uFillTx/>
                <a:latin typeface="Basic Sans"/>
              </a:rPr>
              <a:t> as its representative to the General Assembly of SeaDataNet aisbl and the follow-up of the activities of the association.</a:t>
            </a:r>
            <a:br>
              <a:rPr sz="1000"/>
            </a:b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Signatory name, title; date; stamp</a:t>
            </a:r>
            <a:endParaRPr b="1" i="1" lang="en-US" sz="1000" spc="-1" strike="sngStrike" u="sng">
              <a:solidFill>
                <a:srgbClr val="ffffff"/>
              </a:solidFill>
              <a:uFillTx/>
              <a:latin typeface="Basic Sans"/>
            </a:endParaRPr>
          </a:p>
        </p:txBody>
      </p:sp>
      <p:sp>
        <p:nvSpPr>
          <p:cNvPr id="942" name="TextBox 6"/>
          <p:cNvSpPr/>
          <p:nvPr/>
        </p:nvSpPr>
        <p:spPr>
          <a:xfrm>
            <a:off x="1835280" y="3882960"/>
            <a:ext cx="3241440" cy="1189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ffffff"/>
                </a:solidFill>
                <a:uFillTx/>
                <a:latin typeface="Calibri"/>
              </a:rPr>
              <a:t>We’ll send an email soon to the signatories of the exploitation agreement with a template of an application letter.</a:t>
            </a:r>
            <a:endParaRPr b="1" i="1" lang="en-US" sz="18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4"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elgiu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LG</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Georg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SU-DN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VLI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German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BSH</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ulgar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O_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AW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roat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F</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ce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R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Cypru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C-UC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Denmar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Aarhus_Universit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srae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L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CE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tal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G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Esto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S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N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in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ENE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France</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H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NGV</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37E9-37B7-4B0A-A249-788230E4342E}"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8"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atv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HE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IO-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alt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U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ontenegr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B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love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B_MBS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etherland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IO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pai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E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orwa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TM-CSI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PA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wede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MH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GW</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uni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NST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rtuga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HPT</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Turke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ETU</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oma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MR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E342-73A9-4869-A514-CB768860A89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ontact: sdn-aisbl-board@seadatanet.org</a:t>
            </a:r>
            <a:endParaRPr b="1" i="1" lang="en-US" sz="4400" spc="-1" strike="sngStrike" u="sng">
              <a:solidFill>
                <a:srgbClr val="ffffff"/>
              </a:solidFill>
              <a:uFillTx/>
              <a:latin typeface="Basic Sans"/>
            </a:endParaRPr>
          </a:p>
        </p:txBody>
      </p:sp>
      <p:pic>
        <p:nvPicPr>
          <p:cNvPr id="952" name="Content Placeholder 5" descr=""/>
          <p:cNvPicPr/>
          <p:nvPr/>
        </p:nvPicPr>
        <p:blipFill>
          <a:blip r:embed="rId2"/>
          <a:stretch/>
        </p:blipFill>
        <p:spPr>
          <a:xfrm>
            <a:off x="611280" y="2182680"/>
            <a:ext cx="8064360" cy="3932280"/>
          </a:xfrm>
          <a:prstGeom prst="rect">
            <a:avLst/>
          </a:prstGeom>
          <a:ln w="0">
            <a:noFill/>
          </a:ln>
        </p:spPr>
      </p:pic>
      <p:sp>
        <p:nvSpPr>
          <p:cNvPr id="95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D91C0-077B-4020-B345-6592294B8183}"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eaDataNet AISBL is established</a:t>
            </a:r>
            <a:endParaRPr b="1" i="1" lang="en-US" sz="4400" spc="-1" strike="sngStrike" u="sng">
              <a:solidFill>
                <a:srgbClr val="ffffff"/>
              </a:solidFill>
              <a:uFillTx/>
              <a:latin typeface="Basic Sans"/>
            </a:endParaRPr>
          </a:p>
        </p:txBody>
      </p:sp>
      <p:sp>
        <p:nvSpPr>
          <p:cNvPr id="904"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A427-871A-4DDB-9D1C-BB2CAAA2028F}"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05"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a:t>
            </a:r>
            <a:r>
              <a:rPr b="1" i="1" lang="en-US" sz="2000" spc="-1" strike="sngStrike" u="sng">
                <a:solidFill>
                  <a:srgbClr val="ffffff"/>
                </a:solidFill>
                <a:uFillTx/>
                <a:latin typeface="Calibri"/>
              </a:rPr>
              <a:t>AISBL”: Non-profit international organization under Belgian law</a:t>
            </a:r>
            <a:endParaRPr b="1" i="1" lang="en-US" sz="20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Several steps:</a:t>
            </a:r>
            <a:endParaRPr b="1" i="1" lang="en-US" sz="20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2 February 2019: Adoption of the statutes by the 2 founding members (IFREMER and RBINS) and first General Assembly</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3 April 2019: Signature of the Royal Decree</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09 May 2019: Publication in the Belgian official Gazette</a:t>
            </a:r>
            <a:endParaRPr b="1" i="1" lang="en-US" sz="1600" spc="-1" strike="sngStrike">
              <a:solidFill>
                <a:srgbClr val="ffffff"/>
              </a:solidFill>
              <a:latin typeface="Basic Sans"/>
            </a:endParaRPr>
          </a:p>
        </p:txBody>
      </p:sp>
      <p:pic>
        <p:nvPicPr>
          <p:cNvPr id="907" name="Picture 6" descr=""/>
          <p:cNvPicPr/>
          <p:nvPr/>
        </p:nvPicPr>
        <p:blipFill>
          <a:blip r:embed="rId2"/>
          <a:stretch/>
        </p:blipFill>
        <p:spPr>
          <a:xfrm>
            <a:off x="4284720" y="4149720"/>
            <a:ext cx="4281480" cy="2075040"/>
          </a:xfrm>
          <a:prstGeom prst="rect">
            <a:avLst/>
          </a:prstGeom>
          <a:ln w="0">
            <a:noFill/>
          </a:ln>
        </p:spPr>
      </p:pic>
      <p:pic>
        <p:nvPicPr>
          <p:cNvPr id="908" name="Picture 8" descr=""/>
          <p:cNvPicPr/>
          <p:nvPr/>
        </p:nvPicPr>
        <p:blipFill>
          <a:blip r:embed="rId3"/>
          <a:stretch/>
        </p:blipFill>
        <p:spPr>
          <a:xfrm>
            <a:off x="1476360" y="3933720"/>
            <a:ext cx="1913040" cy="19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0"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ccording to its </a:t>
            </a:r>
            <a:r>
              <a:rPr b="1" i="1" lang="en-US" sz="2400" spc="-1" strike="sngStrike" u="sng">
                <a:solidFill>
                  <a:srgbClr val="ffffff"/>
                </a:solidFill>
                <a:uFillTx/>
                <a:latin typeface="Calibri"/>
              </a:rPr>
              <a:t>statutes</a:t>
            </a:r>
            <a:r>
              <a:rPr b="1" i="1" lang="en-US" sz="2400" spc="-1" strike="sngStrike" u="sng">
                <a:solidFill>
                  <a:srgbClr val="ffffff"/>
                </a:solidFill>
                <a:uFillTx/>
                <a:latin typeface="Calibri"/>
              </a:rPr>
              <a:t> , </a:t>
            </a:r>
            <a:r>
              <a:rPr b="1" i="1" lang="en-US" sz="2400" spc="-1" strike="sngStrike" u="sng">
                <a:solidFill>
                  <a:srgbClr val="ffffff"/>
                </a:solidFill>
                <a:uFillTx/>
                <a:latin typeface="Calibri"/>
              </a:rPr>
              <a:t>the Organization, which does not seek financial gain, aims to work in the collective interest of its members to improve the quality and effectiveness in the management, the processing and the dissemination of oceanographic data at national, regional and global level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SeaDataNet is a light organization aiming mainly at promoting our common endeavours. It isn’t its purpose to take over, as it is now, the operational role of the various SeaDataNet partners</a:t>
            </a:r>
            <a:endParaRPr b="1" i="1" lang="en-US" sz="2400" spc="-1" strike="sngStrike" u="sng">
              <a:solidFill>
                <a:srgbClr val="ffffff"/>
              </a:solidFill>
              <a:uFillTx/>
              <a:latin typeface="Basic Sans"/>
            </a:endParaRPr>
          </a:p>
        </p:txBody>
      </p:sp>
      <p:sp>
        <p:nvSpPr>
          <p:cNvPr id="91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6821-6DA9-4F8E-AE20-5E1CA7FB605B}"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4"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ore specifically the purpose of the Organization is:</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the SeaDataNet infrastructure, tools and services and the development of underpinning science and technology;</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Foster cooperation and coordination within its Members in the field of data management, processing and dissemination ;</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and coordinate the development of commonly available products and services; and</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Coordinate the contribution of the pan-European oceanographic data management community to the European Union initiatives for a better environmental status of the seas and oceans and for an improved marine knowledge in general.</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sngStrike" u="sng">
              <a:solidFill>
                <a:srgbClr val="ffffff"/>
              </a:solidFill>
              <a:uFillTx/>
              <a:latin typeface="Basic Sans"/>
            </a:endParaRPr>
          </a:p>
        </p:txBody>
      </p:sp>
      <p:sp>
        <p:nvSpPr>
          <p:cNvPr id="91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4660-5CC2-4821-A0A9-7E474A621878}"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First actions</a:t>
            </a:r>
            <a:endParaRPr b="1" i="1" lang="en-US" sz="4400" spc="-1" strike="sngStrike" u="sng">
              <a:solidFill>
                <a:srgbClr val="ffffff"/>
              </a:solidFill>
              <a:uFillTx/>
              <a:latin typeface="Basic Sans"/>
            </a:endParaRPr>
          </a:p>
        </p:txBody>
      </p:sp>
      <p:sp>
        <p:nvSpPr>
          <p:cNvPr id="918"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s of the first General Assembly:</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signation of the Members of the Board</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not to set up a general secretariat</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to set the annual membership fee to 250€.</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doption of the Rules of Procedure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 bank account has been opened and the situation of the AISBL wrt to the VAT has been clarified.</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registered office of SeaDataNet AISBL is located at RBINS (where EuroGOOS AISBL will soon move.)</a:t>
            </a:r>
            <a:endParaRPr b="1" i="1" lang="en-US" sz="2400" spc="-1" strike="sngStrike" u="sng">
              <a:solidFill>
                <a:srgbClr val="ffffff"/>
              </a:solidFill>
              <a:uFillTx/>
              <a:latin typeface="Basic Sans"/>
            </a:endParaRPr>
          </a:p>
        </p:txBody>
      </p:sp>
      <p:sp>
        <p:nvSpPr>
          <p:cNvPr id="91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A117-1EE1-4E3A-B3EC-23FE94E89300}"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urrent composition of the Board</a:t>
            </a:r>
            <a:endParaRPr b="1" i="1" lang="en-US" sz="4400" spc="-1" strike="sngStrike" u="sng">
              <a:solidFill>
                <a:srgbClr val="ffffff"/>
              </a:solidFill>
              <a:uFillTx/>
              <a:latin typeface="Basic Sans"/>
            </a:endParaRPr>
          </a:p>
        </p:txBody>
      </p:sp>
      <p:sp>
        <p:nvSpPr>
          <p:cNvPr id="922"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Serge Scory (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Michèle Fichaut (Vice-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lessandra Giorgetti</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thanasia Iona</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Lesley Rickard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Dick Schaap</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y act as individuals (but we made sure that they have strong links with institutions responsible for key-elements of the SeaDataNet infrastructure).</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andates run up to the General Assembly of 2022, re-eligible.</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2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FF16-BBA3-4E34-93DA-EDBDF664CC46}"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Why SeaDataNet AISBL?</a:t>
            </a:r>
            <a:endParaRPr b="1" i="1" lang="en-US" sz="4400" spc="-1" strike="sngStrike" u="sng">
              <a:solidFill>
                <a:srgbClr val="ffffff"/>
              </a:solidFill>
              <a:uFillTx/>
              <a:latin typeface="Basic Sans"/>
            </a:endParaRPr>
          </a:p>
        </p:txBody>
      </p:sp>
      <p:sp>
        <p:nvSpPr>
          <p:cNvPr id="92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UE Commission wanted for a long time to be able to talk to “SeaDataNet” through a unique entity, not via Beneficiaries of project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is is also the case for other “éhigh level” bodies (ENVRI-BEERi, ESFRI,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We need to show that we are not only a project-based initiative and that there is a string will to support the sustainability of the infrastructure, its services and the delivery of high quality marine data through this channel.</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stronger the Organization, the stronger the message </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Wingdings"/>
                <a:ea typeface="Wingdings"/>
              </a:rPr>
              <a:t></a:t>
            </a:r>
            <a:r>
              <a:rPr b="1" i="1" lang="en-US" sz="2400" spc="-1" strike="sngStrike" u="sng">
                <a:solidFill>
                  <a:srgbClr val="ffffff"/>
                </a:solidFill>
                <a:uFillTx/>
                <a:latin typeface="Calibri"/>
              </a:rPr>
              <a:t> </a:t>
            </a:r>
            <a:r>
              <a:rPr b="1" i="1" lang="en-US" sz="2400" spc="-1" strike="sngStrike" u="sng">
                <a:solidFill>
                  <a:srgbClr val="ffffff"/>
                </a:solidFill>
                <a:uFillTx/>
                <a:latin typeface="Calibri"/>
              </a:rPr>
              <a:t>become a member!</a:t>
            </a:r>
            <a:endParaRPr b="1" i="1" lang="en-US" sz="2400" spc="-1" strike="sngStrike" u="sng">
              <a:solidFill>
                <a:srgbClr val="ffffff"/>
              </a:solidFill>
              <a:uFillTx/>
              <a:latin typeface="Basic Sans"/>
            </a:endParaRPr>
          </a:p>
        </p:txBody>
      </p:sp>
      <p:sp>
        <p:nvSpPr>
          <p:cNvPr id="927"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3949-0611-46CC-803F-EE71EFAE790E}"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8"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will the membership fee used?</a:t>
            </a:r>
            <a:endParaRPr b="1" i="1" lang="en-US" sz="4400" spc="-1" strike="sngStrike" u="sng">
              <a:solidFill>
                <a:srgbClr val="ffffff"/>
              </a:solidFill>
              <a:uFillTx/>
              <a:latin typeface="Basic Sans"/>
            </a:endParaRPr>
          </a:p>
        </p:txBody>
      </p:sp>
      <p:sp>
        <p:nvSpPr>
          <p:cNvPr id="930"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No other income foreseen for the moment</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membership fees will mainly be used to cover</a:t>
            </a:r>
            <a:endParaRPr b="1" i="1" lang="en-US" sz="24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establishment costs (~1500€)</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administrative support for the official accounting</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some operational costs (stamps…)</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promotional expenses (after </a:t>
            </a:r>
            <a:r>
              <a:rPr b="1" i="1" lang="en-US" sz="2400" spc="-1" strike="sngStrike">
                <a:solidFill>
                  <a:srgbClr val="ffffff"/>
                </a:solidFill>
                <a:latin typeface="Calibri"/>
              </a:rPr>
              <a:t>SeaDataCloud</a:t>
            </a:r>
            <a:r>
              <a:rPr b="1" i="1" lang="en-US" sz="2400" spc="-1" strike="sngStrike">
                <a:solidFill>
                  <a:srgbClr val="ffffff"/>
                </a:solidFill>
                <a:latin typeface="Calibri"/>
              </a:rPr>
              <a:t>)</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a:t>
            </a:r>
            <a:endParaRPr b="1" i="1" lang="en-US" sz="2400" spc="-1" strike="sngStrike">
              <a:solidFill>
                <a:srgbClr val="ffffff"/>
              </a:solidFill>
              <a:latin typeface="Basic Sans"/>
            </a:endParaRPr>
          </a:p>
        </p:txBody>
      </p:sp>
      <p:sp>
        <p:nvSpPr>
          <p:cNvPr id="93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CF4D-A24E-4C8A-A927-E3FB9024301D}"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to become a member?</a:t>
            </a:r>
            <a:endParaRPr b="1" i="1" lang="en-US" sz="4400" spc="-1" strike="sngStrike" u="sng">
              <a:solidFill>
                <a:srgbClr val="ffffff"/>
              </a:solidFill>
              <a:uFillTx/>
              <a:latin typeface="Basic Sans"/>
            </a:endParaRPr>
          </a:p>
        </p:txBody>
      </p:sp>
      <p:sp>
        <p:nvSpPr>
          <p:cNvPr id="934"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signed the “SeaDataNet Exploitation Agreement” at the end of the SeaDataNet 2 project will be automatically admitted as a Member upon notification of their written request for affiliation addressed to the Organization (sdn-aisbl-board@seadatanet.org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didn’t sign the “SeaDataNet Exploitation Agreement” must be admitted by the General Meeting.</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ly organizations can become member, no individuals.</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ull membership is granted once the annual membership fee is paid to the organization.</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3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D4B1E-E51D-4865-8AE0-E515444241CB}"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ele FICHAUT, Ifremer Brest PDG-IMN-IDM-SISME</dc:creator>
  <dc:description/>
  <dc:language>en-US</dc:language>
  <cp:lastModifiedBy/>
  <cp:revision>0</cp:revision>
  <dc:subject/>
  <dc:title>Présentation PowerPoint</dc:title>
</cp:coreProperties>
</file>